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5CD-C542-40E3-8297-FD65F47D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6E7-4A62-4E25-895B-09A9637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435-9E65-47E8-87C4-CD1F92F7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D47-E4FD-40B6-ACCA-DD43FF0D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CC9-59E5-431D-A544-EC644D3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69B-DCB7-416A-B489-719B0A2C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F3F-D962-44BF-B08F-F416134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677-532C-4614-AF62-6E31FEF9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ECC-82E2-4BAA-B1A4-6D77974C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E16-1516-4E98-BA77-3CE9E344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8BF-4107-4077-85B5-B18A5949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F42-CAB7-491A-87F1-A5DB1B24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4433-E208-43A8-88C6-90BDD0AFA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nn starts her long trip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is dar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57400"/>
            <a:ext cx="2362320" cy="396252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962520"/>
              <a:gd name="textAreaBottom" fmla="*/ 3847320 h 3962520"/>
            </a:gdLst>
            <a:ahLst/>
            <a:rect l="textAreaLeft" t="textAreaTop" r="textAreaRight" b="textAreaBottom"/>
            <a:pathLst>
              <a:path w="21600" h="36229">
                <a:moveTo>
                  <a:pt x="3600" y="0"/>
                </a:moveTo>
                <a:arcTo wR="3600" hR="3600" stAng="16200000" swAng="-5400000"/>
                <a:lnTo>
                  <a:pt x="0" y="32629"/>
                </a:lnTo>
                <a:arcTo wR="3600" hR="3600" stAng="10800000" swAng="-5400000"/>
                <a:lnTo>
                  <a:pt x="18000" y="3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057400"/>
            <a:ext cx="2362320" cy="38862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86200"/>
              <a:gd name="textAreaBottom" fmla="*/ 3771000 h 3886200"/>
            </a:gdLst>
            <a:ahLst/>
            <a:rect l="textAreaLeft" t="textAreaTop" r="textAreaRight" b="textAreaBottom"/>
            <a:pathLst>
              <a:path w="21600" h="35532">
                <a:moveTo>
                  <a:pt x="3600" y="0"/>
                </a:moveTo>
                <a:arcTo wR="3600" hR="3600" stAng="16200000" swAng="-5400000"/>
                <a:lnTo>
                  <a:pt x="0" y="31932"/>
                </a:lnTo>
                <a:arcTo wR="3600" hR="3600" stAng="10800000" swAng="-5400000"/>
                <a:lnTo>
                  <a:pt x="18000" y="355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05740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Hare and the Tortois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057480"/>
            <a:ext cx="6629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1714680"/>
            <a:ext cx="2951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486400" cy="4025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3526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elebrate Christmas in Dece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762120"/>
          <a:ext cx="8589960" cy="5715000"/>
        </p:xfrm>
        <a:graphic>
          <a:graphicData uri="http://schemas.openxmlformats.org/drawingml/2006/table">
            <a:tbl>
              <a:tblPr/>
              <a:tblGrid>
                <a:gridCol w="1227240"/>
                <a:gridCol w="1225440"/>
                <a:gridCol w="1227240"/>
                <a:gridCol w="1226880"/>
                <a:gridCol w="1227240"/>
                <a:gridCol w="1227240"/>
                <a:gridCol w="12286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ristmas 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rist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magine that you will look for a wild animal.  What is it?  Where will you loo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ill look for a 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ill look in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sentences with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ar /ar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r-controlled vowel /ar/ 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219320"/>
            <a:ext cx="38098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r/ sound at the beginning, put your thumb up say /ar/.  When I say a word that does not have /ar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middle and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08T04:24:52Z</dcterms:modified>
  <cp:revision>99</cp:revision>
  <dc:subject/>
  <dc:title>Slide 1</dc:title>
</cp:coreProperties>
</file>