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C7DD-EFD7-43E8-85D3-FEA4C44F1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0E50-9E06-4C6A-AC1B-11522CB7A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9369-272C-453F-9FE8-01D4A5376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E208-789C-49F4-823F-1E0C75B53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32D6-0C20-471E-86DF-44CDC2C6C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1ABA-D648-4E89-98DE-97371FF5F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3A0D-4416-4643-A989-5E32404DF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0BC3-2795-4B83-AF3F-536C16466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2453-7E97-4790-9E3B-CA2CD9CA0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39C9-2CD3-449A-A444-0384BE600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ED50-9849-4509-84FD-6FDE4BA9B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B668-18B9-4167-841E-D4032FAF3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9860-5911-47A2-8309-DEDB82B36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F53E-172B-4965-BC5F-DB473D5D6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58B6-7494-4A2E-AF46-8484D8A47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5632-D2EE-474D-A492-4965990F9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007E-FB8A-4982-BEC7-3637D2A0C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8E9A-BFBB-4614-A791-161AA51A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5D5-4B57-4E87-A4D9-7B500574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04D-2D2C-4B9B-87F2-F8088A94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917-9E43-433A-A1A7-D6CA45AB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D6C-8C31-41FC-894B-629BDF02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1FB-F70D-4F01-9D25-81EECDE5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51A-4ED1-4B85-88FF-9380F381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F09-8931-4C0D-9480-AC66A27A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C5E-F1CF-4C3C-840E-08CE8BA5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BBA-AEB8-4EF6-872D-8F5A84D9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892-AE46-4358-BE3F-3B7919E1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89A-F63E-4702-8817-E1A26532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62FF-69D1-45AC-9829-E1DA250AF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9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4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c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685800" y="990720"/>
            <a:ext cx="198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M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2971800" y="1371600"/>
            <a:ext cx="5486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omic Sans MS"/>
              </a:rPr>
              <a:t>Today’s story is “Mark’s Big Day.”  In our story, some children are putting on a play and are worried that they might make a mistake playing their pa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omic Sans MS"/>
              </a:rPr>
              <a:t>Today, look and listen for the author’s purpose or reason in writing the story.  See what the author wants us to learn from the 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omic Sans MS"/>
              </a:rPr>
              <a:t>Some more words you will see in the story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blow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mistake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shy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haroni"/>
                <a:ea typeface="Aharoni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mic Sans MS"/>
              </a:rPr>
              <a:t>Let’s Read “Mark’s Big Da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pproached someth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ov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ward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pproach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8" descr="MCj04350550000[1]"/>
          <p:cNvPicPr/>
          <p:nvPr/>
        </p:nvPicPr>
        <p:blipFill>
          <a:blip r:embed="rId1"/>
          <a:stretch/>
        </p:blipFill>
        <p:spPr>
          <a:xfrm>
            <a:off x="838080" y="1752480"/>
            <a:ext cx="4114800" cy="2752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914400" y="46483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The lion approached the frightened tour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5562720" y="1523880"/>
            <a:ext cx="29509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energetic, you are filled with energ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MPj04244090000[1]"/>
          <p:cNvPicPr/>
          <p:nvPr/>
        </p:nvPicPr>
        <p:blipFill>
          <a:blip r:embed="rId1"/>
          <a:stretch/>
        </p:blipFill>
        <p:spPr>
          <a:xfrm>
            <a:off x="380880" y="1219320"/>
            <a:ext cx="5486400" cy="40258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2"/>
          <p:cNvSpPr/>
          <p:nvPr/>
        </p:nvSpPr>
        <p:spPr>
          <a:xfrm>
            <a:off x="2895480" y="228600"/>
            <a:ext cx="601992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nergetic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609480" y="441972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he energetic man leaped across the b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5334120" y="1371600"/>
            <a:ext cx="3109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our pace is how fast you are go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5029200" y="30492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876920" y="38088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c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MMj03546760000[1]"/>
          <p:cNvPicPr/>
          <p:nvPr/>
        </p:nvPicPr>
        <p:blipFill>
          <a:blip r:embed="rId1"/>
          <a:stretch/>
        </p:blipFill>
        <p:spPr>
          <a:xfrm>
            <a:off x="685800" y="228600"/>
            <a:ext cx="3352680" cy="47498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762120" y="52578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She crossed the log at a slow and steady 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Content Placeholder 3" descr="Picture1.jpg"/>
          <p:cNvPicPr/>
          <p:nvPr/>
        </p:nvPicPr>
        <p:blipFill>
          <a:blip r:embed="rId1"/>
          <a:stretch/>
        </p:blipFill>
        <p:spPr>
          <a:xfrm>
            <a:off x="380880" y="152388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4876920" y="533520"/>
            <a:ext cx="4114800" cy="74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Garamond"/>
              </a:rPr>
              <a:t>Write 2 or 3 sentences about what you like to do on Christmas 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WIL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holidays begin with capital let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the first word of each sentence begins with a capital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sentences end with periods, exclamation points, or question 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0" y="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form complete thoughts with sentences; to generate ideas before writing; to use proper capitalization and punctu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are you like toda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might you change as you grow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Today, I am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hen I grow up, I might b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istics of concrete poe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038480" y="0"/>
            <a:ext cx="48006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Growing U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C:\Users\Janice\AppData\Local\Microsoft\Windows\Temporary Internet Files\Content.IE5\AETH7CGB\MCj04345750000[1].wmf"/>
          <p:cNvPicPr/>
          <p:nvPr/>
        </p:nvPicPr>
        <p:blipFill>
          <a:blip r:embed="rId1"/>
          <a:stretch/>
        </p:blipFill>
        <p:spPr>
          <a:xfrm>
            <a:off x="990720" y="1066680"/>
            <a:ext cx="3612960" cy="39862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76212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-3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words containing /ar/ and other known 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Pj04395230000[1]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MPj02011590000[1]"/>
          <p:cNvPicPr/>
          <p:nvPr/>
        </p:nvPicPr>
        <p:blipFill>
          <a:blip r:embed="rId2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Janice\AppData\Local\Microsoft\Windows\Temporary Internet Files\Content.IE5\AETH7CGB\MCj04326540000[1].png"/>
          <p:cNvPicPr/>
          <p:nvPr/>
        </p:nvPicPr>
        <p:blipFill>
          <a:blip r:embed="rId1"/>
          <a:stretch/>
        </p:blipFill>
        <p:spPr>
          <a:xfrm>
            <a:off x="3581280" y="4267080"/>
            <a:ext cx="1554120" cy="1554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343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75d1"/>
                </a:solidFill>
                <a:latin typeface="Comic Sans MS"/>
              </a:rPr>
              <a:t>If You’re Happy and </a:t>
            </a:r>
            <a:br>
              <a:rPr sz="4400"/>
            </a:br>
            <a:r>
              <a:rPr b="0" lang="en-US" sz="4400" spc="-1" strike="noStrike">
                <a:solidFill>
                  <a:srgbClr val="7575d1"/>
                </a:solidFill>
                <a:latin typeface="Comic Sans MS"/>
              </a:rPr>
              <a:t>You Know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6324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If you’re happy and you know it say this w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/j/ /u/ /m/ /p/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If you’re happy and you know it say this w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/j/ /u/ /m/ /p/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If you’re happy and you know it then your face will surely show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If you’re happy and you know it say this w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    “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jum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5" descr="loving2b.jpg"/>
          <p:cNvPicPr/>
          <p:nvPr/>
        </p:nvPicPr>
        <p:blipFill>
          <a:blip r:embed="rId2"/>
          <a:stretch/>
        </p:blipFill>
        <p:spPr>
          <a:xfrm>
            <a:off x="6059520" y="285840"/>
            <a:ext cx="2968560" cy="283536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685800" y="434340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/ar/ /m/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/y/ /ar/ /d/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/j/ /ar/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/p/ /ar/ /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/h/ /ar/ /d/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629400" y="5562720"/>
            <a:ext cx="2209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blend words containing /ar/ and other known soun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8862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200400" y="4495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3526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2670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312408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3581280" y="55627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44197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39625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3505320" y="4648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29718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7339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44956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omic Sans MS"/>
              </a:rPr>
              <a:t>Author’s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3" descr="MCj04241340000[1]"/>
          <p:cNvPicPr/>
          <p:nvPr/>
        </p:nvPicPr>
        <p:blipFill>
          <a:blip r:embed="rId1"/>
          <a:stretch/>
        </p:blipFill>
        <p:spPr>
          <a:xfrm>
            <a:off x="4724280" y="228600"/>
            <a:ext cx="2006640" cy="1266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447920" y="2057400"/>
            <a:ext cx="640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In “The Hare and the Tortoise,” we learned that being the fastest runner doesn’t mean you will always win the r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In that story the author had a purpose, or reason, for writing the sto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The purpose of “The Hare and the Tortoise” was to teach us that working very hard and never giving up will help us do well in school and in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Sometimes looking for the author’s purpose in a story will help us comprehend the story better.  </a:t>
            </a:r>
            <a:r>
              <a:rPr b="0" lang="en-US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6629400" y="0"/>
            <a:ext cx="2514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nderstand the author’s purpose for writing a selec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2-09T02:45:41Z</dcterms:modified>
  <cp:revision>139</cp:revision>
  <dc:subject/>
  <dc:title>Slide 1</dc:title>
</cp:coreProperties>
</file>