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3385-4C11-47ED-A2FD-B54B8F448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8930-1B72-4BF5-98EB-AF51FA122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91A3-96A6-4C91-AD34-332F3705F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50E2-76AA-467C-A723-1F5D3E74D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CF5E-A9C3-4A06-B4A6-3E31C8ED3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1292-0533-4E01-B331-EB130A7CB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1CAD-A157-4427-877D-A47F6346A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AE94-DA72-43C3-BF3D-CFCFB3226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D3B1-BF2C-4CDA-8C19-884BA3ED4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444B-48AF-4E41-8079-DC8EAF0B3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1300-141F-470C-B498-F8F23764C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E4C5-6A81-4FA0-946D-706C1CB21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879A-247B-475C-B791-1D06D92DA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2E05-BB40-4527-8FA8-F6F1E1609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9042-710B-497B-8630-2E0BB05AE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B3CC-CCFC-4D4A-B6BA-9C7D23013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B17C-CFA0-463D-AE0D-178B7B790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672E-8829-46EA-B8F8-A50A66B0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971-9FE3-4544-B0CD-16DA348E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1902-56CD-4FEF-BA15-02512CA7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272-108D-463A-924E-F7440BEC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59E8-2D9E-4EB3-9105-C08965F3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F67-44F4-4498-950B-6933FB37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2B72-E8AF-4F85-88CC-45A16E6F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B61-A35B-4D02-B6FF-0667F5DE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AFE8-42D0-4EBF-BFA6-D656F65B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0DF-67B9-41D6-90EC-89B2BDDA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448B-4736-4D08-BB7A-38315024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C70-34F0-453D-B255-51FE8943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B68A-309B-422D-9061-D7951FB87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ember 9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4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c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685800" y="990720"/>
            <a:ext cx="198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M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2971800" y="1371600"/>
            <a:ext cx="5486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omic Sans MS"/>
              </a:rPr>
              <a:t>Today’s story is “Mark’s Big Day.”  In our story, some children are putting on a play and are worried that they might make a mistake playing their pa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omic Sans MS"/>
              </a:rPr>
              <a:t>Today, look and listen for the author’s purpose or reason in writing the story.  See what the author wants us to learn from the 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omic Sans MS"/>
              </a:rPr>
              <a:t>Some more words you will see in the story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blow</a:t>
            </a: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mistake</a:t>
            </a: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shy</a:t>
            </a: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haroni"/>
                <a:ea typeface="Aharoni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mic Sans MS"/>
              </a:rPr>
              <a:t>Let’s Read “Mark’s Big Da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When called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ac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e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23920" y="914040"/>
            <a:ext cx="3886200" cy="51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pproached someth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mov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ward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pproach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8" descr="MCj04350550000[1]"/>
          <p:cNvPicPr/>
          <p:nvPr/>
        </p:nvPicPr>
        <p:blipFill>
          <a:blip r:embed="rId1"/>
          <a:stretch/>
        </p:blipFill>
        <p:spPr>
          <a:xfrm>
            <a:off x="838080" y="1752480"/>
            <a:ext cx="4114800" cy="27529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914400" y="46483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The lion approached the frightened tour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5562720" y="1523880"/>
            <a:ext cx="29509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re energetic, you are filled with energ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MPj04244090000[1]"/>
          <p:cNvPicPr/>
          <p:nvPr/>
        </p:nvPicPr>
        <p:blipFill>
          <a:blip r:embed="rId1"/>
          <a:stretch/>
        </p:blipFill>
        <p:spPr>
          <a:xfrm>
            <a:off x="380880" y="1219320"/>
            <a:ext cx="5486400" cy="40258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2"/>
          <p:cNvSpPr/>
          <p:nvPr/>
        </p:nvSpPr>
        <p:spPr>
          <a:xfrm>
            <a:off x="2895480" y="228600"/>
            <a:ext cx="601992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nergetic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609480" y="441972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The energetic man leaped across the b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5334120" y="1371600"/>
            <a:ext cx="31096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Your pace is how fast you are go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5029200" y="30492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876920" y="38088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ac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MMj03546760000[1]"/>
          <p:cNvPicPr/>
          <p:nvPr/>
        </p:nvPicPr>
        <p:blipFill>
          <a:blip r:embed="rId1"/>
          <a:stretch/>
        </p:blipFill>
        <p:spPr>
          <a:xfrm>
            <a:off x="685800" y="228600"/>
            <a:ext cx="3352680" cy="47498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762120" y="525780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She crossed the log at a slow and steady 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Content Placeholder 3" descr="Picture1.jpg"/>
          <p:cNvPicPr/>
          <p:nvPr/>
        </p:nvPicPr>
        <p:blipFill>
          <a:blip r:embed="rId1"/>
          <a:stretch/>
        </p:blipFill>
        <p:spPr>
          <a:xfrm>
            <a:off x="380880" y="152388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4876920" y="533520"/>
            <a:ext cx="4114800" cy="74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Garamond"/>
              </a:rPr>
              <a:t>Write 2 or 3 sentences about what you like to do on Christmas E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WIL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Remember that holidays begin with capital lett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Remember that the first word of each sentence begins with a capital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Remember that sentences end with periods, exclamation points, or question 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0" y="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form complete thoughts with sentences; to generate ideas before writing; to use proper capitalization and punctu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are you like toda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How might you change as you grow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Today, I am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When I grow up, I might be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haracteristics of concrete poe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038480" y="0"/>
            <a:ext cx="480060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Growing U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C:\Users\Janice\AppData\Local\Microsoft\Windows\Temporary Internet Files\Content.IE5\AETH7CGB\MCj04345750000[1].wmf"/>
          <p:cNvPicPr/>
          <p:nvPr/>
        </p:nvPicPr>
        <p:blipFill>
          <a:blip r:embed="rId1"/>
          <a:stretch/>
        </p:blipFill>
        <p:spPr>
          <a:xfrm>
            <a:off x="990720" y="1066680"/>
            <a:ext cx="3612960" cy="39862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76212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-3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words containing /ar/ and other known 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Pj04395230000[1]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MPj02011590000[1]"/>
          <p:cNvPicPr/>
          <p:nvPr/>
        </p:nvPicPr>
        <p:blipFill>
          <a:blip r:embed="rId2"/>
          <a:stretch/>
        </p:blipFill>
        <p:spPr>
          <a:xfrm>
            <a:off x="5257800" y="1447920"/>
            <a:ext cx="3319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Janice\AppData\Local\Microsoft\Windows\Temporary Internet Files\Content.IE5\AETH7CGB\MCj04326540000[1].png"/>
          <p:cNvPicPr/>
          <p:nvPr/>
        </p:nvPicPr>
        <p:blipFill>
          <a:blip r:embed="rId1"/>
          <a:stretch/>
        </p:blipFill>
        <p:spPr>
          <a:xfrm>
            <a:off x="3581280" y="4267080"/>
            <a:ext cx="1554120" cy="1554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9343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75d1"/>
                </a:solidFill>
                <a:latin typeface="Comic Sans MS"/>
              </a:rPr>
              <a:t>If You’re Happy and </a:t>
            </a:r>
            <a:br>
              <a:rPr sz="4400"/>
            </a:br>
            <a:r>
              <a:rPr b="0" lang="en-US" sz="4400" spc="-1" strike="noStrike">
                <a:solidFill>
                  <a:srgbClr val="7575d1"/>
                </a:solidFill>
                <a:latin typeface="Comic Sans MS"/>
              </a:rPr>
              <a:t>You Know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6324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If you’re happy and you know it say this w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/j/ /u/ /m/ /p/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If you’re happy and you know it say this w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/j/ /u/ /m/ /p/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If you’re happy and you know it then your face will surely show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If you’re happy and you know it say this w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    “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jump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5" descr="loving2b.jpg"/>
          <p:cNvPicPr/>
          <p:nvPr/>
        </p:nvPicPr>
        <p:blipFill>
          <a:blip r:embed="rId2"/>
          <a:stretch/>
        </p:blipFill>
        <p:spPr>
          <a:xfrm>
            <a:off x="6059520" y="285840"/>
            <a:ext cx="2968560" cy="283536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685800" y="4343400"/>
            <a:ext cx="563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/ar/ /m/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/y/ /ar/ /d/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/j/ /ar/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/p/ /ar/ /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/h/ /ar/ /d/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6629400" y="5562720"/>
            <a:ext cx="22096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blend words containing /ar/ and other known sound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88620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35812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200400" y="44956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41148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335268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4267080" y="4495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312408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3581280" y="55627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44197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1240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0384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39625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3505320" y="4648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29718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34290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733920" y="55627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4495680" y="5562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omic Sans MS"/>
              </a:rPr>
              <a:t>Author’s 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3" descr="MCj04241340000[1]"/>
          <p:cNvPicPr/>
          <p:nvPr/>
        </p:nvPicPr>
        <p:blipFill>
          <a:blip r:embed="rId1"/>
          <a:stretch/>
        </p:blipFill>
        <p:spPr>
          <a:xfrm>
            <a:off x="4724280" y="228600"/>
            <a:ext cx="2006640" cy="12668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1447920" y="2057400"/>
            <a:ext cx="640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In “The Hare and the Tortoise,” we learned that being the fastest runner doesn’t mean you will always win the r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In that story the author had a purpose, or reason, for writing the stor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The purpose of “The Hare and the Tortoise” was to teach us that working very hard and never giving up will help us do well in school and in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Sometimes looking for the author’s purpose in a story will help us comprehend the story better.  </a:t>
            </a:r>
            <a:r>
              <a:rPr b="0" lang="en-US" sz="2000" spc="-1" strike="noStrike">
                <a:solidFill>
                  <a:srgbClr val="c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6629400" y="0"/>
            <a:ext cx="2514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nderstand the author’s purpose for writing a selec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Janice Wagnon</cp:lastModifiedBy>
  <dcterms:modified xsi:type="dcterms:W3CDTF">2008-12-09T02:45:41Z</dcterms:modified>
  <cp:revision>139</cp:revision>
  <dc:subject/>
  <dc:title>Slide 1</dc:title>
</cp:coreProperties>
</file>