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C7C-D9A2-4F12-9E37-E642C90A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5B5-A8BD-4C00-ABF8-279561E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4F2-808C-4F81-8090-FB98481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C21-E011-433C-B181-B91F05C9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D83-CFD1-4A01-87FE-176762BA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AB6-0A3A-4230-A83B-21A8963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8D6-9B80-470F-8455-26FD2A1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F4B-4B63-407C-9DE6-3A37AFB0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ED82-D0EF-4487-A96D-DFD60FB1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341-3ECD-4773-A789-3D2172D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CF9-8AFC-4D0F-AC94-36935CFC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3B9-D57D-4A02-9216-35506C1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912-4888-4989-A235-8789CC94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648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450720"/>
            <a:ext cx="784872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like to do or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n you grow up? 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 I would like to be  ___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57200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35053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0T04:15:03Z</dcterms:modified>
  <cp:revision>102</cp:revision>
  <dc:subject/>
  <dc:title>Slide 1</dc:title>
</cp:coreProperties>
</file>