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E00-F130-4B64-9F7F-E3098B36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A8F-84F9-4550-9810-ACCD4C98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D80-5238-4F83-BDE7-954E33B3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9E5-BA57-4D14-ACBE-737FC79A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2DC-CAE0-4F95-ADE7-CAAE91E0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A00-3D3D-4A32-A3F7-BF8F3114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A13-43F8-4F6D-8040-E41696FB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744-AFF1-4D48-A4A6-D689B0D5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F2C-E941-4AC7-B0A1-1ACAABA0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05F1-D0B2-470F-81E6-A8B4C45A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1AE-E01E-4650-80EF-FB4D6283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AF0-3191-477A-AD44-D791CECA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8E82-F2CD-4A4B-8BE3-FFFBAE8D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1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600200"/>
            <a:ext cx="3353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7. 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8. s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9. 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0. 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 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648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450720"/>
            <a:ext cx="784872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nn’s Trip to the Sta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8620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ake a blunder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ake a bad or silly mist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lund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ss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1752480"/>
            <a:ext cx="33526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reassure someone, you tell him 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er that everything will be alrigh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1497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4120" y="1447920"/>
            <a:ext cx="3414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excel at something, you are very good a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96080" y="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like to do or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n you grow up?  Tell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hen I grow up I would like to be  ____________ 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sentences with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Growing U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s.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57200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4572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350532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505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495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4495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505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505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495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2720" y="0"/>
            <a:ext cx="503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8-12-10T04:15:03Z</dcterms:modified>
  <cp:revision>102</cp:revision>
  <dc:subject/>
  <dc:title>Slide 1</dc:title>
</cp:coreProperties>
</file>