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946-7A95-454B-A4C2-083D9C9E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746-D4BA-4A57-900C-E738332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A5A-CBAB-47E9-93C8-DF1FBE71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966-DB58-4F9D-86FE-449E295F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9EB-0346-4DF1-9350-54EC67E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A55-76FD-476D-A977-78BEDEE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6B01-3CAF-4780-AB92-A9D6895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1BA-FFAE-460D-802B-EA82444F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CB1-1268-47DC-99A1-3D30428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E88-EEB0-4D8E-B188-C8906D93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6EE-7563-46BB-8FE8-63459CB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936-B976-4282-89B4-106461F8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C60D-B68B-4C4D-834E-0C74CCD89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533520"/>
            <a:ext cx="82296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cember 11,200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4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762120"/>
          <a:ext cx="9143640" cy="6157800"/>
        </p:xfrm>
        <a:graphic>
          <a:graphicData uri="http://schemas.openxmlformats.org/drawingml/2006/table">
            <a:tbl>
              <a:tblPr/>
              <a:tblGrid>
                <a:gridCol w="2484720"/>
                <a:gridCol w="208692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0"/>
            <a:ext cx="8610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on wa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ooking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at his plant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som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n 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water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ery day, 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ook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at h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oon the littl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start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o g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One day, Ron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ick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ow Ron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eel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 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eating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h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ive: To use /ar/ and other known letter 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838080"/>
            <a:ext cx="8229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295280"/>
            <a:ext cx="8305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 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 a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  a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  ar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  i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u  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22860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21932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watch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6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1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emember that the Author’s Purpose is to write stories that teach us something.  The author can also be trying to inform us, give directions, and enterta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t’s reread the story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e’re Going on a Lion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What is the author’s purpose in this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ho tells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is the story mostl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determine the author’s purpose or point of view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0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89154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 will tell you some things. If you think it is a blunder then say “oops!”  If not then I don’t want you to say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isspelling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sharpening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ispronouncing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oing a ha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illing a glass of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aving lunch on th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 will say some things.  If you might say this to reassure someone then give me a thumbs up.  If not don’t do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ou can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n’t even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ou’ll do just f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on’t give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I believe in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ive it your b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orget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ou’ll be terrif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0666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85345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 will name some things.  If it would be something that you would like to excel at then say “Yes!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ating a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reading a hard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coring a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iding a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utting on a 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alking 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0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0120" y="228600"/>
            <a:ext cx="1523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apply knowledge of the basic rules of capitalization when writing the names of holi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In January we celebrate 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e celebrate Valentine’s Day and __________ in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e first day of April is called 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At the end of May, we celebrate 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ur country’s birthday is called the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3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3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5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 sent valentines on valentine’s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 give thanks on thanksgi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 went to the park on the fourth of ju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third Monday in February is president’s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Do you ever speak in a very loud voice?  When is it all right to do this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 speak in a loud voice when 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 do this so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62120"/>
            <a:ext cx="91440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What does it mean to say something at the top of your voice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As we read this poem, let’s listen for words that name loud s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explore figura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t The Top Of My V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ground thund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world r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air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w I do such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4572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d Wall Word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bjective: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076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M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Objective: To delete final phonemes from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am going to say some words and we will remove the final (last)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915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 without /t/ is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m without the /m/ is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without the /t/ is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p without the /p/ is 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t without the /t/ is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h without the /ch/ i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t without the /t/ is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t without the /t/ is 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n without the /n/ is w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p without the /p/ is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rs without the /z/ is 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 without the /t/ is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k without the /k/ is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8120" y="2057400"/>
            <a:ext cx="304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0492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 read inflected forms with –s, -ed, and –ing with no spelling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952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t’s see what happens if we add s,ed, and ing to the word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1148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s =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ed = pa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ing = p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57:12Z</dcterms:created>
  <dc:creator>Valued Gateway Client</dc:creator>
  <dc:description/>
  <dc:language>en-US</dc:language>
  <cp:lastModifiedBy>Valued Gateway Client</cp:lastModifiedBy>
  <dcterms:modified xsi:type="dcterms:W3CDTF">2008-12-11T03:55:09Z</dcterms:modified>
  <cp:revision>4</cp:revision>
  <dc:subject/>
  <dc:title>Slide 1</dc:title>
</cp:coreProperties>
</file>