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gif" ContentType="image/gif"/>
  <Override PartName="/ppt/media/image5.gif" ContentType="image/gi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48DD-8C7C-4B9A-A608-E3F4DC58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1999-7E22-4FAF-ACDD-E4921196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6025-87DA-4CB4-A08F-4847C1B1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8618-CF34-4AFF-B702-05D9BC92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B099-094C-482C-B79A-6743076C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9055-C9B0-4DC1-8A2B-02610BF4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2F25-69C6-41A2-912D-4C927C05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7982-F7D7-40EC-B4E5-6A4281A7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47B-A9A7-479D-BF67-5D996579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7826-EFAE-4788-8CA2-7DDA6082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3C23-B92B-4FBA-A0CC-975FC0CA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CE21-D0E8-486F-9DE3-6004E0E3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9170-37D9-4247-9377-E1F45BD2D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533520"/>
            <a:ext cx="822960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urs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ecember 11,2008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14 Day 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762120"/>
          <a:ext cx="9143640" cy="6157800"/>
        </p:xfrm>
        <a:graphic>
          <a:graphicData uri="http://schemas.openxmlformats.org/drawingml/2006/table">
            <a:tbl>
              <a:tblPr/>
              <a:tblGrid>
                <a:gridCol w="2484720"/>
                <a:gridCol w="2086920"/>
                <a:gridCol w="2286000"/>
                <a:gridCol w="2286000"/>
              </a:tblGrid>
              <a:tr h="61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Roo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pl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p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dd –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pla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pi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wa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dd –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la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ic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wat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dd –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plan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pic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water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6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280" y="0"/>
            <a:ext cx="861084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Ron was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looking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 at his plant b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He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planted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 some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plants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Then he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watered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 th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Every day, he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looked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 at his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plants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Soon the little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plants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started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 to gr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One day, Ron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picked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 the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plants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Now Ron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feels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 g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He is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eating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 his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plants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280" y="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bjective: To use /ar/ and other known letter sounds to spell and writ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9480" y="838080"/>
            <a:ext cx="8229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uild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1295280"/>
            <a:ext cx="83055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 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 ar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r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r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  ar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  ar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h  i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 u  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5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0" dur="2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04920" y="228600"/>
            <a:ext cx="8610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219320"/>
            <a:ext cx="82296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f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c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s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watch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50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50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77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Remember that the Author’s Purpose is to write stories that teach us something.  The author can also be trying to inform us, give directions, and entertain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et’s reread the story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We’re Going on a Lion H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What is the author’s purpose in this s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Who tells the s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How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hat is the story mostly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bjective: To determine the author’s purpose or point of view while listening to a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2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velop robust vocabul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u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876560" y="1295280"/>
            <a:ext cx="3886200" cy="513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make a blunder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make a bad or silly mistak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blunder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89154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I will tell you some things. If you think it is a blunder then say “oops!”  If not then I don’t want you to say an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misspelling a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sharpening a 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mispronouncing a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doing a hard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spilling a glass of 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eaving lunch on the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8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eassur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86400" y="1752480"/>
            <a:ext cx="335268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reassure someone, you tell him or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her that everything will be alrigh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414972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I will say some things.  If you might say this to reassure someone then give me a thumbs up.  If not don’t do any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You can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on’t even tr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You’ll do just fi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Don’t give u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I believe in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Give it your be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Forget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You’ll be terrifi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4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04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Objective: To listen attentively and respond appropriately to oral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066680"/>
            <a:ext cx="80773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f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4120" y="1447920"/>
            <a:ext cx="3414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f you excel at something, you are very good at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22860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xce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343400" cy="4249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0"/>
            <a:ext cx="853452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I will name some things.  If it would be something that you would like to excel at then say “Yes!”  If not say n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eating a sandw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reading a hard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scoring a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riding a b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putting on a j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walking a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7" dur="2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20120" y="228600"/>
            <a:ext cx="1523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capitalize the names of holiday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apply knowledge of the basic rules of capitalization when writing the names of holi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24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In January we celebrate _____ and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We celebrate Valentine’s Day and __________ in Febru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The first day of April is called 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At the end of May, we celebrate 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Our country’s birthday is called the 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3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I sent valentines on valentine’s 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We give thanks on thanksgiv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We went to the park on the fourth of ju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he third Monday in February is president’s 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9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E-mail Messag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Use a computer to get and send e-ma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From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shows your e-mail addre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T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shows the e-mail address of the person the message is going 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Subject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tells what the e-mail is abou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 message can begin with a greeting and end with your na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form of e-mail messa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228600"/>
            <a:ext cx="86868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Do you ever speak in a very loud voice?  When is it all right to do this? 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I speak in a loud voice when 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I do this so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762120"/>
            <a:ext cx="914400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What does it mean to say something at the top of your voice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As we read this poem, let’s listen for words that name loud soun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52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bjective: To explore figurativ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6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t The Top Of My Voic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hen I st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he ground thunder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hen I s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he world ring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hen I 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he air wo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ow I do such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33520" y="457200"/>
            <a:ext cx="8229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ord Wall Word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Objective: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990720"/>
            <a:ext cx="807696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c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f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M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319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Objective: To delete final phonemes from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808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 am going to say some words and we will remove the final (last) s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762120"/>
            <a:ext cx="89154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 without /t/ is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rm without the /m/ is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without the /t/ is 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p without the /p/ is h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t without the /t/ is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h without the /ch/ i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t without the /t/ is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t without the /t/ is st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n without the /n/ is w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sp without the /p/ is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rs without the /z/ is j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t without the /t/ is p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k without the /k/ is 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77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77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9" dur="77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048120" y="2057400"/>
            <a:ext cx="30477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ark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304920"/>
            <a:ext cx="8534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bjective: To recognize root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o read inflected forms with –s, -ed, and –ing with no spelling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2952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et’s see what happens if we add s,ed, and ing to the word p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114800"/>
            <a:ext cx="8229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dd s = p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dd ed = par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dd ing = par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77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1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3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8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1:57:12Z</dcterms:created>
  <dc:creator>Valued Gateway Client</dc:creator>
  <dc:description/>
  <dc:language>en-US</dc:language>
  <cp:lastModifiedBy>Valued Gateway Client</cp:lastModifiedBy>
  <dcterms:modified xsi:type="dcterms:W3CDTF">2008-12-11T03:55:09Z</dcterms:modified>
  <cp:revision>4</cp:revision>
  <dc:subject/>
  <dc:title>Slide 1</dc:title>
</cp:coreProperties>
</file>