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ABA7-7E52-4533-B2ED-80FC1D8A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7B1E-D384-40EB-B9A1-D711483A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CEC4-37D5-46CF-ACF7-44A023B6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D199-3511-4B01-BDE2-FDB69CD2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1266-FC95-4852-BF5B-E1608148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20F4-033B-4B81-AB64-BE859C07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77F6-E4B3-48D5-8BAD-E73F7183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2F80-6EAC-4113-A0D7-658FA0B6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E7A-D283-44A8-B1E9-1BEB9C25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5058-6EA4-452C-9F28-36888F7E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E77D-07B9-4153-853D-7321B712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F70-0F24-4F52-853F-91F38D65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574B-98C4-4EB0-AD7C-D2E828755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cember 1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4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274680"/>
          <a:ext cx="8229600" cy="6049800"/>
        </p:xfrm>
        <a:graphic>
          <a:graphicData uri="http://schemas.openxmlformats.org/drawingml/2006/table">
            <a:tbl>
              <a:tblPr/>
              <a:tblGrid>
                <a:gridCol w="2133720"/>
                <a:gridCol w="1981080"/>
                <a:gridCol w="2057400"/>
                <a:gridCol w="205740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Hare and the Tortoise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’s Big Day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 Going on a Lion H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Ann’s Trip to the Star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How could you make the ground thun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How could you make the world r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could _____ to make the ground thu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could _____ to make the world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457200"/>
            <a:ext cx="4800600" cy="66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At the Top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My Voic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rs.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n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319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ections –s, -ed, -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96080" y="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root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219320"/>
            <a:ext cx="2438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m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2438280"/>
            <a:ext cx="2514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mp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3505320"/>
            <a:ext cx="2743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mp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4956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m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762120"/>
          <a:ext cx="9143640" cy="6157800"/>
        </p:xfrm>
        <a:graphic>
          <a:graphicData uri="http://schemas.openxmlformats.org/drawingml/2006/table">
            <a:tbl>
              <a:tblPr/>
              <a:tblGrid>
                <a:gridCol w="2484720"/>
                <a:gridCol w="2086920"/>
                <a:gridCol w="2286000"/>
                <a:gridCol w="2286000"/>
              </a:tblGrid>
              <a:tr h="61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Roo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pl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p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dd –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pla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pi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wa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dd –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la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ic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wat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dd –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plan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pic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water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t’s time for our spelling tes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rite your name and date on the top of your pap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umber your paper 1 to 10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igh Frequency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838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1905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2438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4572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4038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3505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1055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57150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6216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8-12-12T03:05:42Z</dcterms:modified>
  <cp:revision>106</cp:revision>
  <dc:subject/>
  <dc:title>Slide 1</dc:title>
</cp:coreProperties>
</file>