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831-583A-40EC-B38F-8565FC3D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F3F-D62E-445F-902B-3458DCEE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7C5-AB97-42A6-9493-B3EFCEBE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047-4E49-436C-8087-F62586D2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C08-2D4C-4681-9147-0A6CC0F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E0F-17F3-4A90-8E54-E0ADEF40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A97-7C2C-4498-9A5F-AD877845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C1E-AC3A-4716-A982-6727CF00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24E-311C-4CBD-872C-B0C04E87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249-7265-4919-A673-1A292521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34E-EE4D-426A-A89E-EC7424B6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F19-6FDD-44FF-9AA6-84F0DF6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9F49-DBDD-49D7-BB3E-B8F45A68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74680"/>
          <a:ext cx="8229600" cy="6049800"/>
        </p:xfrm>
        <a:graphic>
          <a:graphicData uri="http://schemas.openxmlformats.org/drawingml/2006/table">
            <a:tbl>
              <a:tblPr/>
              <a:tblGrid>
                <a:gridCol w="2133720"/>
                <a:gridCol w="1981080"/>
                <a:gridCol w="2057400"/>
                <a:gridCol w="205740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are and the Tortois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’s Big Day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Going on a Lion H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could you make the ground th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could you make the world r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_____ to make the ground thu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_____ to make the world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At the Top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My Voi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s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s, -ed, -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oot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219320"/>
            <a:ext cx="243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438280"/>
            <a:ext cx="2514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50532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495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762120"/>
          <a:ext cx="9143640" cy="6157800"/>
        </p:xfrm>
        <a:graphic>
          <a:graphicData uri="http://schemas.openxmlformats.org/drawingml/2006/table">
            <a:tbl>
              <a:tblPr/>
              <a:tblGrid>
                <a:gridCol w="2484720"/>
                <a:gridCol w="208692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t’s time for our spelling te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rite your name and date on the top of your pa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umber your paper 1 to 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105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5715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6216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12T03:05:42Z</dcterms:modified>
  <cp:revision>106</cp:revision>
  <dc:subject/>
  <dc:title>Slide 1</dc:title>
</cp:coreProperties>
</file>