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9A561-5532-40B4-96BD-3B06673ED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E389F-082E-42AF-AD92-B0ED04B7C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E2162-DF7D-4B5C-B842-E9B4940E1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BD411-5E5F-4461-BF09-6FEE78866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428F1-AE05-4FB0-A1A0-AA5C6788A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4CAB4-6BBD-403C-B455-5E4B7A1C5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332AB-3620-4E57-A6A6-DE8FD57F0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C14B6-046C-4927-978A-040E21AF7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EC70B-C885-4C59-897F-5E2CACC54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30AB3-CCC6-44FE-A21A-934986F66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0A2F4-9267-41F5-86E0-C7AC0B69D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3363F-0494-4BAD-9F5C-709F817B9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583C5-BE54-4A84-9031-3A2C1FA527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8305560" cy="65689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2209680" y="380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Monda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Lesson 15, Day 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Word Building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315200" y="0"/>
            <a:ext cx="19810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build and blend words with /kw/qu and /hw/ wh and other known letter-soun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895480" y="1219320"/>
            <a:ext cx="1295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qu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886200" y="1219320"/>
            <a:ext cx="914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114800" y="2438280"/>
            <a:ext cx="10666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k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81280" y="2438280"/>
            <a:ext cx="9907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2438280"/>
            <a:ext cx="12952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qu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00400" y="4495680"/>
            <a:ext cx="12193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wh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114800" y="3505320"/>
            <a:ext cx="3808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743200" y="3505320"/>
            <a:ext cx="1600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qu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267080" y="4495680"/>
            <a:ext cx="304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438280" y="556272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wh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81280" y="5562720"/>
            <a:ext cx="457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962520" y="5562720"/>
            <a:ext cx="1143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h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495680" y="1219320"/>
            <a:ext cx="60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495680" y="3505320"/>
            <a:ext cx="60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648320" y="4419720"/>
            <a:ext cx="838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1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6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1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1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6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1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6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1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6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1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6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38088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Arial"/>
              </a:rPr>
              <a:t>When called go to your seat and label the paper with your name and date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Arial"/>
              </a:rPr>
              <a:t>It’s time to take our spelling pretest!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467480" y="0"/>
            <a:ext cx="16765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spell spelling words and high frequency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990720" y="304920"/>
            <a:ext cx="67053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Spelling Words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nstantia"/>
              </a:rPr>
              <a:t>Readin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nstantia"/>
              </a:rPr>
              <a:t>Brent has a quiz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nstantia"/>
              </a:rPr>
              <a:t>When will he quit?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620120" y="0"/>
            <a:ext cx="15238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use letter-sound knowledge to read decodable 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To develop fluenc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-360"/>
            <a:ext cx="822960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000000"/>
                </a:solidFill>
                <a:uFillTx/>
                <a:latin typeface="Arial"/>
              </a:rPr>
              <a:t>Words to Know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happ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to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fin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hous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620120" y="0"/>
            <a:ext cx="152388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read high-frequency words.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3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8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3" dur="5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8" dur="500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all Grou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t’s Read “A Quiz for Brent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called go to your first rotatio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up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up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up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620120" y="0"/>
            <a:ext cx="15238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use letter-sound knowledge to read decodable 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To develop fluenc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5" dur="20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0" dur="2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5" dur="2000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0" dur="2000"/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5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Retelling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62720" y="3962520"/>
            <a:ext cx="609480" cy="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391520" y="0"/>
            <a:ext cx="1752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practice retelling a stor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72200" y="2057400"/>
            <a:ext cx="2362320" cy="3962520"/>
          </a:xfrm>
          <a:custGeom>
            <a:avLst/>
            <a:gdLst>
              <a:gd name="textAreaLeft" fmla="*/ 115200 w 2362320"/>
              <a:gd name="textAreaRight" fmla="*/ 2247120 w 2362320"/>
              <a:gd name="textAreaTop" fmla="*/ 115200 h 3962520"/>
              <a:gd name="textAreaBottom" fmla="*/ 3847320 h 3962520"/>
            </a:gdLst>
            <a:ahLst/>
            <a:rect l="textAreaLeft" t="textAreaTop" r="textAreaRight" b="textAreaBottom"/>
            <a:pathLst>
              <a:path w="21600" h="36229">
                <a:moveTo>
                  <a:pt x="3600" y="0"/>
                </a:moveTo>
                <a:arcTo wR="3600" hR="3600" stAng="16200000" swAng="-5400000"/>
                <a:lnTo>
                  <a:pt x="0" y="32629"/>
                </a:lnTo>
                <a:arcTo wR="3600" hR="3600" stAng="10800000" swAng="-5400000"/>
                <a:lnTo>
                  <a:pt x="18000" y="3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590920" y="4038480"/>
            <a:ext cx="609480" cy="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324480" y="22860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200400" y="2057400"/>
            <a:ext cx="2362320" cy="3886200"/>
          </a:xfrm>
          <a:custGeom>
            <a:avLst/>
            <a:gdLst>
              <a:gd name="textAreaLeft" fmla="*/ 115200 w 2362320"/>
              <a:gd name="textAreaRight" fmla="*/ 2247120 w 2362320"/>
              <a:gd name="textAreaTop" fmla="*/ 115200 h 3886200"/>
              <a:gd name="textAreaBottom" fmla="*/ 3771000 h 3886200"/>
            </a:gdLst>
            <a:ahLst/>
            <a:rect l="textAreaLeft" t="textAreaTop" r="textAreaRight" b="textAreaBottom"/>
            <a:pathLst>
              <a:path w="21600" h="35532">
                <a:moveTo>
                  <a:pt x="3600" y="0"/>
                </a:moveTo>
                <a:arcTo wR="3600" hR="3600" stAng="16200000" swAng="-5400000"/>
                <a:lnTo>
                  <a:pt x="0" y="31932"/>
                </a:lnTo>
                <a:arcTo wR="3600" hR="3600" stAng="10800000" swAng="-5400000"/>
                <a:lnTo>
                  <a:pt x="18000" y="355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28600" y="2057400"/>
            <a:ext cx="2362320" cy="3809880"/>
          </a:xfrm>
          <a:custGeom>
            <a:avLst/>
            <a:gdLst>
              <a:gd name="textAreaLeft" fmla="*/ 115200 w 2362320"/>
              <a:gd name="textAreaRight" fmla="*/ 2247120 w 2362320"/>
              <a:gd name="textAreaTop" fmla="*/ 115200 h 3809880"/>
              <a:gd name="textAreaBottom" fmla="*/ 3694680 h 3809880"/>
            </a:gdLst>
            <a:ahLst/>
            <a:rect l="textAreaLeft" t="textAreaTop" r="textAreaRight" b="textAreaBottom"/>
            <a:pathLst>
              <a:path w="21600" h="34834">
                <a:moveTo>
                  <a:pt x="3600" y="0"/>
                </a:moveTo>
                <a:arcTo wR="3600" hR="3600" stAng="16200000" swAng="-5400000"/>
                <a:lnTo>
                  <a:pt x="0" y="31234"/>
                </a:lnTo>
                <a:arcTo wR="3600" hR="3600" stAng="10800000" swAng="-5400000"/>
                <a:lnTo>
                  <a:pt x="18000" y="3483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80880" y="22860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22860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28600" y="144792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gin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124080" y="15238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dd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248520" y="16002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0" y="685440"/>
            <a:ext cx="914400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he Best Apple Crisp in the World”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523880" y="0"/>
            <a:ext cx="6324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Read Aloud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620120" y="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understand characteristics of narrative nonfi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apple-crisp-w" descr=""/>
          <p:cNvPicPr/>
          <p:nvPr/>
        </p:nvPicPr>
        <p:blipFill>
          <a:blip r:embed="rId1"/>
          <a:stretch/>
        </p:blipFill>
        <p:spPr>
          <a:xfrm>
            <a:off x="1981080" y="3124080"/>
            <a:ext cx="4800600" cy="31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400440" y="152280"/>
            <a:ext cx="2514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develop robust vocabulary by discussing ideas and situatio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837720"/>
            <a:ext cx="838188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Robust Vocabula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zi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rup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iumphant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2"/>
          <p:cNvSpPr/>
          <p:nvPr/>
        </p:nvSpPr>
        <p:spPr>
          <a:xfrm>
            <a:off x="5029200" y="762120"/>
            <a:ext cx="3886200" cy="5135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564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If you lie cozily in bed, you are warm, comfortable, and relaxe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3"/>
          <p:cNvSpPr/>
          <p:nvPr/>
        </p:nvSpPr>
        <p:spPr>
          <a:xfrm>
            <a:off x="2057400" y="0"/>
            <a:ext cx="5105520" cy="1276200"/>
          </a:xfrm>
          <a:prstGeom prst="roundRect">
            <a:avLst>
              <a:gd name="adj" fmla="val 10486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4"/>
          <p:cNvSpPr/>
          <p:nvPr/>
        </p:nvSpPr>
        <p:spPr>
          <a:xfrm>
            <a:off x="2362320" y="228600"/>
            <a:ext cx="4367160" cy="10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omic Sans MS"/>
              </a:rPr>
              <a:t>cozily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18" descr="MCj04350550000[1]"/>
          <p:cNvPicPr/>
          <p:nvPr/>
        </p:nvPicPr>
        <p:blipFill>
          <a:blip r:embed="rId1"/>
          <a:stretch/>
        </p:blipFill>
        <p:spPr>
          <a:xfrm>
            <a:off x="1066680" y="1600200"/>
            <a:ext cx="3870360" cy="3870360"/>
          </a:xfrm>
          <a:prstGeom prst="rect">
            <a:avLst/>
          </a:prstGeom>
          <a:ln w="0">
            <a:noFill/>
          </a:ln>
        </p:spPr>
      </p:pic>
      <p:sp>
        <p:nvSpPr>
          <p:cNvPr id="144" name="TextBox 6"/>
          <p:cNvSpPr/>
          <p:nvPr/>
        </p:nvSpPr>
        <p:spPr>
          <a:xfrm>
            <a:off x="1143000" y="5410080"/>
            <a:ext cx="3886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b6bcf"/>
                </a:solidFill>
                <a:latin typeface="Comic Sans MS"/>
              </a:rPr>
              <a:t>The woman lies </a:t>
            </a:r>
            <a:r>
              <a:rPr b="1" lang="en-US" sz="2400" spc="-1" strike="noStrike">
                <a:solidFill>
                  <a:srgbClr val="6b6bcf"/>
                </a:solidFill>
                <a:latin typeface="Comic Sans MS"/>
              </a:rPr>
              <a:t>cozily</a:t>
            </a:r>
            <a:r>
              <a:rPr b="0" lang="en-US" sz="2400" spc="-1" strike="noStrike">
                <a:solidFill>
                  <a:srgbClr val="6b6bcf"/>
                </a:solidFill>
                <a:latin typeface="Comic Sans MS"/>
              </a:rPr>
              <a:t> in her b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bcBulletin"/>
              </a:rPr>
              <a:t>cozi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sat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ozil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round the kitchen tabl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y mom sits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ozil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 her chair when she reads.  She sits in a way that makes her feel comfort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you get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oz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hen you read at hom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009920" y="-360"/>
            <a:ext cx="2133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listen and respond appropriately to oral communication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10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onstantia"/>
              </a:rPr>
              <a:t>Question of the Day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nstantia"/>
              </a:rPr>
              <a:t>Imagine walking through the woods.  What animals do you see? What are they doing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nstantia"/>
              </a:rPr>
              <a:t>I see ____________ and __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nstantia"/>
              </a:rPr>
              <a:t>They are  _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9" descr="MPj04244090000[1]"/>
          <p:cNvPicPr/>
          <p:nvPr/>
        </p:nvPicPr>
        <p:blipFill>
          <a:blip r:embed="rId1"/>
          <a:stretch/>
        </p:blipFill>
        <p:spPr>
          <a:xfrm>
            <a:off x="0" y="2057400"/>
            <a:ext cx="6656400" cy="4800600"/>
          </a:xfrm>
          <a:prstGeom prst="rect">
            <a:avLst/>
          </a:prstGeom>
          <a:ln w="0">
            <a:noFill/>
          </a:ln>
        </p:spPr>
      </p:pic>
      <p:sp>
        <p:nvSpPr>
          <p:cNvPr id="148" name="Rectangle 4"/>
          <p:cNvSpPr/>
          <p:nvPr/>
        </p:nvSpPr>
        <p:spPr>
          <a:xfrm>
            <a:off x="152280" y="1295280"/>
            <a:ext cx="9372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If something is interrupted, it is stoppe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2"/>
          <p:cNvSpPr/>
          <p:nvPr/>
        </p:nvSpPr>
        <p:spPr>
          <a:xfrm>
            <a:off x="1676520" y="0"/>
            <a:ext cx="6019560" cy="1278000"/>
          </a:xfrm>
          <a:prstGeom prst="roundRect">
            <a:avLst>
              <a:gd name="adj" fmla="val 10486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3"/>
          <p:cNvSpPr/>
          <p:nvPr/>
        </p:nvSpPr>
        <p:spPr>
          <a:xfrm>
            <a:off x="1752480" y="0"/>
            <a:ext cx="5867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564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omic Sans MS"/>
              </a:rPr>
              <a:t>interrupted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5"/>
          <p:cNvSpPr/>
          <p:nvPr/>
        </p:nvSpPr>
        <p:spPr>
          <a:xfrm>
            <a:off x="1143000" y="5257800"/>
            <a:ext cx="4648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he downed tree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interrupted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the travel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a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bcBulletin"/>
              </a:rPr>
              <a:t>interrup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1600200"/>
            <a:ext cx="64008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time Jak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nterrupt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 “How many apples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not polite to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nterrup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eople when they are speaking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you needed to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interrup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, how could you do so poli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2"/>
          <p:cNvSpPr/>
          <p:nvPr/>
        </p:nvSpPr>
        <p:spPr>
          <a:xfrm>
            <a:off x="5410080" y="838080"/>
            <a:ext cx="320040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If you do something, </a:t>
            </a:r>
            <a:r>
              <a:rPr b="0" i="1" lang="en-US" sz="3600" spc="-1" strike="noStrike">
                <a:solidFill>
                  <a:srgbClr val="000000"/>
                </a:solidFill>
                <a:latin typeface="Comic Sans MS"/>
              </a:rPr>
              <a:t>triumphantly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, you do it in  way that shows people how happy and proud you a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3"/>
          <p:cNvSpPr/>
          <p:nvPr/>
        </p:nvSpPr>
        <p:spPr>
          <a:xfrm>
            <a:off x="5029200" y="0"/>
            <a:ext cx="3589200" cy="1276200"/>
          </a:xfrm>
          <a:prstGeom prst="roundRect">
            <a:avLst>
              <a:gd name="adj" fmla="val 10486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4"/>
          <p:cNvSpPr/>
          <p:nvPr/>
        </p:nvSpPr>
        <p:spPr>
          <a:xfrm>
            <a:off x="4876920" y="0"/>
            <a:ext cx="3919320" cy="10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triumphantl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11" descr="MMj03546760000[1]"/>
          <p:cNvPicPr/>
          <p:nvPr/>
        </p:nvPicPr>
        <p:blipFill>
          <a:blip r:embed="rId1"/>
          <a:stretch/>
        </p:blipFill>
        <p:spPr>
          <a:xfrm>
            <a:off x="152280" y="1447920"/>
            <a:ext cx="5073840" cy="3368520"/>
          </a:xfrm>
          <a:prstGeom prst="rect">
            <a:avLst/>
          </a:prstGeom>
          <a:ln w="0">
            <a:noFill/>
          </a:ln>
        </p:spPr>
      </p:pic>
      <p:sp>
        <p:nvSpPr>
          <p:cNvPr id="158" name="TextBox 5"/>
          <p:cNvSpPr/>
          <p:nvPr/>
        </p:nvSpPr>
        <p:spPr>
          <a:xfrm>
            <a:off x="1066680" y="4952880"/>
            <a:ext cx="327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team lifted the coach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triumphantly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bcBulletin"/>
              </a:rPr>
              <a:t>triumphant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1371600" y="1600200"/>
            <a:ext cx="64008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ctly one cup!” Jake said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triumphantl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might shout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triumphantl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fter I won my soccer g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might make you feel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triumpha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ing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ll, I always use this p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at’s half an hour- just long enough for me to beat you at Go Fish while the apple crisp cook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 like stor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Grandma tells me lots of stories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419720" y="152280"/>
            <a:ext cx="4419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To understand that the words I and me take the place of some naming words. To use I in the subject and me in the predicate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ing I and 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lost my ball in the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m helped me look for 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tossed the ball to Mo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m tossed the ball to m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In what part of the sentence is each w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o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419720" y="152280"/>
            <a:ext cx="4419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To understand that the words I and me take the place of some naming words. To use I in the subject and me in the predicate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al Narra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ersonal narrative tells about something that has happened in a person’s lif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a beginning, middle, and an en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words lik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m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657600" y="15228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To understand that a personal narrative tells about someone’s experiences. To develop a list of criteria for effective personal narrativ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I moved to Texas when I was five. We packed boxes and put them in a big truck.  I felt so sad.  We drove for many hours.  Then we saw our new house.  It looked nice.  My new room was just right for me.  I decided that day that I liked Texa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udent Model: Personal Narra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657600" y="15228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To understand that a personal narrative tells about someone’s experiences. To develop a list of criteria for effective personal narrativ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raft a Personal Narra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I got a puppy at last! I named him Sa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I love him so much, but he is such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scamp! One day, Sam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676520" y="6172200"/>
            <a:ext cx="7010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To understand that a personal narrative tells about someone’s experiences. To develop a list of criteria for effective personal narrativ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609480" y="685800"/>
            <a:ext cx="7010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are a Personal Narra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" y="990720"/>
            <a:ext cx="8229600" cy="51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657600" y="15228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To understand that a personal narrative tells about someone’s experiences. To develop a list of criteria for effective personal narrativ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Draw a picture showing an interesting event in your life. It could be a holiday memory or a favorite school eve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238880" y="-360"/>
            <a:ext cx="190512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listen for a purpos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343400" y="457200"/>
            <a:ext cx="4800600" cy="837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000000"/>
                </a:solidFill>
                <a:uFillTx/>
                <a:latin typeface="Constantia"/>
              </a:rPr>
              <a:t>Read Alou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nstantia"/>
              </a:rPr>
              <a:t>Big Bo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onstantia"/>
              </a:rPr>
              <a:t>Fireflies, Fireflies, Light My W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52280" y="1447920"/>
            <a:ext cx="441972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467120" y="-360"/>
            <a:ext cx="16765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 - To read high frequency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3520" y="22824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Word Wall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1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" dur="1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" dur="10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" dur="10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" dur="1000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7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86240" y="152280"/>
            <a:ext cx="2057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blend phonemes into word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51814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Phonemic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Awarenes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honem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egment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257800" y="1447920"/>
            <a:ext cx="331956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781680" y="0"/>
            <a:ext cx="2362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recognize and generate th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sound  /kw/qu.</a:t>
            </a: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65040" y="417600"/>
            <a:ext cx="8550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228600"/>
            <a:ext cx="8458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nstantia"/>
              </a:rPr>
              <a:t>Digraphs /kw/ qu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038480" y="1219320"/>
            <a:ext cx="46483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When I say a word that has the /kw/ sound at the beginning, put your thumb up say /kw/.  When I say a word that does not have /kw/, put your thumb dow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queen" descr=""/>
          <p:cNvPicPr/>
          <p:nvPr/>
        </p:nvPicPr>
        <p:blipFill>
          <a:blip r:embed="rId1"/>
          <a:stretch/>
        </p:blipFill>
        <p:spPr>
          <a:xfrm>
            <a:off x="533520" y="1295280"/>
            <a:ext cx="329724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781680" y="0"/>
            <a:ext cx="2362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recognize and generate th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sound  /hw/wh.</a:t>
            </a: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65040" y="417600"/>
            <a:ext cx="8550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228600"/>
            <a:ext cx="8458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nstantia"/>
              </a:rPr>
              <a:t>Digraphs /hw/ wh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267080" y="1219320"/>
            <a:ext cx="44197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When I say a word that has the /hw/ sound at the beginning, put your thumb up say /hw/.  When I say a word that does not have /hw/, put your thumb dow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whale" descr=""/>
          <p:cNvPicPr/>
          <p:nvPr/>
        </p:nvPicPr>
        <p:blipFill>
          <a:blip r:embed="rId1"/>
          <a:stretch/>
        </p:blipFill>
        <p:spPr>
          <a:xfrm>
            <a:off x="380880" y="1523880"/>
            <a:ext cx="3657600" cy="323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Word Blending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895480" y="1295280"/>
            <a:ext cx="1447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qu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0"/>
            <a:ext cx="1981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build and blend words with /kw/ qu and other known letter-soun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038480" y="1219320"/>
            <a:ext cx="457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114800" y="2438280"/>
            <a:ext cx="9907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733920" y="2438280"/>
            <a:ext cx="9903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895480" y="2438280"/>
            <a:ext cx="11430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qu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267080" y="3657600"/>
            <a:ext cx="1219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886200" y="3657600"/>
            <a:ext cx="990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62520" y="4648320"/>
            <a:ext cx="1143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124080" y="4648320"/>
            <a:ext cx="990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971800" y="3657600"/>
            <a:ext cx="1219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qu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419720" y="1219320"/>
            <a:ext cx="457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724280" y="1219320"/>
            <a:ext cx="533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648320" y="365760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k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14600" y="5562720"/>
            <a:ext cx="1143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qu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429000" y="55627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733920" y="5562720"/>
            <a:ext cx="990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k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9" dur="2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4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9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9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4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9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4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9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4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0492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Word Blending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743200" y="1295280"/>
            <a:ext cx="1447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wh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0"/>
            <a:ext cx="1981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build and blend words with /hw/ wh and other known letter-soun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886200" y="1219320"/>
            <a:ext cx="457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62520" y="2438280"/>
            <a:ext cx="9903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581280" y="2438280"/>
            <a:ext cx="9907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590920" y="2438280"/>
            <a:ext cx="12952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wh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657600"/>
            <a:ext cx="1219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733920" y="3657600"/>
            <a:ext cx="9903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819520" y="3657600"/>
            <a:ext cx="12189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wh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267080" y="1219320"/>
            <a:ext cx="457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495680" y="365760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3T01:35:05Z</dcterms:created>
  <dc:creator>Carey Dailey</dc:creator>
  <dc:description/>
  <dc:language>en-US</dc:language>
  <cp:lastModifiedBy> </cp:lastModifiedBy>
  <dcterms:modified xsi:type="dcterms:W3CDTF">2009-12-15T05:08:25Z</dcterms:modified>
  <cp:revision>104</cp:revision>
  <dc:subject/>
  <dc:title>Slide 1</dc:title>
</cp:coreProperties>
</file>