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977-AC00-4614-B7CC-B2FD4F0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7E8-D271-4987-923B-B0C62A5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C51-84CD-44CE-8D8A-2D853710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7E2-BDA2-438D-876C-61551E30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822-EC8F-4D18-8366-391AAEC9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B3E-89DE-45E9-BF4F-FDA22631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A38-DEE2-44A1-99D1-D868171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449-454A-4FF3-BE58-E9551346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D26-8767-4E20-B7D1-34B3A36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7BA-A737-4ED0-83EA-F3DF93B3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12E-377B-4E94-8ED1-8E35252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D12-10AD-42FB-A2EC-C94ED6F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15C-1531-4950-9A85-24FA5560E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qu and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80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505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44956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562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562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219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4419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rent has a quiz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When will he quit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A Quiz for Br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est Apple Crisp in the World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pple-crisp-w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0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029200" y="76212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lie cozily in bed, you are warm, comfortable, and relax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z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Cj04350550000[1]"/>
          <p:cNvPicPr/>
          <p:nvPr/>
        </p:nvPicPr>
        <p:blipFill>
          <a:blip r:embed="rId1"/>
          <a:stretch/>
        </p:blipFill>
        <p:spPr>
          <a:xfrm>
            <a:off x="1066680" y="1600200"/>
            <a:ext cx="3870360" cy="3870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1430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The woman lies </a:t>
            </a:r>
            <a:r>
              <a:rPr b="1" lang="en-US" sz="2400" spc="-1" strike="noStrike">
                <a:solidFill>
                  <a:srgbClr val="6b6bcf"/>
                </a:solidFill>
                <a:latin typeface="Comic Sans MS"/>
              </a:rPr>
              <a:t>cozily</a:t>
            </a: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 in her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ound the kitchen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i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chair when she reads.  She sits in a way that makes her feel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g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read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walking through the woods.  What animals do you see? What are they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ee ____________ an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y are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MPj04244090000[1]"/>
          <p:cNvPicPr/>
          <p:nvPr/>
        </p:nvPicPr>
        <p:blipFill>
          <a:blip r:embed="rId1"/>
          <a:stretch/>
        </p:blipFill>
        <p:spPr>
          <a:xfrm>
            <a:off x="0" y="2057400"/>
            <a:ext cx="6656400" cy="4800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52280" y="1295280"/>
            <a:ext cx="937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is interrupted, it is stop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676520" y="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52480" y="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terrup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1430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owned tre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errup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trav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 J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“How many appl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polit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when they are speak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eeded t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nterru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, how could you do so poli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410080" y="838080"/>
            <a:ext cx="3200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,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do it in  way that shows people how happy and proud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5029200" y="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876920" y="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MMj0354676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5073840" cy="3368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66680" y="4952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lifted the coac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cup!” Jake sai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ght sh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I won my soccer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make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I always use this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half an hour- just long enough for me to beat you at Go Fish while the apple crisp c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like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ndma tells me lots of stor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st my ball 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helped me look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ssed the ball to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tossed the ball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what part of the sentence is each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got a puppy at last! I named him 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love him so much, but he is such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camp! One day, S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17220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6858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raw a picture showing an interesting event in your life. It could be a holiday memory or a favorite school ev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83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Big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Fireflies, Fireflies, Light M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queen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hale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48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4382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2193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2-15T05:08:25Z</dcterms:modified>
  <cp:revision>104</cp:revision>
  <dc:subject/>
  <dc:title>Slide 1</dc:title>
</cp:coreProperties>
</file>