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2E7F-71B7-4951-8CF8-BC932AB2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B53-0A38-4B38-BA6C-E291EDE0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B14-C267-4E90-9522-5CDE765D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97EA-8E20-4B9B-B2BE-50645D31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80F-A9DA-4423-944E-CC168BB8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CFD0-12E3-4FC8-BD78-91657DED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8B5A-5EEB-443C-ADC1-1E7440D6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8025-58E1-425F-9C84-F0A6BE20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7AB-BAE9-44F0-AC6F-4F8AEFD8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67D-45D9-4E74-97B3-79EE76FF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27D-CFAC-47EE-879F-FB2DC5C6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946-B081-41EA-9CBD-883F87A0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588F-3AAE-43A7-8058-17C9AD909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62320" y="380880"/>
            <a:ext cx="586728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5, Day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boo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22860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- To read high-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15228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07200" y="304920"/>
            <a:ext cx="3085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ask questions and observe sequ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a strategy for comprehens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914400"/>
            <a:ext cx="739152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s in a story happen in a sequence that makes sense. Think about the order of events in “The Best Apple Crisp in the World.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an you eat apple crisp before you make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352680"/>
            <a:ext cx="8001000" cy="2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en to the directions and tell whether they are in a sequence that makes sense. If not, help make sense of the dir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ut on your shoes, put on your socks, go out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ut cereal in a bowl, eat, pour in some mil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09760"/>
            <a:ext cx="9144000" cy="58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b0f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omic Sans MS"/>
              </a:rPr>
              <a:t>accomplish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adm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amb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cc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380880"/>
            <a:ext cx="40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ccomplish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1447920"/>
            <a:ext cx="5029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f you have had an accomplishment, you have worked hard to get something done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accomplishment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409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ccomplish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49440" y="2119320"/>
            <a:ext cx="604512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rea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complish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Tomas Rivera was writing his first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ning a mile was a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complish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about one of you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complish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dm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1447920"/>
            <a:ext cx="449568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you admire someone, you think that person is very special because of the things he or she does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admire" descr=""/>
          <p:cNvPicPr/>
          <p:nvPr/>
        </p:nvPicPr>
        <p:blipFill>
          <a:blip r:embed="rId1"/>
          <a:stretch/>
        </p:blipFill>
        <p:spPr>
          <a:xfrm>
            <a:off x="0" y="1635120"/>
            <a:ext cx="44197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dm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49440" y="1981080"/>
            <a:ext cx="6045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omas grew up, many people began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mi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is bo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mi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r. Seuss because he wrote funny, clever rhym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a person you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mi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ell w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mb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44792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you have an ambition, you want to do something very mu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mbition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205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mb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549440" y="2050920"/>
            <a:ext cx="604512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as’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mb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to tell stories like Grand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mb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o learn to play a musical instru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have th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mb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10280" y="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295280"/>
            <a:ext cx="8610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Do you like to read books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nstantia"/>
              </a:rPr>
              <a:t>On my signal, you will turn and talk to your partner to complete this s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reading books because ____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Using I and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omic Sans MS"/>
              </a:rPr>
              <a:t>Sam and I saw a squirr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omic Sans MS"/>
              </a:rPr>
              <a:t>It was looking at Sam and 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*</a:t>
            </a:r>
            <a:r>
              <a:rPr b="1" i="1" lang="en-US" sz="3200" spc="-1" strike="noStrike">
                <a:solidFill>
                  <a:srgbClr val="9900cc"/>
                </a:solidFill>
                <a:latin typeface="Comic Sans MS"/>
              </a:rPr>
              <a:t>Remember I is used in the naming part of the sentence and me is used in the telling part.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Comic Sans MS"/>
              </a:rPr>
              <a:t>Todd and ____ went to the pa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Comic Sans MS"/>
              </a:rPr>
              <a:t>My dad went with Todd and 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154840" y="228600"/>
            <a:ext cx="374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se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 subject of the sentence an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icate; to use knowledge of basic rules of capitalization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4"/>
          <p:cNvSpPr/>
          <p:nvPr/>
        </p:nvSpPr>
        <p:spPr>
          <a:xfrm>
            <a:off x="7010280" y="5410080"/>
            <a:ext cx="213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compose coherent sentences in a personal narrative; to generate ideas before writing on assigned tasks; to select a focus for wri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28600"/>
            <a:ext cx="87631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ersonal Narr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I was born in Texas.  My family and I went from farm to farm picking crops.  I helped pick crops all day.  It was hard work.  At night, I had fun with my grandpa and his stori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4"/>
          <p:cNvSpPr/>
          <p:nvPr/>
        </p:nvSpPr>
        <p:spPr>
          <a:xfrm>
            <a:off x="7010280" y="5410080"/>
            <a:ext cx="213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compose coherent sentences in a personal narrative; to generate ideas before writing on assigned tasks; to select a focus for wri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52280"/>
            <a:ext cx="7086600" cy="49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ersonal Narr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A personal narrative tells about something that has happened in a person’s lif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It has a beginning, a middle, and an en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It has words like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Comic Sans MS"/>
              </a:rPr>
              <a:t>I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 and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Comic Sans MS"/>
              </a:rPr>
              <a:t>me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rsonal Nar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Write about one of your ambitions. 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what you would like to do or be when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row up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L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Check to see if you told about something that happened to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Use I and me in your wr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Use capital letters where needed and punctu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7010280" y="228600"/>
            <a:ext cx="213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compose coherent sentences in a personal narrative; to generate ideas before writing on assigned tasks; to select a focus for wri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629400" y="228600"/>
            <a:ext cx="1905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identify characteristics of concrete poet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038480" y="0"/>
            <a:ext cx="480060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7030a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onstantia"/>
              </a:rPr>
              <a:t>“</a:t>
            </a:r>
            <a:r>
              <a:rPr b="1" lang="en-US" sz="4400" spc="-1" strike="noStrike">
                <a:solidFill>
                  <a:srgbClr val="7030a0"/>
                </a:solidFill>
                <a:latin typeface="Constantia"/>
              </a:rPr>
              <a:t>Books to the Ceiling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3197"/>
                </a:solidFill>
                <a:latin typeface="Constantia"/>
              </a:rPr>
              <a:t>*Why do you think the poet said “I’ll have a long beard by the time I read them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" descr="C:\Users\Janice\AppData\Local\Microsoft\Windows\Temporary Internet Files\Content.IE5\AETH7CGB\MCj04345750000[1].wmf"/>
          <p:cNvPicPr/>
          <p:nvPr/>
        </p:nvPicPr>
        <p:blipFill>
          <a:blip r:embed="rId1"/>
          <a:stretch/>
        </p:blipFill>
        <p:spPr>
          <a:xfrm>
            <a:off x="685800" y="990720"/>
            <a:ext cx="3168720" cy="539568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76212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629400" y="609480"/>
            <a:ext cx="2133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80880" y="0"/>
            <a:ext cx="8229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ord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mi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a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08660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523880"/>
            <a:ext cx="3657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ars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40388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Word Buil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12193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4382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u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220968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k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312408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41972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u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411480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50292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0958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h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579132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Word Buil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12952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4382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h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22096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312408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41972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u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11480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build and blend words with /kw/ qu and other known letter-soun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228600"/>
            <a:ext cx="6400800" cy="56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Digraphs /kw/qu, /hw/wh, /th/ 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Quinn is my c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e is as quick as a win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e kicks his legs.  Bump! Thu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What upset the buck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Quinn did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Whiz! Which way did Quinn 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There he is on my thick quil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CartoonCat" descr=""/>
          <p:cNvPicPr/>
          <p:nvPr/>
        </p:nvPicPr>
        <p:blipFill>
          <a:blip r:embed="rId1"/>
          <a:stretch/>
        </p:blipFill>
        <p:spPr>
          <a:xfrm>
            <a:off x="6477120" y="2895480"/>
            <a:ext cx="232092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a6a6"/>
                </a:solidFill>
                <a:latin typeface="Times New Roman"/>
              </a:rPr>
              <a:t>This Week’s Spell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2286000" y="1295280"/>
            <a:ext cx="179064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Comic Sans MS"/>
              </a:rPr>
              <a:t>qu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Comic Sans MS"/>
              </a:rPr>
              <a:t>qui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Comic Sans MS"/>
              </a:rPr>
              <a:t>qui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whi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wh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57600" y="1600200"/>
            <a:ext cx="2023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a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p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Comic Sans MS"/>
              </a:rPr>
              <a:t>ho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Comic Sans MS"/>
              </a:rPr>
              <a:t>p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6397920" y="6019920"/>
            <a:ext cx="251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bjective:  To blend sounds into wor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3:30:44Z</dcterms:created>
  <dc:creator>Federated Group</dc:creator>
  <dc:description/>
  <dc:language>en-US</dc:language>
  <cp:lastModifiedBy> </cp:lastModifiedBy>
  <dcterms:modified xsi:type="dcterms:W3CDTF">2009-12-15T05:01:32Z</dcterms:modified>
  <cp:revision>4</cp:revision>
  <dc:subject/>
  <dc:title>PowerPoint Presentation</dc:title>
</cp:coreProperties>
</file>