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FD2-30CE-4C66-93EB-C58FFE27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B2-CB8E-4DE8-B175-CA1A3E6E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4FB-B814-45F2-8A3F-5BB4C2FF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908-D4D6-4DB9-B8A9-445BF9E4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B7E-0683-4429-8050-A587509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54B-6CA3-4D2B-8962-6FB559B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052-FF1E-413F-993E-B63A8A6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955-A95D-4127-B4DD-5BC3A5D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C05-AAEA-4BC5-B663-CFA16BC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2E8-16E1-4E6B-BA07-D4BA118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B5B-F514-4F49-9CC7-C3BF7164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A9D-37B7-427D-83A8-2E1258B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135-1048-4BC2-9E32-9D95C90F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380880"/>
            <a:ext cx="58672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22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07200" y="30492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sk questions and observe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a strategy for comprehen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914400"/>
            <a:ext cx="73915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 in a story happen in a sequence that makes sense. Think about the order of events in “The Best Apple Crisp in the World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n you eat apple crisp before you mak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352680"/>
            <a:ext cx="800100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directions and tell whether they are in a sequence that makes sense. If not, help make sense of the dir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on your shoes, put on your socks, go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cereal in a bowl, eat, pour in some mil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ccomplishment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49440" y="2119320"/>
            <a:ext cx="60451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omas Rivera was writing his first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a mile wa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bout one of you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dmire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49440" y="1981080"/>
            <a:ext cx="6045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mas grew up, many people began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s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. Seuss because he wrote funny, clever rhym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 person yo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ell w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mbition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9440" y="2050920"/>
            <a:ext cx="604512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’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o tell stories like Grand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learn to play a musical instru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have th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Do you like to read books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reading books because 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Sam and I saw a squirr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It was looking at Sam and 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*</a:t>
            </a: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Remember I is used in the naming part of the sentence and me is used in the telling part.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Todd and ____ went to the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My dad went with Todd and 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154840" y="22860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28600"/>
            <a:ext cx="87631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I was born in Texas.  My family and I went from farm to farm picking crops.  I helped pick crops all day.  It was hard work.  At night, I had fun with my grandpa and his stori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rite about one of your ambitions.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hat you would like to do or be when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row u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038480" y="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Books to the Ceil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Why do you think the poet said “I’ll have a long beard by the time I read the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685800" y="990720"/>
            <a:ext cx="3168720" cy="539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ars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219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209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k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0292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2096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28600"/>
            <a:ext cx="640080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igraphs /kw/qu, /hw/wh, /th/ 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is my c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is as quick as a win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kicks his legs.  Bump! Thu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at upset the bu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di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iz! Which way did Quinn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re he is on my thick qui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artoonCat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320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 </cp:lastModifiedBy>
  <dcterms:modified xsi:type="dcterms:W3CDTF">2009-12-15T05:01:32Z</dcterms:modified>
  <cp:revision>4</cp:revision>
  <dc:subject/>
  <dc:title>PowerPoint Presentation</dc:title>
</cp:coreProperties>
</file>