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39E-2C45-4DBA-AF37-7134B86E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046-54DE-452E-889D-0769FAC7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583-6DFD-42C5-B31B-FD52408E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E92C-6FBD-485D-8133-BF57975C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B51-64AF-4977-8A97-6591205D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497-AAF9-43C4-8191-2112C293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3ED-FD3E-4584-93AE-683EA0F9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4EC-B601-4A7B-812B-9ABF8825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C7E-3F3A-47FE-995F-A2CCD9B0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638-7724-4AB0-9D10-523032FD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CB9-37CA-4C79-BE6F-391778BE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4670-56A3-4015-B451-63EB8467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4D96-5CEB-40B6-940C-729CCBEAC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533520"/>
            <a:ext cx="56386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, Day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Objectives: To use /kw/ qu, /hw/ wh, snd other known letter sounds to spell and writ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To spell and write known high frequenc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95280" y="1143000"/>
            <a:ext cx="6782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2362320"/>
            <a:ext cx="6095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266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2666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666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666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505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505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441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419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5249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5257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5257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Arial"/>
              </a:rPr>
              <a:t>This Week’s 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2286000" y="1295280"/>
            <a:ext cx="1790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457600" y="1600200"/>
            <a:ext cx="2023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p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p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6397920" y="6019920"/>
            <a:ext cx="25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 To blend sounds into wor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66680" y="1295280"/>
            <a:ext cx="723924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quen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"/>
            <a:ext cx="8305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determine the sequence of events while listening to a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o identify the selection as a text that has a sequenced text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495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The sequence of a story is the order in which the events tak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5627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et’s look at the story </a:t>
            </a:r>
            <a:r>
              <a:rPr b="1" lang="en-US" sz="1800" spc="-1" strike="noStrike" u="sng">
                <a:solidFill>
                  <a:srgbClr val="ff5050"/>
                </a:solidFill>
                <a:uFillTx/>
                <a:latin typeface="Arial"/>
              </a:rPr>
              <a:t>Fireflies, Fireflies Light My Way. 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here is an order in which the author sees the animals. Let’s discuss this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7542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Where and when does this story take place? 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2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n my signal discuss these questions with your partn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Let’s look at page 30 – how does this page help you remember the sequence of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accompl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dm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amb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88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ccomplish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447920"/>
            <a:ext cx="5029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you have had an accomplishment, you have worked hard to get something don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409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04920"/>
            <a:ext cx="838188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will name some things.  If it is an accomplishment that you would like to achieve then say “What an accomplishment!”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becoming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riting 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making a 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riting a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fighting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aking a 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dm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447920"/>
            <a:ext cx="44956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admire someone, you think that person is very special because of the things he or she does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35120"/>
            <a:ext cx="4419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80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I will name some people.  If you admire these people then clap once.  If not do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209680"/>
            <a:ext cx="7696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sports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good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bank rob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crying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champion 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the mayor of a big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b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144792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have an ambition, you want to do something very muc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05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do you like to go to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this place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On my signal, you will turn and talk to your partner to complete this 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think in _________ because 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861084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 will name some activities.  If you think the activities are an ambition that most children have then signal by giving a thumbs up.  If not do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Winning a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Eating an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eeting a famous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Hitting a home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Starring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oing to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5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0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049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bjective: To use knowledge of the appropriate use of I and me i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member that we use the word I in the naming part of the sentence and we use the word me in the telling part of the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85345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Where do these parts of the sentence belo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Mark and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Mom and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you and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Pam an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ad an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you an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7010280" y="54100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2280"/>
            <a:ext cx="70866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ersonal Nar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A personal narrative tells about something that has happened in a person’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It has a beginning, a middle, and an en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It has words lik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and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me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6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rite about something that happened in your life.  Make sure you use beginning, middle, and end in your story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Check to see if you told about something that happen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Use I and me in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Use capital letters where needed and punctu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010280" y="22860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95680" y="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 To appreciate the rhythm and rhyme of a poem; to relate the poem to one’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066680"/>
            <a:ext cx="78487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And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When I want to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When I’m ready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I have a secret place to 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And there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I’ll 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And think the though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That no one else should ever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8839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n my signal, turn and talk with your partner to answer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What does the person do in the secret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What do you think the secret place looks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How does this poem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the beginning phonemes from a wor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23880"/>
            <a:ext cx="3962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038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066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Let’s review adding –ed and –ing to the end of a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Objectives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To read inflectional forms with –ed and –ing with a doubled final conso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3200" y="25146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00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43200" y="3657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029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09680" y="563868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28600" y="152280"/>
          <a:ext cx="8915400" cy="1341144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733920"/>
              </a:tblGrid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Root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ouble the consonant add –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ste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ba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ouble the consonant add –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ste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r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ba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opp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was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ok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for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potted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Grandma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ugg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grinn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bega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a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said, “Let’s go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Yes!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hatt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re fun,” said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2:35:51Z</dcterms:created>
  <dc:creator>Valued Gateway Client</dc:creator>
  <dc:description/>
  <dc:language>en-US</dc:language>
  <cp:lastModifiedBy> </cp:lastModifiedBy>
  <dcterms:modified xsi:type="dcterms:W3CDTF">2009-12-15T05:18:26Z</dcterms:modified>
  <cp:revision>4</cp:revision>
  <dc:subject/>
  <dc:title>Slide 1</dc:title>
</cp:coreProperties>
</file>