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4D9-0832-4B3D-B018-223C86DB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BD4-637E-40B7-8DED-4C017953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DE3-43EF-4BFA-BC3B-90DE16CA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1B3-02BF-47B3-8AFA-59A79E23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16F-1D01-46EC-8DC5-D8038B29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34B-7708-46D2-B46D-04B92DDB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26B-8A0A-4F9C-92E2-D2A914A7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59D-CD83-4DB2-A923-2C90EEC8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219-C789-499A-8C90-67639501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950-CF21-4333-B65E-9A46A0A4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1E0-384E-4F05-80F0-ED61B2A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C4B7-56E2-4A4E-A813-28D92FAA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0691-B8F3-4B44-BCCF-C2B633803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533520"/>
            <a:ext cx="56386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, Day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Objectives: To use /kw/ qu, /hw/ wh, snd other known letter sounds to spell and writ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To spell and write known high frequenc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95280" y="1143000"/>
            <a:ext cx="6782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2362320"/>
            <a:ext cx="6095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266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2666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666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666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505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505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4411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419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5249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5257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5257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a6a6"/>
                </a:solidFill>
                <a:latin typeface="Arial"/>
              </a:rPr>
              <a:t>This Week’s 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2286000" y="1295280"/>
            <a:ext cx="1790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457600" y="1600200"/>
            <a:ext cx="2023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p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p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6397920" y="6019920"/>
            <a:ext cx="25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bjective:  To blend sounds into wor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66680" y="1295280"/>
            <a:ext cx="723924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quen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"/>
            <a:ext cx="8305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determine the sequence of events while listening to a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o identify the selection as a text that has a sequenced text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495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The sequence of a story is the order in which the events tak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5627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Let’s look at the story </a:t>
            </a:r>
            <a:r>
              <a:rPr b="1" lang="en-US" sz="1800" spc="-1" strike="noStrike" u="sng">
                <a:solidFill>
                  <a:srgbClr val="ff5050"/>
                </a:solidFill>
                <a:uFillTx/>
                <a:latin typeface="Arial"/>
              </a:rPr>
              <a:t>Fireflies, Fireflies Light My Way. 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here is an order in which the author sees the animals. Let’s discuss this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7542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Where and when does this story take place? 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522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On my signal discuss these questions with your partn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4956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Let’s look at page 30 – how does this page help you remember the sequence of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accompl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dm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amb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88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ccomplish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447920"/>
            <a:ext cx="5029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f you have had an accomplishment, you have worked hard to get something don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409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304920"/>
            <a:ext cx="8381880" cy="59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will name some things.  If it is an accomplishment that you would like to achieve then say “What an accomplishment!”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becoming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riting 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making a 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riting a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fighting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aking a n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dm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447920"/>
            <a:ext cx="44956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admire someone, you think that person is very special because of the things he or she does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635120"/>
            <a:ext cx="4419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380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I will name some people.  If you admire these people then clap once.  If not do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209680"/>
            <a:ext cx="7696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sports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good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bank rob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crying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champion 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the mayor of a big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4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b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144792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have an ambition, you want to do something very muc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205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do you like to go to th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this place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On my signal, you will turn and talk to your partner to complete this 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think in _________ because 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8610840" cy="59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 will name some activities.  If you think the activities are an ambition that most children have then signal by giving a thumbs up.  If not do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Winning a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Eating an 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eeting a famous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Hitting a home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Starring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Going to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7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049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bjective: To use knowledge of the appropriate use of I and me i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member that we use the word I in the naming part of the sentence and we use the word me in the telling part of the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85345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Where do these parts of the sentence belo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Mark and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Mom and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you and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Pam and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ad and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you and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0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7010280" y="541008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2280"/>
            <a:ext cx="708660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ersonal Nar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A personal narrative tells about something that has happened in a person’s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It has a beginning, a middle, and an end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It has words like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and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me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rite about something that happened in your life.  Make sure you use beginning, middle, and end in your story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Check to see if you told about something that happen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Use I and me in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Use capital letters where needed and punctu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010280" y="22860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95680" y="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 To appreciate the rhythm and rhyme of a poem; to relate the poem to one’s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066680"/>
            <a:ext cx="78487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And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When I want to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When I’m ready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I have a secret place to 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And there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I’ll 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And think the though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That no one else should ever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0880"/>
            <a:ext cx="8839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On my signal, turn and talk with your partner to answer thes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What does the person do in the secret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What do you think the secret place looks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How does this poem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the beginning phonemes from a wor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23880"/>
            <a:ext cx="3962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0388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066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Let’s review adding –ed and –ing to the end of a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Objectives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To read inflectional forms with –ed and –ing with a doubled final conso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3200" y="251460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00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43200" y="365760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0292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09680" y="563868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28600" y="152280"/>
          <a:ext cx="8915400" cy="13411440"/>
        </p:xfrm>
        <a:graphic>
          <a:graphicData uri="http://schemas.openxmlformats.org/drawingml/2006/table">
            <a:tbl>
              <a:tblPr/>
              <a:tblGrid>
                <a:gridCol w="1523880"/>
                <a:gridCol w="3657600"/>
                <a:gridCol w="3733920"/>
              </a:tblGrid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Root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h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ouble the consonant add –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ste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r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h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ba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ouble the consonant add –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ste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r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h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ba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opp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was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ok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for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potted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Grandma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ugg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grinn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began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la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said, “Let’s go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Yes!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hatt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re fun,” said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2:35:51Z</dcterms:created>
  <dc:creator>Valued Gateway Client</dc:creator>
  <dc:description/>
  <dc:language>en-US</dc:language>
  <cp:lastModifiedBy> </cp:lastModifiedBy>
  <dcterms:modified xsi:type="dcterms:W3CDTF">2009-12-15T05:18:26Z</dcterms:modified>
  <cp:revision>4</cp:revision>
  <dc:subject/>
  <dc:title>Slide 1</dc:title>
</cp:coreProperties>
</file>