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7CAD-9BF6-4865-BD3F-BB07615E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444-6FAB-439C-A0DC-846099065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CB7B-CF69-434E-B072-E7FC4232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DECF-351F-4014-831E-C7D22412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DAAB-7EEA-4EAE-A41C-9990C4861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F491-DBBA-436E-8240-795149B2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68A-3929-476E-B012-DC3D3188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F534-851D-4166-9CAC-D183FE7C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75A0-8BBD-42C2-A01C-35DD66CF2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373-49A2-4DC2-A9DB-FE312A64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6185-EBC8-4E3F-89FD-475D935C5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A82-F8D2-4F22-8B14-C6EBC220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E23-8B32-4D9B-BA5D-D872E1AB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36D8-43C0-4C97-845A-4F4F9CD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7EA3-2866-49DC-A5BD-ADA4F962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AA1-97AD-4A18-9F88-9482747E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14A-1F14-4AA2-98FA-70AD1F5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EA5-0F3A-4807-9FD2-90F6DF84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A10-C91F-4289-ABAE-6A77080F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8C8-A9F0-4713-8B54-2A24884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249-51A6-4697-8257-360E510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0697-7BE1-485C-96B3-338E5728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480-63DF-49CC-83A0-2BEA1D2B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FA0-8027-4C5D-A084-3E14ABC0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0C0-4991-4C2C-B06B-62ABC313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6854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tap my feet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et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clap my hands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cl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nds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937160" y="289548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naming part of the blue senten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telling part of the brow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 of the naming and telling part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908720" y="4267080"/>
            <a:ext cx="529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__________________ like sn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A duck quacked at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276880" y="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97a0"/>
                </a:solidFill>
                <a:latin typeface="Aharoni"/>
                <a:ea typeface="Aharoni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533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ersonal narrative tells about a person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When I was a little girl, my parents took me to the ocean.  My first time in the ocean was scary.  I felt so nervous.  Then my mom held me while we walked through the waves.  Now the ocean does not scare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easide.jpg"/>
          <p:cNvPicPr/>
          <p:nvPr/>
        </p:nvPicPr>
        <p:blipFill>
          <a:blip r:embed="rId1"/>
          <a:stretch/>
        </p:blipFill>
        <p:spPr>
          <a:xfrm>
            <a:off x="2362320" y="340056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7010280" y="57150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4800600" y="179280"/>
            <a:ext cx="411480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Garamond"/>
              </a:rPr>
              <a:t>Write 2 or 3 sentences about something you did one time that was scary the first time you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proper name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343400" y="457200"/>
            <a:ext cx="480060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Teacher Pick 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 Winte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457200" y="1676520"/>
            <a:ext cx="4048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mworsham\Local Settings\Temporary Internet Files\Content.IE5\ADI22NDU\MPj04439150000[1]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178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C:\Documents and Settings\pawley\My Documents\queen.jpg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Documents and Settings\pawley\My Documents\whale.jpg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qu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wh,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90920" y="114300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9051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90920" y="2209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4956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14600" y="3124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2977200" y="1143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17524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593440" y="220968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1828800" y="31240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3129840" y="31240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1911960" y="388620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2974680" y="3886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3280680" y="3886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1911960" y="4495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2971800" y="4495680"/>
            <a:ext cx="1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 flipV="1" rot="10800000">
            <a:off x="3276360" y="449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1987920" y="51814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29757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34329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ad Spelling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We had a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ck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Which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part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goes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s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Beth is a </a:t>
            </a:r>
            <a:r>
              <a:rPr b="0" lang="en-US" sz="4000" spc="-1" strike="noStrike" u="sng">
                <a:solidFill>
                  <a:srgbClr val="92d050"/>
                </a:solidFill>
                <a:uFillTx/>
                <a:latin typeface="Comic Sans MS"/>
              </a:rPr>
              <a:t>whiz</a:t>
            </a: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 at m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Quit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pinching my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arm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724360" y="6095880"/>
            <a:ext cx="332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blend sounds into words; to re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is week’s spelling words in contex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06T03:20:02Z</dcterms:modified>
  <cp:revision>107</cp:revision>
  <dc:subject/>
  <dc:title>Slide 1</dc:title>
</cp:coreProperties>
</file>