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EB57-7BAF-4D41-924F-90120217B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8BE6-D4C3-48AD-800F-D0E721823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2635-E8DA-4028-8FB0-5BA48BADE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2A4D-D7A7-4316-B329-DAE4D7429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CD08-EBC2-4B43-8910-690C93240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CB7A-5642-4138-B1F1-0798761BD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0D97-BDDC-4073-B1D0-4C8A12440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166C-8243-4900-8E91-17DABB442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6539-877B-468E-A698-C63503A1F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C846-F1AF-4E4A-94FF-47B121FAF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D516-14F9-47E1-BCDA-E5F08A27B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35CF-D735-4BCC-A277-AB3138145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A09-2806-425D-91CC-F76986E3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A7A-9585-4ECA-B321-409B7BCC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CA0-5C92-4F32-BC75-68378A8E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1AF-4B70-4754-BED2-6ED1D528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3F2-8BCF-4959-8813-4D0A7C82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7D03-04D4-41E2-9748-321405FE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F79-67EA-43CB-84E1-F482F898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AD7-C10D-4FA4-82C5-87A7E211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985-B101-4372-8F4A-A47022D7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6A9-77C0-4CA7-A75D-C0188E2D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50D-F2B5-4595-928B-E4C909D5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A09-AB3B-45E1-A639-51B8070E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CBD0-6446-4D08-AD63-9F5CA59E8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09680" y="6854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28600" y="152280"/>
          <a:ext cx="8915400" cy="13411440"/>
        </p:xfrm>
        <a:graphic>
          <a:graphicData uri="http://schemas.openxmlformats.org/drawingml/2006/table">
            <a:tbl>
              <a:tblPr/>
              <a:tblGrid>
                <a:gridCol w="1523880"/>
                <a:gridCol w="3657600"/>
                <a:gridCol w="3733920"/>
              </a:tblGrid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Root 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st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h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ouble the consonant add –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ste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rag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ho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bat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ouble the consonant add –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ste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rag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ho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ba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0" y="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opp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up and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he was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look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for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potted 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Grandma and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hugg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grinned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nd began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la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he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he said, “Let’s go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Yes! 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hatting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 are fun,” said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omic Sans MS"/>
              </a:rPr>
              <a:t>I tap my feet.  1, 2,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ap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ou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eet.  </a:t>
            </a:r>
            <a:r>
              <a:rPr b="0" lang="en-US" sz="3200" spc="-1" strike="noStrike">
                <a:solidFill>
                  <a:srgbClr val="996633"/>
                </a:solidFill>
                <a:latin typeface="Comic Sans MS"/>
              </a:rPr>
              <a:t>You’re just lik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6bcf"/>
                </a:solidFill>
                <a:latin typeface="Comic Sans MS"/>
              </a:rPr>
              <a:t>I clap my hands.  1, 2,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clap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ou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nds.  </a:t>
            </a:r>
            <a:r>
              <a:rPr b="0" lang="en-US" sz="3200" spc="-1" strike="noStrike">
                <a:solidFill>
                  <a:srgbClr val="996633"/>
                </a:solidFill>
                <a:latin typeface="Comic Sans MS"/>
              </a:rPr>
              <a:t>You’re just like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937160" y="289548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the naming part of the blue sentenc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the telling part of the brown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the blanks of the naming and telling parts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908720" y="4267080"/>
            <a:ext cx="529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33"/>
                </a:solidFill>
                <a:latin typeface="Comic Sans MS"/>
              </a:rPr>
              <a:t>__________________ like sna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33"/>
                </a:solidFill>
                <a:latin typeface="Comic Sans MS"/>
              </a:rPr>
              <a:t>A duck quacked at 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5276880" y="0"/>
            <a:ext cx="374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use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subject of the sentence and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m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ate; to use knowledge of basic rules of capitalization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Nar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al narrative tells about something that has happened in a person’s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beginning, middle, and an 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words li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657600" y="15228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 moved to Texas when I was five. We packed boxes and put them in a big truck.  I felt so sad.  We drove for many hours.  Then we saw our new house.  It looked nice.  My new room was just right for me.  I decided that day that I liked Tex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Model: Personal Narr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657600" y="15228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understand that a personal narrative tells about someone’s experiences. To develop a list of criteria for effective personal narrat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597a0"/>
                </a:solidFill>
                <a:latin typeface="Aharoni"/>
                <a:ea typeface="Aharoni"/>
              </a:rPr>
              <a:t>Personal Nar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280" y="533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ersonal narrative tells about a person’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70c0"/>
                </a:solidFill>
                <a:latin typeface="Comic Sans MS"/>
              </a:rPr>
              <a:t>When I was a little girl, my parents took me to the ocean.  My first time in the ocean was scary.  I felt so nervous.  Then my mom held me while we walked through the waves.  Now the ocean does not scare 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seaside.jpg"/>
          <p:cNvPicPr/>
          <p:nvPr/>
        </p:nvPicPr>
        <p:blipFill>
          <a:blip r:embed="rId1"/>
          <a:stretch/>
        </p:blipFill>
        <p:spPr>
          <a:xfrm>
            <a:off x="2362320" y="3400560"/>
            <a:ext cx="4610160" cy="34574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7010280" y="571500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ontent Placeholder 3" descr="Picture1.jpg"/>
          <p:cNvPicPr/>
          <p:nvPr/>
        </p:nvPicPr>
        <p:blipFill>
          <a:blip r:embed="rId1"/>
          <a:stretch/>
        </p:blipFill>
        <p:spPr>
          <a:xfrm>
            <a:off x="380880" y="152388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4800600" y="179280"/>
            <a:ext cx="4114800" cy="87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Garamond"/>
              </a:rPr>
              <a:t>Write 2 or 3 sentences about something you did one time that was scary the first time you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aramond"/>
              </a:rPr>
              <a:t>WIL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the first word of each sentence begins with a capital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proper names begin with capital lett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Remember that sentences end with periods, exclamation points, or question 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0" y="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ive:  To compose coherent sentences in a personal narrative; to generate ideas before writing on assigned tasks; to select a focus for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38880" y="-360"/>
            <a:ext cx="1905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for a purp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343400" y="457200"/>
            <a:ext cx="480060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Teacher Pick Read Alou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A Winter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C:\Program Files\Microsoft Office\MEDIA\CAGCAT10\j0299587.wmf"/>
          <p:cNvPicPr/>
          <p:nvPr/>
        </p:nvPicPr>
        <p:blipFill>
          <a:blip r:embed="rId1"/>
          <a:stretch/>
        </p:blipFill>
        <p:spPr>
          <a:xfrm>
            <a:off x="457200" y="1676520"/>
            <a:ext cx="4048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phonemes into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C:\Documents and Settings\mworsham\Local Settings\Temporary Internet Files\Content.IE5\ADI22NDU\MPj04439150000[1].jpg"/>
          <p:cNvPicPr/>
          <p:nvPr/>
        </p:nvPicPr>
        <p:blipFill>
          <a:blip r:embed="rId1"/>
          <a:stretch/>
        </p:blipFill>
        <p:spPr>
          <a:xfrm>
            <a:off x="4572000" y="2590920"/>
            <a:ext cx="431784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und  /kw/qu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graphs /kw/ q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4038480" y="1219320"/>
            <a:ext cx="464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kw/ sound at the beginning, put your thumb up say /kw/.  When I say a word that does not have /kw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0" descr="C:\Documents and Settings\pawley\My Documents\queen.jpg"/>
          <p:cNvPicPr/>
          <p:nvPr/>
        </p:nvPicPr>
        <p:blipFill>
          <a:blip r:embed="rId1"/>
          <a:stretch/>
        </p:blipFill>
        <p:spPr>
          <a:xfrm>
            <a:off x="533520" y="1295280"/>
            <a:ext cx="3297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sound  /hw/wh.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228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graphs /hw/ w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267080" y="1219320"/>
            <a:ext cx="4419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hw/ sound at the beginning, put your thumb up say /hw/.  When I say a word that does not have /hw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C:\Documents and Settings\pawley\My Documents\whale.jpg"/>
          <p:cNvPicPr/>
          <p:nvPr/>
        </p:nvPicPr>
        <p:blipFill>
          <a:blip r:embed="rId1"/>
          <a:stretch/>
        </p:blipFill>
        <p:spPr>
          <a:xfrm>
            <a:off x="380880" y="1523880"/>
            <a:ext cx="365760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words containing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 qu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wh,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and other known 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590920" y="114300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1905120" y="11430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2590920" y="220968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4495680" y="1981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200400" y="4495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514600" y="31240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2977200" y="11430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6"/>
          <p:cNvSpPr/>
          <p:nvPr/>
        </p:nvSpPr>
        <p:spPr>
          <a:xfrm>
            <a:off x="1752480" y="2209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7"/>
          <p:cNvSpPr/>
          <p:nvPr/>
        </p:nvSpPr>
        <p:spPr>
          <a:xfrm>
            <a:off x="2593440" y="2209680"/>
            <a:ext cx="34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8"/>
          <p:cNvSpPr/>
          <p:nvPr/>
        </p:nvSpPr>
        <p:spPr>
          <a:xfrm>
            <a:off x="1828800" y="31240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3129840" y="312408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1911960" y="388620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2974680" y="3886200"/>
            <a:ext cx="34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3280680" y="38862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1911960" y="449568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2971800" y="4495680"/>
            <a:ext cx="18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 flipV="1" rot="10800000">
            <a:off x="3276360" y="44946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1987920" y="5181480"/>
            <a:ext cx="115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7"/>
          <p:cNvSpPr/>
          <p:nvPr/>
        </p:nvSpPr>
        <p:spPr>
          <a:xfrm>
            <a:off x="2975760" y="51814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8"/>
          <p:cNvSpPr/>
          <p:nvPr/>
        </p:nvSpPr>
        <p:spPr>
          <a:xfrm>
            <a:off x="3432960" y="51814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Read Spelling Words in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omic Sans MS"/>
              </a:rPr>
              <a:t>We had a </a:t>
            </a:r>
            <a:r>
              <a:rPr b="0" lang="en-US" sz="4000" spc="-1" strike="noStrike" u="sng">
                <a:solidFill>
                  <a:srgbClr val="00b0f0"/>
                </a:solidFill>
                <a:uFillTx/>
                <a:latin typeface="Comic Sans MS"/>
              </a:rPr>
              <a:t>quick</a:t>
            </a:r>
            <a:r>
              <a:rPr b="0" lang="en-US" sz="40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00b0f0"/>
                </a:solidFill>
                <a:uFillTx/>
                <a:latin typeface="Comic Sans MS"/>
              </a:rPr>
              <a:t>quiz</a:t>
            </a:r>
            <a:r>
              <a:rPr b="0" lang="en-US" sz="4000" spc="-1" strike="noStrike">
                <a:solidFill>
                  <a:srgbClr val="00b0f0"/>
                </a:solidFill>
                <a:latin typeface="Comic Sans MS"/>
              </a:rPr>
              <a:t> in cl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00000"/>
                </a:solidFill>
                <a:uFillTx/>
                <a:latin typeface="Comic Sans MS"/>
              </a:rPr>
              <a:t>Which</a:t>
            </a:r>
            <a:r>
              <a:rPr b="0" lang="en-US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c00000"/>
                </a:solidFill>
                <a:uFillTx/>
                <a:latin typeface="Comic Sans MS"/>
              </a:rPr>
              <a:t>part</a:t>
            </a:r>
            <a:r>
              <a:rPr b="0" lang="en-US" sz="4000" spc="-1" strike="noStrike">
                <a:solidFill>
                  <a:srgbClr val="c00000"/>
                </a:solidFill>
                <a:latin typeface="Comic Sans MS"/>
              </a:rPr>
              <a:t> goes 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When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is the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quiz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Comic Sans MS"/>
              </a:rPr>
              <a:t>Beth is a </a:t>
            </a:r>
            <a:r>
              <a:rPr b="0" lang="en-US" sz="4000" spc="-1" strike="noStrike" u="sng">
                <a:solidFill>
                  <a:srgbClr val="92d050"/>
                </a:solidFill>
                <a:uFillTx/>
                <a:latin typeface="Comic Sans MS"/>
              </a:rPr>
              <a:t>whiz</a:t>
            </a:r>
            <a:r>
              <a:rPr b="0" lang="en-US" sz="4000" spc="-1" strike="noStrike">
                <a:solidFill>
                  <a:srgbClr val="92d050"/>
                </a:solidFill>
                <a:latin typeface="Comic Sans MS"/>
              </a:rPr>
              <a:t> at ma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70c0"/>
                </a:solidFill>
                <a:uFillTx/>
                <a:latin typeface="Comic Sans MS"/>
              </a:rPr>
              <a:t>Quit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 pinching my </a:t>
            </a:r>
            <a:r>
              <a:rPr b="0" lang="en-US" sz="4000" spc="-1" strike="noStrike" u="sng">
                <a:solidFill>
                  <a:srgbClr val="0070c0"/>
                </a:solidFill>
                <a:uFillTx/>
                <a:latin typeface="Comic Sans MS"/>
              </a:rPr>
              <a:t>arm</a:t>
            </a: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724360" y="6095880"/>
            <a:ext cx="3327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Objective:  To blend sounds into words; to rea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is week’s spelling words in contex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28600" y="1066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Let’s review adding –ed and –ing to the end of a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0880" y="22860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Objectives: To recognize roo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To read inflectional forms with –ed and –ing with a doubled final conso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2743200" y="2514600"/>
            <a:ext cx="36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28600" y="3200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On my signal tell me what the word stop would become when we add -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10"/>
          <p:cNvSpPr txBox="1"/>
          <p:nvPr/>
        </p:nvSpPr>
        <p:spPr>
          <a:xfrm>
            <a:off x="2743200" y="365760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28600" y="50292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</a:rPr>
              <a:t>On my signal tell me what the word stop would become when we add -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12"/>
          <p:cNvSpPr txBox="1"/>
          <p:nvPr/>
        </p:nvSpPr>
        <p:spPr>
          <a:xfrm>
            <a:off x="2209680" y="5638680"/>
            <a:ext cx="4724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mworsham</cp:lastModifiedBy>
  <dcterms:modified xsi:type="dcterms:W3CDTF">2010-01-06T03:20:02Z</dcterms:modified>
  <cp:revision>107</cp:revision>
  <dc:subject/>
  <dc:title>Slide 1</dc:title>
</cp:coreProperties>
</file>