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2107-F207-47C2-9C6C-00F4A4CEC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CBA1-D4A4-4332-8ED9-8403CAF1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8B0C-EE8B-48CA-8A20-089107169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D335-489B-46B2-8FB4-DC351495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BF38-E6F7-4F4D-B5C7-12B8B6FD0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0BF5-58F7-46A7-BAEA-CD7E2E651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26E7-64E7-4D0C-9B84-9ADB9BF92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996C-41E2-4076-934F-B973D3ABF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7ADE-E5D3-46FE-8C40-F08753407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DB06-2D5B-4F9C-B8EC-9F958491F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F11F-E0BE-4D57-ADA0-E8243F70F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5DFE-AAB0-4140-8BB5-E06859F09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CC4F-97A3-4A76-A239-EB3944C23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89E7-208A-4B7A-A912-F0BFA6318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C40E-3FFB-492E-9F63-F802E7BE0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F16A-8877-470C-B33A-0F61BA6BA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858A-7578-4904-B5D2-C02E398F4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C9AA-F436-461F-BD05-43BD73569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DB25-700B-429F-B5FC-C36986083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0289-EE37-436D-ABE6-A37139399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C2F-B9EF-44B9-B83C-C49BBD8CD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7F8C-604F-497E-A506-DF9DE9980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C21-E343-45C0-89D7-0105E391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5D6-21B5-403B-B93B-58B0C20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C6F-7D09-475B-84F4-018D7611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4CD2-EAFB-4524-A1F6-1E8B56EF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572-3A37-4037-A4D3-7D665D5C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D53-CCD2-4F1D-A871-96DEA723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F9E-58EF-4BD0-B975-FCA1B6F6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0F9-B4D1-46AB-A9BF-AB8C4572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7B8-C57C-4172-987A-86FB9AC7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EE0-B683-4F4E-9058-AFB18F69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424A-96A3-4C43-859E-93D6CB02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FE2-9F40-4D59-B885-ECB12320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B535-1166-44E2-98E2-30B625798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6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en comes firs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Kit is thi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5715000" y="2057400"/>
            <a:ext cx="2819520" cy="41911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191120"/>
              <a:gd name="textAreaBottom" fmla="*/ 4053600 h 4191120"/>
            </a:gdLst>
            <a:ahLst/>
            <a:rect l="textAreaLeft" t="textAreaTop" r="textAreaRight" b="textAreaBottom"/>
            <a:pathLst>
              <a:path w="21600" h="32106">
                <a:moveTo>
                  <a:pt x="3600" y="0"/>
                </a:moveTo>
                <a:arcTo wR="3600" hR="3600" stAng="16200000" swAng="-5400000"/>
                <a:lnTo>
                  <a:pt x="0" y="28506"/>
                </a:lnTo>
                <a:arcTo wR="3600" hR="3600" stAng="10800000" swAng="-5400000"/>
                <a:lnTo>
                  <a:pt x="18000" y="32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867280" y="2286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2895480" y="2057400"/>
            <a:ext cx="2819520" cy="41911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191120"/>
              <a:gd name="textAreaBottom" fmla="*/ 4053600 h 4191120"/>
            </a:gdLst>
            <a:ahLst/>
            <a:rect l="textAreaLeft" t="textAreaTop" r="textAreaRight" b="textAreaBottom"/>
            <a:pathLst>
              <a:path w="21600" h="32106">
                <a:moveTo>
                  <a:pt x="3600" y="0"/>
                </a:moveTo>
                <a:arcTo wR="3600" hR="3600" stAng="16200000" swAng="-5400000"/>
                <a:lnTo>
                  <a:pt x="0" y="28506"/>
                </a:lnTo>
                <a:arcTo wR="3600" hR="3600" stAng="10800000" swAng="-5400000"/>
                <a:lnTo>
                  <a:pt x="18000" y="32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228600" y="2057400"/>
            <a:ext cx="2666880" cy="419112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191120"/>
              <a:gd name="textAreaBottom" fmla="*/ 4061160 h 4191120"/>
            </a:gdLst>
            <a:ahLst/>
            <a:rect l="textAreaLeft" t="textAreaTop" r="textAreaRight" b="textAreaBottom"/>
            <a:pathLst>
              <a:path w="21600" h="33944">
                <a:moveTo>
                  <a:pt x="3600" y="0"/>
                </a:moveTo>
                <a:arcTo wR="3600" hR="3600" stAng="16200000" swAng="-5400000"/>
                <a:lnTo>
                  <a:pt x="0" y="30344"/>
                </a:lnTo>
                <a:arcTo wR="3600" hR="3600" stAng="10800000" swAng="-5400000"/>
                <a:lnTo>
                  <a:pt x="18000" y="339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8088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3352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Lion and the Mous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620120" y="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et a purpose for listening.  To understand characteristics of f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7" descr="MCj0424128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5257800" cy="4379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MCj04241380000[1]"/>
          <p:cNvPicPr/>
          <p:nvPr/>
        </p:nvPicPr>
        <p:blipFill>
          <a:blip r:embed="rId2"/>
          <a:stretch/>
        </p:blipFill>
        <p:spPr>
          <a:xfrm>
            <a:off x="5715000" y="4800600"/>
            <a:ext cx="30481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239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have captur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caught it and are not letting it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aptu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9" descr="MPj04389220000[1]"/>
          <p:cNvPicPr/>
          <p:nvPr/>
        </p:nvPicPr>
        <p:blipFill>
          <a:blip r:embed="rId1"/>
          <a:stretch/>
        </p:blipFill>
        <p:spPr>
          <a:xfrm>
            <a:off x="304920" y="1752480"/>
            <a:ext cx="4498920" cy="449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capture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iny mouse with its huge p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onc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butterfly and then let it go after looking a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bserve a spider or a turtl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erc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48320" y="1752480"/>
            <a:ext cx="424656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show kindness or forgiveness to someone who has done something wrong, you show merc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epa1301l"/>
          <p:cNvPicPr/>
          <p:nvPr/>
        </p:nvPicPr>
        <p:blipFill>
          <a:blip r:embed="rId1"/>
          <a:stretch/>
        </p:blipFill>
        <p:spPr>
          <a:xfrm>
            <a:off x="304920" y="1905120"/>
            <a:ext cx="4495680" cy="417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rified mouse begged the lion f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d been the lion, would you have show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would you have eaten the m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struggling, you are making a great effort with your body or mind to do some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133720" y="228600"/>
            <a:ext cx="472428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trugg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MCj03910400000[1]"/>
          <p:cNvPicPr/>
          <p:nvPr/>
        </p:nvPicPr>
        <p:blipFill>
          <a:blip r:embed="rId1"/>
          <a:stretch/>
        </p:blipFill>
        <p:spPr>
          <a:xfrm>
            <a:off x="0" y="2514600"/>
            <a:ext cx="464832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about a lion you hav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did you see it, what did it look lik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nd what was it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saw a lion 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The lion had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t wa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use found the King of Beas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ree himself from the hunters’ tangled 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 had to tie my shoes with one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to write your name with your eyes closed or to make your bed using only one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34320" y="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52280" y="152388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on decided to take a short nap one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stretched out and soon fell asl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g has a red c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6"/>
          <p:cNvSpPr/>
          <p:nvPr/>
        </p:nvSpPr>
        <p:spPr>
          <a:xfrm>
            <a:off x="6934320" y="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7" descr="la31"/>
          <p:cNvPicPr/>
          <p:nvPr/>
        </p:nvPicPr>
        <p:blipFill>
          <a:blip r:embed="rId1"/>
          <a:stretch/>
        </p:blipFill>
        <p:spPr>
          <a:xfrm>
            <a:off x="1066680" y="0"/>
            <a:ext cx="586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84872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from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M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934320" y="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72428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la32"/>
          <p:cNvPicPr/>
          <p:nvPr/>
        </p:nvPicPr>
        <p:blipFill>
          <a:blip r:embed="rId1"/>
          <a:stretch/>
        </p:blipFill>
        <p:spPr>
          <a:xfrm>
            <a:off x="2093760" y="0"/>
            <a:ext cx="495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an Invi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1522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 Ide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71600" y="9144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identify sound and directio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We’re Going on a Lion Hu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MPj04317910000[1]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MCj04174500000[1]"/>
          <p:cNvPicPr/>
          <p:nvPr/>
        </p:nvPicPr>
        <p:blipFill>
          <a:blip r:embed="rId1"/>
          <a:stretch/>
        </p:blipFill>
        <p:spPr>
          <a:xfrm>
            <a:off x="5029200" y="2438280"/>
            <a:ext cx="38862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er, ir, 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45820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r-controlled vowel er, ir, 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ur/ sound at the end, snap your fingers and say /ur/.  When I say a word that does not have /ar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middle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0" descr="MCj04374630000[1]"/>
          <p:cNvPicPr/>
          <p:nvPr/>
        </p:nvPicPr>
        <p:blipFill>
          <a:blip r:embed="rId1"/>
          <a:stretch/>
        </p:blipFill>
        <p:spPr>
          <a:xfrm>
            <a:off x="0" y="1828800"/>
            <a:ext cx="54100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50532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6483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429000" y="3657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2767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4038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4572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4038480" y="4648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472428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3526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495680" y="3505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38098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4290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8862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43434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3276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8098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10T21:17:23Z</dcterms:modified>
  <cp:revision>107</cp:revision>
  <dc:subject/>
  <dc:title>Slide 1</dc:title>
</cp:coreProperties>
</file>