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E192-0AA8-43C8-87F7-C95CA14A2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6B24-2BA3-4006-AE38-8A0C435D8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9BC0-FFD3-4A97-9B86-659FD65D6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AA98-33B0-4A21-AA8B-C87A86588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546D-F57D-4987-B509-AA1D07D3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A9C-B7BC-4501-8610-8ED38EA8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8D77-7128-461B-A7CC-D96262A64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000B-0D3C-49B5-93E2-E77D78A7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0FD4-8006-46BB-B400-88775AF69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3D0E-F1CF-4CD9-8E14-07B33DCFA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2185-FB4D-4B30-A015-A8C9AE507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340B-46A3-4FC5-97DD-F3CF0D03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89EA-7241-4280-B7E6-A7F15F6D4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3A2D-535C-4731-8A35-12E3972C7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AA85-3F11-47D7-9E1A-2A0E58791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2C37-EDE7-41AC-B859-44C70A6E4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5F17-5A9B-40FC-8D35-936D7581F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433D-45E3-4B30-A1AA-E5CC5336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D373-22C8-427E-9FB0-4F6468535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7ACF-7126-440C-9EAE-0EBABE5E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D340-B651-4B58-A99A-F2B2F2639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86DD-3A3B-48A8-B32C-28FB16EFE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E79-CF0E-451A-BD00-8C40136D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472A-D062-4AD4-B114-42ADFBB0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6F4-079F-4FC3-90DF-F237B61C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0A1-962E-4BC5-B552-B7203A0A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A5A-B9BF-415E-BF4F-D149313A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311-E759-4DC8-8155-F444B4DD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6BC-6AAF-4933-B56C-F25FDEC0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55EB-D6D7-4A8E-B70B-BFD23E8B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82F-FBE8-498F-95B5-272C989A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9BA-487F-484E-BB8D-B9C5AF54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B9E-AB7E-4511-B38B-38D9B1E9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568-16E7-4611-8B59-0869330A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4216-3CD0-4A10-9149-7575A866C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6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en comes firs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Kit is thi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5715000" y="2057400"/>
            <a:ext cx="2819520" cy="41911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191120"/>
              <a:gd name="textAreaBottom" fmla="*/ 4053600 h 4191120"/>
            </a:gdLst>
            <a:ahLst/>
            <a:rect l="textAreaLeft" t="textAreaTop" r="textAreaRight" b="textAreaBottom"/>
            <a:pathLst>
              <a:path w="21600" h="32106">
                <a:moveTo>
                  <a:pt x="3600" y="0"/>
                </a:moveTo>
                <a:arcTo wR="3600" hR="3600" stAng="16200000" swAng="-5400000"/>
                <a:lnTo>
                  <a:pt x="0" y="28506"/>
                </a:lnTo>
                <a:arcTo wR="3600" hR="3600" stAng="10800000" swAng="-5400000"/>
                <a:lnTo>
                  <a:pt x="18000" y="32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867280" y="2286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2895480" y="2057400"/>
            <a:ext cx="2819520" cy="41911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191120"/>
              <a:gd name="textAreaBottom" fmla="*/ 4053600 h 4191120"/>
            </a:gdLst>
            <a:ahLst/>
            <a:rect l="textAreaLeft" t="textAreaTop" r="textAreaRight" b="textAreaBottom"/>
            <a:pathLst>
              <a:path w="21600" h="32106">
                <a:moveTo>
                  <a:pt x="3600" y="0"/>
                </a:moveTo>
                <a:arcTo wR="3600" hR="3600" stAng="16200000" swAng="-5400000"/>
                <a:lnTo>
                  <a:pt x="0" y="28506"/>
                </a:lnTo>
                <a:arcTo wR="3600" hR="3600" stAng="10800000" swAng="-5400000"/>
                <a:lnTo>
                  <a:pt x="18000" y="32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228600" y="2057400"/>
            <a:ext cx="2666880" cy="419112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191120"/>
              <a:gd name="textAreaBottom" fmla="*/ 4061160 h 4191120"/>
            </a:gdLst>
            <a:ahLst/>
            <a:rect l="textAreaLeft" t="textAreaTop" r="textAreaRight" b="textAreaBottom"/>
            <a:pathLst>
              <a:path w="21600" h="33944">
                <a:moveTo>
                  <a:pt x="3600" y="0"/>
                </a:moveTo>
                <a:arcTo wR="3600" hR="3600" stAng="16200000" swAng="-5400000"/>
                <a:lnTo>
                  <a:pt x="0" y="30344"/>
                </a:lnTo>
                <a:arcTo wR="3600" hR="3600" stAng="10800000" swAng="-5400000"/>
                <a:lnTo>
                  <a:pt x="18000" y="339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8088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352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Lion and the Mous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t a purpose for listening.  To understand characteristics of f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7" descr="MCj0424128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5257800" cy="4379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MCj04241380000[1]"/>
          <p:cNvPicPr/>
          <p:nvPr/>
        </p:nvPicPr>
        <p:blipFill>
          <a:blip r:embed="rId2"/>
          <a:stretch/>
        </p:blipFill>
        <p:spPr>
          <a:xfrm>
            <a:off x="5715000" y="4800600"/>
            <a:ext cx="30481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239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have captur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caught it and are not letting it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aptu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MPj04389220000[1]"/>
          <p:cNvPicPr/>
          <p:nvPr/>
        </p:nvPicPr>
        <p:blipFill>
          <a:blip r:embed="rId1"/>
          <a:stretch/>
        </p:blipFill>
        <p:spPr>
          <a:xfrm>
            <a:off x="304920" y="1752480"/>
            <a:ext cx="4498920" cy="449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capture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iny mouse with its huge p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onc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butterfly and then let it go after looking a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bserve a spider or a turtl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erc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48320" y="1752480"/>
            <a:ext cx="424656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show kindness or forgiveness to someone who has done something wrong, you show merc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epa1301l"/>
          <p:cNvPicPr/>
          <p:nvPr/>
        </p:nvPicPr>
        <p:blipFill>
          <a:blip r:embed="rId1"/>
          <a:stretch/>
        </p:blipFill>
        <p:spPr>
          <a:xfrm>
            <a:off x="304920" y="1905120"/>
            <a:ext cx="4495680" cy="417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rified mouse begged the lion f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d been the lion, would you have show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would you have eaten the m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struggling, you are making a great effort with your body or mind to do some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133720" y="228600"/>
            <a:ext cx="472428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trugg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MCj03910400000[1]"/>
          <p:cNvPicPr/>
          <p:nvPr/>
        </p:nvPicPr>
        <p:blipFill>
          <a:blip r:embed="rId1"/>
          <a:stretch/>
        </p:blipFill>
        <p:spPr>
          <a:xfrm>
            <a:off x="0" y="2514600"/>
            <a:ext cx="46483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about a lion you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did you see it, what did it look li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nd what was it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saw a lion 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The lion had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t wa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use found the King of Beas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ree himself from the hunters’ tangled 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 had to tie my shoes with one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to write your name with your eyes closed or to make your bed using only on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34320" y="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52280" y="152388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on decided to take a short nap one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stretched out and soon fell asl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g has a red 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6"/>
          <p:cNvSpPr/>
          <p:nvPr/>
        </p:nvSpPr>
        <p:spPr>
          <a:xfrm>
            <a:off x="6934320" y="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7" descr="la31"/>
          <p:cNvPicPr/>
          <p:nvPr/>
        </p:nvPicPr>
        <p:blipFill>
          <a:blip r:embed="rId1"/>
          <a:stretch/>
        </p:blipFill>
        <p:spPr>
          <a:xfrm>
            <a:off x="1066680" y="0"/>
            <a:ext cx="58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84872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from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M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934320" y="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72428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la32"/>
          <p:cNvPicPr/>
          <p:nvPr/>
        </p:nvPicPr>
        <p:blipFill>
          <a:blip r:embed="rId1"/>
          <a:stretch/>
        </p:blipFill>
        <p:spPr>
          <a:xfrm>
            <a:off x="2093760" y="0"/>
            <a:ext cx="49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an Invi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1522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Ide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71600" y="9144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identify sound and direct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We’re Going on a Lion Hu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MPj04317910000[1]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MCj04174500000[1]"/>
          <p:cNvPicPr/>
          <p:nvPr/>
        </p:nvPicPr>
        <p:blipFill>
          <a:blip r:embed="rId1"/>
          <a:stretch/>
        </p:blipFill>
        <p:spPr>
          <a:xfrm>
            <a:off x="5029200" y="2438280"/>
            <a:ext cx="38862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er, ir, 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45820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r-controlled vowel er, ir, 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ur/ sound at the end, snap your fingers and say /ur/.  When I say a word that does not have /ar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middle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0" descr="MCj04374630000[1]"/>
          <p:cNvPicPr/>
          <p:nvPr/>
        </p:nvPicPr>
        <p:blipFill>
          <a:blip r:embed="rId1"/>
          <a:stretch/>
        </p:blipFill>
        <p:spPr>
          <a:xfrm>
            <a:off x="0" y="1828800"/>
            <a:ext cx="54100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50532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6483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429000" y="3657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2767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4038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4572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4038480" y="4648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472428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3526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495680" y="3505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8098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4290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8862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43434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3276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8098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10T21:17:23Z</dcterms:modified>
  <cp:revision>107</cp:revision>
  <dc:subject/>
  <dc:title>Slide 1</dc:title>
</cp:coreProperties>
</file>