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media/image11.wmf" ContentType="image/x-wmf"/>
  <Override PartName="/ppt/media/image12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E768-C965-454A-9603-2CD825B0E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AA3C-6129-4016-AC10-442B9A92F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CD4C-F0A2-484B-9168-E644945EC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8244-8F7B-4B48-AF1F-463C7B13A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0FE7-B2CB-450B-A1A8-3E68CC138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7CCF-ADF6-453B-A14E-15B9B3385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42B5-81E6-4ECB-85A8-DF9B96FA2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4A24-E3D8-4C16-99E7-B8AB637E4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DA14-FF55-4A96-8271-97C49ECF7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180C-D7CF-4CC7-88E7-D689613F2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35A6-9D7A-4220-A5BB-35D64B31D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FE06-2B8D-412A-8CD4-F44175F49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2CAC-E692-4168-972E-F020E1F70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42A3-B3B7-45A4-A85F-D53262BF1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5640-EC50-4836-A968-3EC02CF92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BA33-21BC-4143-8B2B-8CBECEB29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B573-D4A2-466C-A1D1-5AE180C34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AEA3-48CD-442C-BF38-36B4C4540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C7F0-EFE4-4FF6-8BD5-7B4816BC6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F7A8-B173-468E-B6D7-3574B3E74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172D-5E07-4DB6-911C-2C9161EBC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D928-34B3-4CB7-A59B-7D9FFA631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C13B-61BA-48AB-83A0-FE585997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0827-93AD-4B4B-B139-1263F8544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09DB-212E-4120-8405-C3AE73569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8FAE-C13F-497F-BB9E-920D3421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3886-11BA-415B-B8DF-D41D2F55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D1E2-7A61-4025-8F73-81928C12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31DA-D9C6-44C1-B81A-54285C34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5758-1AF9-4E75-ADC1-A7A16540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6BB8-F04E-4905-A579-3B2A344A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7168-F5B0-41E6-8F2B-540FD2C1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AC77-4F57-4475-998B-ADC63212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99A5-56F0-48AE-966E-10B4FFDB1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16, Day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paint.jpg"/>
          <p:cNvPicPr/>
          <p:nvPr/>
        </p:nvPicPr>
        <p:blipFill>
          <a:blip r:embed="rId1"/>
          <a:stretch/>
        </p:blipFill>
        <p:spPr>
          <a:xfrm>
            <a:off x="5181480" y="762120"/>
            <a:ext cx="3753000" cy="5651280"/>
          </a:xfrm>
          <a:prstGeom prst="rect">
            <a:avLst/>
          </a:prstGeom>
          <a:ln w="0">
            <a:noFill/>
          </a:ln>
        </p:spPr>
      </p:pic>
      <p:sp>
        <p:nvSpPr>
          <p:cNvPr id="99" name="TextBox 1"/>
          <p:cNvSpPr/>
          <p:nvPr/>
        </p:nvSpPr>
        <p:spPr>
          <a:xfrm>
            <a:off x="685800" y="380880"/>
            <a:ext cx="4191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omic Sans MS"/>
              </a:rPr>
              <a:t>The main idea of a story is what it is mostly ab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omic Sans MS"/>
              </a:rPr>
              <a:t>What is the main idea of these pictu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6862680" y="228600"/>
            <a:ext cx="1966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recognize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in ide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spendernew2801_468x315.jpg"/>
          <p:cNvPicPr/>
          <p:nvPr/>
        </p:nvPicPr>
        <p:blipFill>
          <a:blip r:embed="rId2"/>
          <a:stretch/>
        </p:blipFill>
        <p:spPr>
          <a:xfrm>
            <a:off x="533520" y="3048120"/>
            <a:ext cx="44575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african-elephant2.jpg"/>
          <p:cNvPicPr/>
          <p:nvPr/>
        </p:nvPicPr>
        <p:blipFill>
          <a:blip r:embed="rId1"/>
          <a:stretch/>
        </p:blipFill>
        <p:spPr>
          <a:xfrm>
            <a:off x="5181480" y="3962520"/>
            <a:ext cx="3402000" cy="23446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"/>
          <p:cNvSpPr/>
          <p:nvPr/>
        </p:nvSpPr>
        <p:spPr>
          <a:xfrm>
            <a:off x="762120" y="45720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mic Sans MS"/>
              </a:rPr>
              <a:t>Can you read these words?  Do you know what the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1258560" y="1371600"/>
            <a:ext cx="2791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eleph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hamm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kind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lam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sh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925560" y="4724280"/>
            <a:ext cx="554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An elephant and a la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are two animal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in today’s story, </a:t>
            </a:r>
            <a:r>
              <a:rPr b="0" i="1" lang="en-US" sz="2800" spc="-1" strike="noStrike">
                <a:solidFill>
                  <a:srgbClr val="7030a0"/>
                </a:solidFill>
                <a:latin typeface="Arial"/>
              </a:rPr>
              <a:t>One Mor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rie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lamb.jpg"/>
          <p:cNvPicPr/>
          <p:nvPr/>
        </p:nvPicPr>
        <p:blipFill>
          <a:blip r:embed="rId2"/>
          <a:stretch/>
        </p:blipFill>
        <p:spPr>
          <a:xfrm>
            <a:off x="5486400" y="1143000"/>
            <a:ext cx="3048120" cy="27432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6"/>
          <p:cNvSpPr/>
          <p:nvPr/>
        </p:nvSpPr>
        <p:spPr>
          <a:xfrm>
            <a:off x="304920" y="0"/>
            <a:ext cx="2133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3880" y="838080"/>
            <a:ext cx="3200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w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l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o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5753520" y="1676520"/>
            <a:ext cx="1945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2438280" y="609480"/>
            <a:ext cx="49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00000"/>
                </a:solidFill>
                <a:uFillTx/>
                <a:latin typeface="Arial"/>
              </a:rPr>
              <a:t>Words to Kn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quenc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1219320" y="914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4724280" y="16765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4648320" y="541008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6553080" y="0"/>
            <a:ext cx="259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mprove comprehension by summarizing as you re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295280" y="1143000"/>
            <a:ext cx="655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1219320" y="2057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295280" y="22860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1219320" y="32767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1219320" y="46483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1219320" y="586728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3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4"/>
          <p:cNvSpPr/>
          <p:nvPr/>
        </p:nvSpPr>
        <p:spPr>
          <a:xfrm>
            <a:off x="4648320" y="281952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1295280" y="60958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1295280" y="49528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1219320" y="3505320"/>
            <a:ext cx="67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tu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gg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72392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have captured something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have caught it and are not letting it g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aptur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9" descr="MPj04389220000[1]"/>
          <p:cNvPicPr/>
          <p:nvPr/>
        </p:nvPicPr>
        <p:blipFill>
          <a:blip r:embed="rId1"/>
          <a:stretch/>
        </p:blipFill>
        <p:spPr>
          <a:xfrm>
            <a:off x="304920" y="1752480"/>
            <a:ext cx="4498920" cy="4494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captu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159984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about a story you have read or listened to in which a character wa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ptu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tend you are trying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p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big bug.  Show how you would do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nything ev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ptu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r attention so that you didn’t want to do anything else?  Tell abou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merc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648320" y="1752480"/>
            <a:ext cx="424656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show kindness or forgiveness to someone who has done something wrong, you show merc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4" descr="epa1301l"/>
          <p:cNvPicPr/>
          <p:nvPr/>
        </p:nvPicPr>
        <p:blipFill>
          <a:blip r:embed="rId1"/>
          <a:stretch/>
        </p:blipFill>
        <p:spPr>
          <a:xfrm>
            <a:off x="304920" y="1905120"/>
            <a:ext cx="4495680" cy="4170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mer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1371600"/>
            <a:ext cx="6400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 a time when someone showed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r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fter you did something you shouldn’t h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at person say to you to show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r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 How did you feel afterwa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about a time you would show another perso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r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4419720" y="1981080"/>
            <a:ext cx="44812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are struggling, you are making a great effort with your body or mind to do someth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"/>
          <p:cNvSpPr/>
          <p:nvPr/>
        </p:nvSpPr>
        <p:spPr>
          <a:xfrm>
            <a:off x="2133720" y="228600"/>
            <a:ext cx="472428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2590920" y="304920"/>
            <a:ext cx="39193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struggling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5" descr="MCj03910400000[1]"/>
          <p:cNvPicPr/>
          <p:nvPr/>
        </p:nvPicPr>
        <p:blipFill>
          <a:blip r:embed="rId1"/>
          <a:stretch/>
        </p:blipFill>
        <p:spPr>
          <a:xfrm>
            <a:off x="0" y="2514600"/>
            <a:ext cx="4648320" cy="3335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How might a new child in our class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Someone new might feel 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because 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strugg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saw a frie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rugg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open  box, what would you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ight you look and act if you wer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struggl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rry a very heavy box across the 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best thing to do if you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rugg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your home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2"/>
          <p:cNvSpPr/>
          <p:nvPr/>
        </p:nvSpPr>
        <p:spPr>
          <a:xfrm>
            <a:off x="1752480" y="38088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ylium"/>
              </a:rPr>
              <a:t>GRAMM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7086600" y="152280"/>
            <a:ext cx="18288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recognize that he, she, it, and they can take the place of names of people, animals, places, and thing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066680" y="1219320"/>
            <a:ext cx="7620120" cy="1295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04040"/>
                </a:solidFill>
                <a:latin typeface="Arial"/>
              </a:rPr>
              <a:t>he    she</a:t>
            </a:r>
            <a:r>
              <a:rPr b="0" lang="en-US" sz="6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404040"/>
                </a:solidFill>
                <a:latin typeface="Arial"/>
              </a:rPr>
              <a:t> it</a:t>
            </a:r>
            <a:r>
              <a:rPr b="0" lang="en-US" sz="6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404040"/>
                </a:solidFill>
                <a:latin typeface="Arial"/>
              </a:rPr>
              <a:t>  the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457200" y="2819520"/>
            <a:ext cx="8534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ulie’s brother said _______ would fix her b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 looked really pretty in her new 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m told me to take the frog outside because _____ was making a m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the chicks saw the hen ______ ran to 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0066"/>
                </a:solidFill>
                <a:uFillTx/>
                <a:latin typeface="Constantia"/>
              </a:rPr>
              <a:t>An Invitation Tel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o it invi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at the event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en the event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ere the event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o is sending the invit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7086600" y="3808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an invitation.</a:t>
            </a:r>
            <a:br>
              <a:rPr sz="4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invitation.gif"/>
          <p:cNvPicPr/>
          <p:nvPr/>
        </p:nvPicPr>
        <p:blipFill>
          <a:blip r:embed="rId1"/>
          <a:stretch/>
        </p:blipFill>
        <p:spPr>
          <a:xfrm>
            <a:off x="5410080" y="1295280"/>
            <a:ext cx="300060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: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m: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: 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: 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: 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hope you can come!  We’ll have fu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7010280" y="152280"/>
            <a:ext cx="21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an invitation.  To practice standard invitation form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C:\Users\Janice\AppData\Local\Microsoft\Windows\Temporary Internet Files\Content.IE5\1B2XUW99\MCj04079660000[1].wmf"/>
          <p:cNvPicPr/>
          <p:nvPr/>
        </p:nvPicPr>
        <p:blipFill>
          <a:blip r:embed="rId1"/>
          <a:stretch/>
        </p:blipFill>
        <p:spPr>
          <a:xfrm>
            <a:off x="5334120" y="685800"/>
            <a:ext cx="17841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for a purpose. To identify sound and direction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343400" y="457200"/>
            <a:ext cx="4800600" cy="63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660033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660033"/>
                </a:solidFill>
                <a:latin typeface="Constantia"/>
              </a:rPr>
              <a:t>            “The New Girl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MPj04317910000[1]"/>
          <p:cNvPicPr/>
          <p:nvPr/>
        </p:nvPicPr>
        <p:blipFill>
          <a:blip r:embed="rId1"/>
          <a:stretch/>
        </p:blipFill>
        <p:spPr>
          <a:xfrm>
            <a:off x="380880" y="1828800"/>
            <a:ext cx="4419720" cy="3313080"/>
          </a:xfrm>
          <a:prstGeom prst="rect">
            <a:avLst/>
          </a:prstGeom>
          <a:ln w="0">
            <a:noFill/>
          </a:ln>
        </p:spPr>
      </p:pic>
      <p:sp>
        <p:nvSpPr>
          <p:cNvPr id="55" name="TextBox 6"/>
          <p:cNvSpPr/>
          <p:nvPr/>
        </p:nvSpPr>
        <p:spPr>
          <a:xfrm>
            <a:off x="705960" y="1295280"/>
            <a:ext cx="34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Big Book of Rhymes and Po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egment words into phonem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l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9" descr="MCj04174500000[1]"/>
          <p:cNvPicPr/>
          <p:nvPr/>
        </p:nvPicPr>
        <p:blipFill>
          <a:blip r:embed="rId1"/>
          <a:stretch/>
        </p:blipFill>
        <p:spPr>
          <a:xfrm>
            <a:off x="5029200" y="2579760"/>
            <a:ext cx="388620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6"/>
          <p:cNvSpPr/>
          <p:nvPr/>
        </p:nvSpPr>
        <p:spPr>
          <a:xfrm>
            <a:off x="7696080" y="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segment words into phone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0" y="2286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3276720" y="304920"/>
            <a:ext cx="472428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Comic Sans MS"/>
              </a:rPr>
              <a:t>Remember the lion in </a:t>
            </a:r>
            <a:r>
              <a:rPr b="0" i="1" lang="en-US" sz="2800" spc="-1" strike="noStrike">
                <a:solidFill>
                  <a:srgbClr val="6b6bcf"/>
                </a:solidFill>
                <a:latin typeface="Comic Sans MS"/>
              </a:rPr>
              <a:t>We’re Going On a Lion Hunt</a:t>
            </a:r>
            <a:r>
              <a:rPr b="0" lang="en-US" sz="2800" spc="-1" strike="noStrike">
                <a:solidFill>
                  <a:srgbClr val="6b6bcf"/>
                </a:solidFill>
                <a:latin typeface="Comic Sans MS"/>
              </a:rPr>
              <a:t>?  What sounds do you hear in the word </a:t>
            </a:r>
            <a:r>
              <a:rPr b="0" i="1" lang="en-US" sz="2800" spc="-1" strike="noStrike">
                <a:solidFill>
                  <a:srgbClr val="6b6bcf"/>
                </a:solidFill>
                <a:latin typeface="Comic Sans MS"/>
              </a:rPr>
              <a:t>lion</a:t>
            </a:r>
            <a:r>
              <a:rPr b="0" lang="en-US" sz="2800" spc="-1" strike="noStrike">
                <a:solidFill>
                  <a:srgbClr val="6b6bcf"/>
                </a:solidFill>
                <a:latin typeface="Comic Sans MS"/>
              </a:rPr>
              <a:t>?  As we say each sound in </a:t>
            </a:r>
            <a:r>
              <a:rPr b="0" i="1" lang="en-US" sz="2800" spc="-1" strike="noStrike">
                <a:solidFill>
                  <a:srgbClr val="6b6bcf"/>
                </a:solidFill>
                <a:latin typeface="Comic Sans MS"/>
              </a:rPr>
              <a:t>lion </a:t>
            </a:r>
            <a:r>
              <a:rPr b="0" lang="en-US" sz="2800" spc="-1" strike="noStrike">
                <a:solidFill>
                  <a:srgbClr val="6b6bcf"/>
                </a:solidFill>
                <a:latin typeface="Comic Sans MS"/>
              </a:rPr>
              <a:t>we are going to snap our fin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Comic Sans MS"/>
              </a:rPr>
              <a:t>Do the same for these wo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0" descr="MCj04374630000[1]"/>
          <p:cNvPicPr/>
          <p:nvPr/>
        </p:nvPicPr>
        <p:blipFill>
          <a:blip r:embed="rId1"/>
          <a:stretch/>
        </p:blipFill>
        <p:spPr>
          <a:xfrm>
            <a:off x="990720" y="609480"/>
            <a:ext cx="2228760" cy="3171960"/>
          </a:xfrm>
          <a:prstGeom prst="rect">
            <a:avLst/>
          </a:prstGeom>
          <a:ln w="0">
            <a:noFill/>
          </a:ln>
        </p:spPr>
      </p:pic>
      <p:sp>
        <p:nvSpPr>
          <p:cNvPr id="66" name="TextBox 8"/>
          <p:cNvSpPr/>
          <p:nvPr/>
        </p:nvSpPr>
        <p:spPr>
          <a:xfrm>
            <a:off x="1143000" y="5029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grass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hunt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nose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sw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mane            lake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home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cave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door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cr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124080" y="121932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731520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ur/ er, ir, ur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403848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380988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3505320" y="2438280"/>
            <a:ext cx="838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4648320" y="1219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3429000" y="3657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3276720" y="4648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403848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3657600" y="3657600"/>
            <a:ext cx="1523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457200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3"/>
          <p:cNvSpPr/>
          <p:nvPr/>
        </p:nvSpPr>
        <p:spPr>
          <a:xfrm>
            <a:off x="4038480" y="46483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731520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ur/ er, ir, ur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3352680" y="2514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4495680" y="350532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3809880" y="3505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2362320" y="16002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2"/>
          <p:cNvSpPr/>
          <p:nvPr/>
        </p:nvSpPr>
        <p:spPr>
          <a:xfrm>
            <a:off x="2514600" y="2590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3"/>
          <p:cNvSpPr/>
          <p:nvPr/>
        </p:nvSpPr>
        <p:spPr>
          <a:xfrm>
            <a:off x="3048120" y="2590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4"/>
          <p:cNvSpPr/>
          <p:nvPr/>
        </p:nvSpPr>
        <p:spPr>
          <a:xfrm>
            <a:off x="3505320" y="2590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5"/>
          <p:cNvSpPr/>
          <p:nvPr/>
        </p:nvSpPr>
        <p:spPr>
          <a:xfrm>
            <a:off x="243828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6"/>
          <p:cNvSpPr/>
          <p:nvPr/>
        </p:nvSpPr>
        <p:spPr>
          <a:xfrm>
            <a:off x="289548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7"/>
          <p:cNvSpPr/>
          <p:nvPr/>
        </p:nvSpPr>
        <p:spPr>
          <a:xfrm>
            <a:off x="34290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8"/>
          <p:cNvSpPr/>
          <p:nvPr/>
        </p:nvSpPr>
        <p:spPr>
          <a:xfrm>
            <a:off x="3889080" y="2590920"/>
            <a:ext cx="3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b6bcf"/>
                </a:solidFill>
                <a:latin typeface="Constantia"/>
              </a:rPr>
              <a:t>Read Words in Contex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nstantia"/>
              </a:rPr>
              <a:t>The girl had her turn after 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Constantia"/>
              </a:rPr>
              <a:t>Does a bird have fu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65f0e"/>
                </a:solidFill>
                <a:latin typeface="Constantia"/>
              </a:rPr>
              <a:t>Who is first in lin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When do you quit playing for the 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1-10T21:22:40Z</dcterms:modified>
  <cp:revision>148</cp:revision>
  <dc:subject/>
  <dc:title>Slide 1</dc:title>
</cp:coreProperties>
</file>