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FF7-E47A-4C70-9D1D-AA203EA3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666-6162-40EA-9364-9CED37C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66B-C117-436B-8701-0D2646C0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F86-6937-434E-98A4-9850962D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C64-7281-4879-A738-E39C6AC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CAD-623B-4F99-9196-B3D17EE3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3A9-C56A-4E4D-9F3D-AC0ED81A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369-4A70-4650-B62B-157094D5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7E4-0E33-4667-8948-517EE093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1D4-990A-4CCD-9265-66BA052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6B7-D086-4E31-9BD6-23116D3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3A4-7851-4536-8F06-B7DD72C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6D4-1703-498A-8F34-59C6160D4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438280" y="533520"/>
            <a:ext cx="586764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6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80880" y="19051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The Lion and the Mo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Lions like to 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 nice to others and they will be nice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mouse helped the lion get fre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What is the main idea of “One More Frien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33520" y="30492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Main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1600200"/>
            <a:ext cx="350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tent Placeholder 3" descr="leopard-and-piggy.jpg"/>
          <p:cNvPicPr/>
          <p:nvPr/>
        </p:nvPicPr>
        <p:blipFill>
          <a:blip r:embed="rId1"/>
          <a:stretch/>
        </p:blipFill>
        <p:spPr>
          <a:xfrm>
            <a:off x="3505320" y="1752480"/>
            <a:ext cx="54100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, Frog, Chick, Hen, Duck, Cat, Dog and Lamb were happy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hamm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friends and I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many things togeth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mo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children your own age or with adul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C:\Documents and Settings\pawley\My Documents\amiable.jpg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 i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who happily invites all the animals passing by to join her in the hamm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more fun to be around someone who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someone who is not?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C:\Documents and Settings\pawley\My Documents\relax2.jpg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animals were abl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hammock in Cow’s back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itting on my porch swing and readin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you rathe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your porch or at the be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sing He, She, It, and T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6699"/>
                </a:solidFill>
                <a:uFillTx/>
                <a:latin typeface="Comic Sans MS"/>
              </a:rPr>
              <a:t>Dan</a:t>
            </a: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 wore a red shirt to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They wore a red shirt to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The bell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r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he ra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99ff"/>
                </a:solidFill>
                <a:uFillTx/>
                <a:latin typeface="Comic Sans MS"/>
              </a:rPr>
              <a:t>Ann</a:t>
            </a: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 sits next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It sits next to 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Ben and Bob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read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He and he read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410080" y="0"/>
            <a:ext cx="350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recognize that he, she, it, and they can take the place of names of people, animals, places, and th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your friends. How would you describe what a friend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riend is 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6858000" y="60199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nderstand the parts of an invitation. To understand how to write an invitation correct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2286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i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To: Frog, Chick, Hen, Duck, Cat, Dog, Lam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You are invited to a picnic.  You may get to ride on an elephant, to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When: Saturday, July 14, 12:00-5: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Where: Cow’s backy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Please com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Your frien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C:\Documents and Settings\pawley\My Documents\party.jpg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629400" y="2286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952880" y="0"/>
            <a:ext cx="3886200" cy="53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030a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The New Gir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3197"/>
                </a:solidFill>
                <a:latin typeface="Constantia"/>
              </a:rPr>
              <a:t>*Find the rhyming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" descr="C:\Documents and Settings\pawley\My Documents\little girl.jpg"/>
          <p:cNvPicPr/>
          <p:nvPr/>
        </p:nvPicPr>
        <p:blipFill>
          <a:blip r:embed="rId1"/>
          <a:stretch/>
        </p:blipFill>
        <p:spPr>
          <a:xfrm>
            <a:off x="228600" y="1447920"/>
            <a:ext cx="45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w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y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:\Documents and Settings\pawley\My Documents\ape.jpg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6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ur/ using ir, er and 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3733920" y="12193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27432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3352680" y="36576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2819520" y="36576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426708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403848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2895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3352680" y="4800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886200" y="4800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2"/>
          <p:cNvSpPr/>
          <p:nvPr/>
        </p:nvSpPr>
        <p:spPr>
          <a:xfrm>
            <a:off x="457200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4343400" y="4800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ur/ using ir, er and 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733920" y="12193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7432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352680" y="36576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19520" y="36576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26708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403848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895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35268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11480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7162920" y="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words with /ur/ er, ir, ur, /I/ I, /e/ e, /u/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228600"/>
            <a:ext cx="6400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R-Controlled Vowels /ur/ er, ir, 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Look at that girl in the pink shi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he has dots on her red sk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r name is Fern Bu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Look at her cu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ern has fun when she twi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atch her turn and spin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pawley\My Documents\girl_pink_shirt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29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286000" y="1295280"/>
            <a:ext cx="17906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f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bi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fir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0880" y="1600200"/>
            <a:ext cx="2125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qu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Comic Sans MS"/>
              </a:rPr>
              <a:t>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Comic Sans MS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30:44Z</dcterms:created>
  <dc:creator>Federated Group</dc:creator>
  <dc:description/>
  <dc:language>en-US</dc:language>
  <cp:lastModifiedBy>mworsham</cp:lastModifiedBy>
  <dcterms:modified xsi:type="dcterms:W3CDTF">2010-01-10T21:27:35Z</dcterms:modified>
  <cp:revision>4</cp:revision>
  <dc:subject/>
  <dc:title>PowerPoint Presentation</dc:title>
</cp:coreProperties>
</file>