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32AC-C932-406C-9047-589EC5AD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1C1-A6DB-4B61-B18A-1A3D4CAA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6C0-6AA8-46A5-8A5C-8BE7F448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FCA-0EF2-4F28-AB6D-EB6D6F61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E5F-877C-42D3-8F0F-E4392E8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22D-7902-408C-9631-ECF0163A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349-7724-43EC-BE47-BF6F35DA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C74-2E6E-4B8F-82D3-F4A1783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88A-22B8-406B-B84F-25CEC132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381-4594-45DF-9169-3C6D581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F54-7E4C-427E-8A14-137FE1A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D59-A369-45FB-AC63-3209233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3E1D-AADF-4880-AFE3-A70D1A5E9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438280" y="533520"/>
            <a:ext cx="58676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19051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The Lion and the Mo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Lions like to 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 nice to others and they will be nice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mouse helped the lion get fre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What is the main idea of “One More Frien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3520" y="30492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600200"/>
            <a:ext cx="350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tent Placeholder 3" descr="leopard-and-piggy.jpg"/>
          <p:cNvPicPr/>
          <p:nvPr/>
        </p:nvPicPr>
        <p:blipFill>
          <a:blip r:embed="rId1"/>
          <a:stretch/>
        </p:blipFill>
        <p:spPr>
          <a:xfrm>
            <a:off x="3505320" y="1752480"/>
            <a:ext cx="54100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, Frog, Chick, Hen, Duck, Cat, Dog and Lamb were happy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friends and I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many things togeth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mo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children your own age or with adul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C:\Documents and Settings\pawley\My Documents\amiable.jpg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 i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who happily invites all the animals passing by to join her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more fun to be around someone who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someone who is not?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C:\Documents and Settings\pawley\My Documents\relax2.jpg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animals were abl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 in Cow’s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itting on my porch swing and read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you rath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your porch or at the be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He, She, It, and T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6699"/>
                </a:solidFill>
                <a:uFillTx/>
                <a:latin typeface="Comic Sans MS"/>
              </a:rPr>
              <a:t>Dan</a:t>
            </a: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They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The bell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r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he ra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ff"/>
                </a:solidFill>
                <a:uFillTx/>
                <a:latin typeface="Comic Sans MS"/>
              </a:rPr>
              <a:t>Ann</a:t>
            </a: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 sits next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It sits next to 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Ben and Bob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He and he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410080" y="0"/>
            <a:ext cx="350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recognize that he, she, it, and they can take the place of names of people, animals, places, and th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riends. How would you describe what a friend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riend is 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6858000" y="60199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 the parts of an invitation. To understand how to write an invitation correct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2286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i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To: Frog, Chick, Hen, Duck, Cat, Dog, Lam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 are invited to a picnic.  You may get to ride on an elephant, to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n: Saturday, July 14, 12:00-5: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re: Cow’s backy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Please com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r frien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C:\Documents and Settings\pawley\My Documents\party.jpg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952880" y="0"/>
            <a:ext cx="388620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The New Gir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Find the rhyming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C:\Documents and Settings\pawley\My Documents\little girl.jpg"/>
          <p:cNvPicPr/>
          <p:nvPr/>
        </p:nvPicPr>
        <p:blipFill>
          <a:blip r:embed="rId1"/>
          <a:stretch/>
        </p:blipFill>
        <p:spPr>
          <a:xfrm>
            <a:off x="228600" y="144792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y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:\Documents and Settings\pawley\My Documents\ape.jpg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6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352680" y="4800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8862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2"/>
          <p:cNvSpPr/>
          <p:nvPr/>
        </p:nvSpPr>
        <p:spPr>
          <a:xfrm>
            <a:off x="457200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43434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35268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1148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716292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words with /ur/ er, ir, ur, /I/ I, /e/ e, /u/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228600"/>
            <a:ext cx="6400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R-Controlled Vowels /ur/ er, ir, 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that girl in the pink shi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he has dots on her red sk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r name is Fern Bu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her cu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ern has fun when she twi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atch her turn and spin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pawley\My Documents\girl_pink_shirt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286000" y="1295280"/>
            <a:ext cx="1790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bi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ir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0880" y="1600200"/>
            <a:ext cx="2125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qu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mworsham</cp:lastModifiedBy>
  <dcterms:modified xsi:type="dcterms:W3CDTF">2010-01-10T21:27:35Z</dcterms:modified>
  <cp:revision>4</cp:revision>
  <dc:subject/>
  <dc:title>PowerPoint Presentation</dc:title>
</cp:coreProperties>
</file>