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58D9-91B2-46EE-A2B9-1B796FF3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C530-9FD2-49E1-876E-CA64223C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F316-1B05-4A7E-B6FC-349BDFBE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880-4CFC-4183-ACCC-6359D379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25D8-C8C1-41B7-88BD-5947B312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1491-65C5-4083-882C-77FA9B15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A9F0-B245-4DDC-9971-30491E58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5C40-220B-41BA-8F16-201289DB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8C8F-7FC8-4BD2-8CBE-C447E07E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2DCA-FFCC-4B0B-8A77-AFC6C924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0CA3-8592-4736-BE15-EEDBCB44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C6A9-1D4B-42E0-AC97-22F0E1CA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3E3F-C287-4405-933A-7043F622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388B-DF26-4DF5-80D3-B9082F9F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826B-7692-4C3A-B1D9-ACB8E88C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5A70-9EFA-469E-B040-9E5CAFD2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B984-85EE-4D32-80AD-88E089D7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9DF-F158-4BB7-839B-F635E381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3F3-0024-44F2-8659-222606F6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9C31-C808-4431-B3DC-0023FB36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C68F-3CAC-4D92-82D8-1DBF3BAA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02E1-3429-4B07-9828-3AA74173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395-9A5E-4262-8438-BA162C42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1CC2-2F24-4DCD-AB8F-8D6603BF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66F4-67E1-4372-90F1-F3082095312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5C3D-67BF-4EFC-9F6F-065284117BF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695600" y="304920"/>
            <a:ext cx="6838920" cy="609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rida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anuary 9, 2009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16, Day 4 and 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304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ive: To blend phonemes into words; to segment words into phone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14400" y="1219320"/>
            <a:ext cx="7086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Blend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811600"/>
            <a:ext cx="71629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/f/ /r/ /e/ /n/ /d/ = fri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/j/ /u/ /m/ /p/ = j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/k/ /r/ /o/ /k/ = cro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/f/ /ur/ /s/ /t/ =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/ch/ /ur/ /p/ = chi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/p/ /l/ /e/ /z/ = p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80880" y="304920"/>
            <a:ext cx="74678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oneme Segment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523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Let’s take some words and break them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1981080"/>
            <a:ext cx="830592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ird - /th/ /ur/ /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oom - /r/ /oo/ /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hade - /sh/ /a/ /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amb - /l/ /a/ /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url - /k/ /ur/ /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ick - /ch/ /i/ /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luck - /k/ /l/ /u/ /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riend - /f/ /r/  /e/ /n/ /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lease - /p/ /l/ /e/ /z/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50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762120"/>
            <a:ext cx="80010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t’s add –er and –est to change up som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dd er = l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dd est = lo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add er = t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add est = tall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2860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recognize inflections –er, -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066680" y="838080"/>
            <a:ext cx="6934320" cy="421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arm+er = farm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uck+er = truck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ng+er = sing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elp+er = help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unt+er = hunt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3049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bjective: To build words with inflection 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457200"/>
            <a:ext cx="754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Burt has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igg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Kirk’s car i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igger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than Fern’s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It i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arker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than Fern’s car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Burt has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ark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Kirk’s car i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maller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than Bert’s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Fern has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mall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Her car is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ast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3"/>
          <p:cNvSpPr/>
          <p:nvPr/>
        </p:nvSpPr>
        <p:spPr>
          <a:xfrm>
            <a:off x="380880" y="190512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99"/>
                </a:solidFill>
                <a:latin typeface="Comic Sans MS"/>
              </a:rPr>
              <a:t>Spelling Te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ive:  To read and write spelling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alway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b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Cow’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joi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ni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plea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roo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22860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ive- To read high-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75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75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75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75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75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75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75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75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75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75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75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75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75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75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75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75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75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75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75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75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75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75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75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75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75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75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75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75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80880" y="3808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in Ide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213372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main idea of a story is what the story is mostly about.  Let’s review the main ideas of some stories we have recently 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85800" y="2971800"/>
          <a:ext cx="7924680" cy="304812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320"/>
              </a:tblGrid>
              <a:tr h="309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Lion and the Mouse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lion shows kindness to a mouse, who saves the lion’s life in return one da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e More Friend”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 ant shows kindness by making room for all her frien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’re Going on a Lion Hun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wo girls have a hard journey, but also have fun on a lion hun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6858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haroni"/>
                <a:ea typeface="Aharoni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When called go to 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315200" y="22860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57200" y="8380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b0f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omic Sans MS"/>
              </a:rPr>
              <a:t>compat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am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rel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2057400"/>
            <a:ext cx="83822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s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304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listen and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cc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ompat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152388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n people or animals are compatible, they are able to be together or get along with each other.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6781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04920" y="304920"/>
            <a:ext cx="739116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uppose a new family with a child your age moves in next door. How can you learn if the two of you are compat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How might a group of children behave if they are NOT compat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In what ways are you and your best friend compat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mi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14479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meone who is amiable is good-natured and friendl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380880"/>
            <a:ext cx="723924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Name a storybook character who is amiable and one who is not.  Give a reason for this ch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s it more fun to be around someone who is amiable than someone who is not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hat is a good way to show that you are an amiable pers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33520" y="0"/>
            <a:ext cx="739116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 will name some familiar characters and if you think that character is amiable say “very nic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nt in “One More Frien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The Wolf in “The Three Pig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Cinderella’s steps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ark in “Mark’s Big D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rel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48320" y="1447920"/>
            <a:ext cx="4495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en you relax, you are not uneasy or upset about anything; you spend time resting or doing things for fu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533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8600" y="457200"/>
            <a:ext cx="75438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s it easy for you to relax during a thunderstorm?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ere do you like to be when you relax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How do you feel after you relax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784872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 will describe some situations.  If you think you would be able to relax then say Ahhhh! If not say n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iding a roller co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floating on a raft in a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reading a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istening to 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8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28600"/>
            <a:ext cx="853452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ive: To review robust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Do you think someone who is amiable would be more compatible than someone who is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If you are struggling to ride your bike up a steep hill, does your body relax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Suppose the lion captured the mouse again.  Should it ask for mercy again?  Why or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8" dur="2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609480"/>
            <a:ext cx="9144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riting using He, She, It and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Jack has a new pet.  He has a k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What word did I use in place of Jack in the second sent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kitten has gray fur.  It is ten week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What word did I use in place of kitten in the second sentence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Objective: To use he, she, it, and they corr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3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5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8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762120"/>
            <a:ext cx="7696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t animal do you think makes the best pet? Tell why you think s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342900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On my signal, turn and talk with your partner about which animal you think makes the best p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51814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____________is the best pet because 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1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52280" y="380880"/>
            <a:ext cx="76964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Jack and Jill play with the kitten.  They have f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at word did I use to replace Jack and Jill in the second sent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Jill fed the kitten.  She gave it water,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What word did I use to replace Jill in the second sent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8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533520"/>
            <a:ext cx="79246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The cont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is over.  ______was f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Fern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finished first.  _________w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Kirk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was next.  _______ran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Burt and Bar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were third.  ______didn’t run as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4572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ich one of these words would go in the blanks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6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66"/>
                </a:solidFill>
                <a:uFillTx/>
                <a:latin typeface="Constantia"/>
              </a:rPr>
              <a:t>An Invitation Tel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457200" y="1523880"/>
            <a:ext cx="7467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o it invi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at the even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en the even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ere the even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o is sending the invi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understand the purpose of an invitation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invitation.gif"/>
          <p:cNvPicPr/>
          <p:nvPr/>
        </p:nvPicPr>
        <p:blipFill>
          <a:blip r:embed="rId1"/>
          <a:stretch/>
        </p:blipFill>
        <p:spPr>
          <a:xfrm>
            <a:off x="5410080" y="1295280"/>
            <a:ext cx="30006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457200" y="990720"/>
            <a:ext cx="82296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: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: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: 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: 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: 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come!  We’ll have lots of f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7010280" y="15228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understand the purpose of an invitation.  To practice standard invitation form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105520" y="228600"/>
            <a:ext cx="19033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Who?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Zack, Ben, Greg, M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hat?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Swim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b800"/>
                </a:solidFill>
                <a:uFillTx/>
                <a:latin typeface="Comic Sans MS"/>
              </a:rPr>
              <a:t>When?</a:t>
            </a: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 Saturday, May 30  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Where?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My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</a:rPr>
              <a:t>Who?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Ju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457200"/>
            <a:ext cx="72388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Here’s another way to write an invi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o: Z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ou are invited to a swim party!  Bring a towel and a big appet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n: Saturday, May 30, 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re: my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5228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 : To draft an invi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0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9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533520"/>
            <a:ext cx="716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04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Talk about your pet or a pet you would like to ha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600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n my signal, turn and talk with your partner about your p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004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My pet is a _______named_________.  My pet is 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228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appreciate the rhythm and rhyme of a poem; to read classic po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990720"/>
            <a:ext cx="8001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e’re going to read a poem called </a:t>
            </a:r>
            <a:r>
              <a:rPr b="0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Notice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.  As we read we will discover rhyming words throughout the poem.  We will read the poem two times.  The first time I want you to bark once when we say dog, meow once when we say cat, and croak once when we say frog.  The second time we read it I want you to clap if you hear a rhyming word in lines 1 or 3.  I want you to stomp your feet if you hear a rhyming word in lines 2 and 4.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33520" y="1676520"/>
            <a:ext cx="7238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tic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494496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g Book of Poems and Rh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52280"/>
            <a:ext cx="7391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066680"/>
            <a:ext cx="556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j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l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11430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Objective 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34120" y="152280"/>
            <a:ext cx="2361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lete phonemes in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609480"/>
            <a:ext cx="41911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0258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304920"/>
            <a:ext cx="830592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e will be taking some sounds out of wor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e are going to sing to the tune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ondon Bridge is Falling Dow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et’s 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Take away the /ch/ in chart, /ch/ in char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/ch/ in char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Take away the /ch/ in chart, and say the new word - 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03:07:54Z</dcterms:created>
  <dc:creator>Valued Gateway Client</dc:creator>
  <dc:description/>
  <dc:language>en-US</dc:language>
  <cp:lastModifiedBy> </cp:lastModifiedBy>
  <dcterms:modified xsi:type="dcterms:W3CDTF">2009-01-09T04:57:35Z</dcterms:modified>
  <cp:revision>5</cp:revision>
  <dc:subject/>
  <dc:title>Slide 1</dc:title>
</cp:coreProperties>
</file>