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6726-C0A5-4803-80E1-586D768DE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8B73-D18D-4603-A823-3916318B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BD16-14B8-4B3D-A9E8-A5ED38B1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13BE-2683-4A52-BD2F-1AA816A7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DE3E-9975-49C6-BDED-828C4641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5CF2-932B-40C7-B496-79722192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E40A-CE2F-48AE-961E-CCBDDAB8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C609-80EB-4868-B2F1-3AE2CDE4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76A0-B879-498A-A497-83E3D956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033B-A1E7-4616-BF24-D610569B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1DE1-85F8-4C33-9334-8B94F238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D82D-10F8-49E8-A86E-BB89A6AB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1FE2-CC38-45DD-B5C4-AAB6A521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75DF-6099-46D4-809A-5B3C09A4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0681-D0EF-4CE3-9698-BB3BAD23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2BD1-24B9-4D9E-87B4-85BC87FB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D6FA-068A-4B55-993F-CC4F3DC0C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BD1D-AD31-4CF0-8AA3-C00E41CF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D46E-9624-4372-B9F6-05FB76C8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1474-B54A-48F8-802E-24C9F609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88EE-7110-45BD-A954-B8D9F661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919C-D1CC-4E08-98FB-05501D52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4404-15DE-45A8-B464-FC596985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5CF7-7740-4AE4-98FA-58FC938F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B626-1FD9-4435-A0F3-306DCEEB649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3FD3-4E54-4F4C-A400-E8436930B7D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695600" y="304920"/>
            <a:ext cx="6838920" cy="609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riday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anuary 9, 2009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16, Day 4 and 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304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jective: To blend phonemes into words; to segment words into phone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14400" y="1219320"/>
            <a:ext cx="7086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Blend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811600"/>
            <a:ext cx="71629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/f/ /r/ /e/ /n/ /d/ = fri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/j/ /u/ /m/ /p/ = j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/k/ /r/ /o/ /k/ = cro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/f/ /ur/ /s/ /t/ =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/ch/ /ur/ /p/ = chi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/p/ /l/ /e/ /z/ = p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4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80880" y="304920"/>
            <a:ext cx="74678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oneme Segment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1523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Let’s take some words and break them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1981080"/>
            <a:ext cx="830592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ird - /th/ /ur/ /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oom - /r/ /oo/ /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hade - /sh/ /a/ /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amb - /l/ /a/ /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url - /k/ /ur/ /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ick - /ch/ /i/ /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luck - /k/ /l/ /u/ /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riend - /f/ /r/  /e/ /n/ /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lease - /p/ /l/ /e/ /z/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2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4920" y="762120"/>
            <a:ext cx="80010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t’s add –er and –est to change up som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dd er = l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add est = lon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add er = t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add est = tall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28600"/>
            <a:ext cx="769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recognize inflections –er, -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0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4" dur="50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066680" y="838080"/>
            <a:ext cx="6934320" cy="421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arm+er = farm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uck+er = truck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ng+er = sing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elp+er = help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unt+er = hunt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3049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bjective: To build words with inflection 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457200"/>
            <a:ext cx="7543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Burt has 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iggest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Kirk’s car i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igger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than Fern’s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It i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arker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than Fern’s car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Burt has 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arkest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Kirk’s car i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maller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than Bert’s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Fern has 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mallest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Her car is th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astest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5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5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3"/>
          <p:cNvSpPr/>
          <p:nvPr/>
        </p:nvSpPr>
        <p:spPr>
          <a:xfrm>
            <a:off x="380880" y="190512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99"/>
                </a:solidFill>
                <a:latin typeface="Comic Sans MS"/>
              </a:rPr>
              <a:t>Spelling Tes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95880" y="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jective:  To read and write spelling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gh Frequenc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alway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b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Cow’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joi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ni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plea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roo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5334120" y="22860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jective- To read high-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75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75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75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75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75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75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75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75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75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75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75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75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75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75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75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75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75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75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75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75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75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75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75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75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75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75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75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75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80880" y="3808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in Ide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213372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main idea of a story is what the story is mostly about.  Let’s review the main ideas of some stories we have recently 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85800" y="2971800"/>
          <a:ext cx="7924680" cy="304812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320"/>
              </a:tblGrid>
              <a:tr h="309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 Lion and the Mouse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 lion shows kindness to a mouse, who saves the lion’s life in return one da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e More Friend”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 ant shows kindness by making room for all her frien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’re Going on a Lion Hun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wo girls have a hard journey, but also have fun on a lion hun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6858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haroni"/>
                <a:ea typeface="Aharoni"/>
              </a:rPr>
              <a:t>Small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When called go to your first ro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omic Sans MS"/>
              </a:rPr>
              <a:t>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315200" y="22860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40080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457200" y="838080"/>
            <a:ext cx="838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b0f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omic Sans MS"/>
              </a:rPr>
              <a:t>compat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am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omic Sans MS"/>
              </a:rPr>
              <a:t>rel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880" y="2057400"/>
            <a:ext cx="838224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s of the 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304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listen and respond appropriately to oral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cc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ompat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1523880"/>
            <a:ext cx="86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en people or animals are compatible, they are able to be together or get along with each other.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219320" y="4191120"/>
            <a:ext cx="6781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04920" y="304920"/>
            <a:ext cx="739116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uppose a new family with a child your age moves in next door. How can you learn if the two of you are compat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How might a group of children behave if they are NOT compat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In what ways are you and your best friend compat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mi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144792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omeone who is amiable is good-natured and friendl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380880"/>
            <a:ext cx="723924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Name a storybook character who is amiable and one who is not.  Give a reason for this ch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s it more fun to be around someone who is amiable than someone who is not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What is a good way to show that you are an amiable pers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8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35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33520" y="0"/>
            <a:ext cx="739116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 will name some familiar characters and if you think that character is amiable say “very nic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nt in “One More Frien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The Wolf in “The Three Pig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Cinderella’s steps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ark in “Mark’s Big Da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9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28600" y="228600"/>
            <a:ext cx="4572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80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rela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48320" y="1447920"/>
            <a:ext cx="4495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en you relax, you are not uneasy or upset about anything; you spend time resting or doing things for fu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533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28600" y="457200"/>
            <a:ext cx="75438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s it easy for you to relax during a thunderstorm? Why or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ere do you like to be when you relax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How do you feel after you relax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1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4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4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7848720" cy="72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 will describe some situations.  If you think you would be able to relax then say Ahhhh! If not say no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riding a roller co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floating on a raft in a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reading a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istening to 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228600"/>
            <a:ext cx="853452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ive: To review robust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Do you think someone who is amiable would be more compatible than someone who is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If you are struggling to ride your bike up a steep hill, does your body relax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Suppose the lion captured the mouse again.  Should it ask for mercy again?  Why or why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6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609480"/>
            <a:ext cx="91440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riting using He, She, It and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Jack has a new pet.  He has a k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What word did I use in place of Jack in the second sent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kitten has gray fur.  It is ten weeks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What word did I use in place of kitten in the second sentence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Objective: To use he, she, it, and they correc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8600" y="762120"/>
            <a:ext cx="7696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hat animal do you think makes the best pet? Tell why you think s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3429000"/>
            <a:ext cx="815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On my signal, turn and talk with your partner about which animal you think makes the best p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51814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____________is the best pet because 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52280" y="380880"/>
            <a:ext cx="76964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Jack and Jill play with the kitten.  They have f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at word did I use to replace Jack and Jill in the second sent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Jill fed the kitten.  She gave it water,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What word did I use to replace Jill in the second sent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8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3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8600" y="533520"/>
            <a:ext cx="79246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</a:rPr>
              <a:t>The contest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is over.  ______was f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</a:rPr>
              <a:t>Fern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finished first.  _________w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</a:rPr>
              <a:t>Kirk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was next.  _______ran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</a:rPr>
              <a:t>Burt and Bart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were third.  ______didn’t run as f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4572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ich one of these words would go in the blanks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4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4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0066"/>
                </a:solidFill>
                <a:uFillTx/>
                <a:latin typeface="Constantia"/>
              </a:rPr>
              <a:t>An Invitation Tel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457200" y="1523880"/>
            <a:ext cx="7467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o it invi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at the event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en the event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ere the event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onstantia"/>
              </a:rPr>
              <a:t>who is sending the invit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7086600" y="3808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understand the purpose of an invitation.</a:t>
            </a:r>
            <a:br>
              <a:rPr sz="4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invitation.gif"/>
          <p:cNvPicPr/>
          <p:nvPr/>
        </p:nvPicPr>
        <p:blipFill>
          <a:blip r:embed="rId1"/>
          <a:stretch/>
        </p:blipFill>
        <p:spPr>
          <a:xfrm>
            <a:off x="5410080" y="1295280"/>
            <a:ext cx="300060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457200" y="990720"/>
            <a:ext cx="82296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: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: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: 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: 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re: 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ease come!  We’ll have lots of fu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frie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7010280" y="15228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To understand the purpose of an invitation.  To practice standard invitation form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105520" y="228600"/>
            <a:ext cx="19033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Who?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Zack, Ben, Greg, M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What?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Swim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b800"/>
                </a:solidFill>
                <a:uFillTx/>
                <a:latin typeface="Comic Sans MS"/>
              </a:rPr>
              <a:t>When?</a:t>
            </a: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 Saturday, May 30  3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Where?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My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</a:rPr>
              <a:t>Who?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Ju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4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4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4920" y="457200"/>
            <a:ext cx="72388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Here’s another way to write an invi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o: Z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ou are invited to a swim party!  Bring a towel and a big appet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en: Saturday, May 30, 3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ere: my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5228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 : To draft an invi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77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5" dur="77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7" dur="77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9" dur="77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0880" y="533520"/>
            <a:ext cx="716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04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Talk about your pet or a pet you would like to ha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6002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On my signal, turn and talk with your partner about your p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004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My pet is a _______named_________.  My pet is 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2286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bjective: To appreciate the rhythm and rhyme of a poem; to read classic po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990720"/>
            <a:ext cx="80010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We’re going to read a poem called </a:t>
            </a:r>
            <a:r>
              <a:rPr b="0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Notice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.  As we read we will discover rhyming words throughout the poem.  We will read the poem two times.  The first time I want you to bark once when we say dog, meow once when we say cat, and croak once when we say frog.  The second time we read it I want you to clap if you hear a rhyming word in lines 1 or 3.  I want you to stomp your feet if you hear a rhyming word in lines 2 and 4.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33520" y="1676520"/>
            <a:ext cx="7238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otic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494496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ig Book of Poems and Rh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52280"/>
            <a:ext cx="7391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066680"/>
            <a:ext cx="556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j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p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l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11430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Objective 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5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1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34120" y="152280"/>
            <a:ext cx="2361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ive: To delete phonemes in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609480"/>
            <a:ext cx="419112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ele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0258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304920"/>
            <a:ext cx="830592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e will be taking some sounds out of word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e are going to sing to the tune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ondon Bridge is Falling Dow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et’s 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Take away the /ch/ in chart, /ch/ in char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/ch/ in char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Take away the /ch/ in chart, and say the new word - 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03:07:54Z</dcterms:created>
  <dc:creator>Valued Gateway Client</dc:creator>
  <dc:description/>
  <dc:language>en-US</dc:language>
  <cp:lastModifiedBy> </cp:lastModifiedBy>
  <dcterms:modified xsi:type="dcterms:W3CDTF">2009-01-09T04:57:35Z</dcterms:modified>
  <cp:revision>5</cp:revision>
  <dc:subject/>
  <dc:title>Slide 1</dc:title>
</cp:coreProperties>
</file>