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988-4930-4DBA-80BD-BD0191CE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D23-01B3-4ECD-BF9A-A505851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05C-A2F4-474B-9353-8828B8BE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45C-EC9A-44B3-89AA-01C96930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DA70-62B1-4DD2-8341-5891E38C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2F99-3957-48D8-B823-6CB5D48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7BD3-E959-4A77-9474-E6588EB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F04C-82C7-4840-BF86-E49BF7A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9B98-5074-4ED1-BDF5-5AC8FC69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15B5-23CD-4ED8-8EB0-D8C8ABA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18E8-EB08-4437-AD37-DCE3E23B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96A9-7240-40D5-8F41-23B2A5F5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6CA1-6791-4480-9D1A-39F8EFB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F953-27E9-4F09-B489-36EDBAED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0D67-02F4-4350-8423-9BC51593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86A-FCC8-4D56-9210-A3115F01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1638-11EF-4FC7-92DF-03B8B3E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E31-6E0A-471C-B86C-57BE6F6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596-C95B-4E72-8283-5EEDA09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166-C4C0-4E4D-8756-3DE1013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537-058E-4438-A780-75A717D1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BD1-7551-4DC7-B4FE-C5532EE8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E39-6600-4533-A848-B49D885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195-792C-437E-90E7-40BF0B90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7D3-4EFC-4404-A22F-4C5FE842B94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355-B01C-462B-ADE9-28E2C6023B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ern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r car i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s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3808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 Ide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28600" y="2133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idea of a story is what the story is mostly about.  Let’s review the main ideas of some stories we have recently rea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71800"/>
          <a:ext cx="7924680" cy="3048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ion and the Mous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lion shows kindness to a mouse, who saves the lion’s life in return one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 More Friend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 ant shows kindness by making room for all her frie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’re Going on a Lion Hun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 girls have a hard journey, but also have fun on a lion hu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286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compatible"/>
          <p:cNvPicPr/>
          <p:nvPr/>
        </p:nvPicPr>
        <p:blipFill>
          <a:blip r:embed="rId1"/>
          <a:stretch/>
        </p:blipFill>
        <p:spPr>
          <a:xfrm>
            <a:off x="1219320" y="41911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304920" y="304920"/>
            <a:ext cx="7391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ppose a new family with a child your age moves in next door. How can you learn if the two of you are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ight a group of children behave if they are NOT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In what ways are you and your best friend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5" descr="amiable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80880" y="380880"/>
            <a:ext cx="72392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ame a storybook character who is amiable and one who is not.  Give a reason for this cho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 it more fun to be around someone who is amiable than someone who is not?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at is a good way to show that you are an amiable pers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3520" y="0"/>
            <a:ext cx="7391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name some familiar characters and if you think that character is amiable say “very nice”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t in “One More Frien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Wolf in “The Three Pig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inderella’s stepsis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rk in “Mark’s Big Day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relax2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80880" y="20574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28600" y="45720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s it easy for you to relax during a thunderstorm? Why or why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 do you like to be when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ow do you feel after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78487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describe some situations.  If you think you would be able to relax then say Ahhhh! If not say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iding a roller coa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floating on a raft in a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ing 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stening to 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228600"/>
            <a:ext cx="8534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: To review robust 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o you think someone who is amiable would be more compatible than someone who is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f you are struggling to ride your bike up a steep hill, does your body relax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Suppose the lion captured the mouse again.  Should it ask for mercy again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ing using He, She, It and Th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ack has a new pet.  He has a ki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at word did I use in place of Jack in the second senten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kitten has gray fur.  It is ten weeks 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word did I use in place of kitten in the second sentence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use he, she, it, and they correct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7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52280" y="38088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Jack and Jill play with the kitten.  They have f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word did I use to replace Jack and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Jill fed the kitten.  She gave it water, t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word did I use to replace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28600" y="533520"/>
            <a:ext cx="7924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The con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is over.  ______was f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Fer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inished first.  _________w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Kirk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as next.  _______ran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Burt and B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ere third.  ______didn’t run as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4572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ich one of these words would go in the blanks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77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6" dur="77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party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Zack, Ben, Greg, Mi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hat?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Swim pa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When?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 Saturday, May 30 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ere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Just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04920" y="457200"/>
            <a:ext cx="723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re’s another way to write an invit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: Z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 are invited to a swim party!  Bring a towel and a big appet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: Saturday, May 30,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: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1522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 : To draft an invit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4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7621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animal do you think makes the best pet? Tell why you think 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2280" y="3429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On my signal, turn and talk with your partner about which animal you think makes the best pe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752480" y="5181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____________is the best pet because 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522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appreciate the rhythm and rhyme of a poem; to read classic poet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8600" y="990720"/>
            <a:ext cx="8001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’re going to read a poem called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Notic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  As we read we will discover rhyming words throughout the poem.  We will read the poem two times.  The first time I want you to bark once when we say dog, meow once when we say cat, and croak once when we say frog.  The second time we read it I want you to clap if you hear a rhyming word in lines 1 or 3.  I want you to stomp your feet if you hear a rhyming word in lines 2 and 4.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04920" y="762120"/>
            <a:ext cx="80010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’s add –er and –est to change up some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r = lon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st =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r = ta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st = tall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inflections –er, -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3:07:54Z</dcterms:created>
  <dc:creator>Valued Gateway Client</dc:creator>
  <dc:description/>
  <dc:language>en-US</dc:language>
  <cp:lastModifiedBy>mworsham</cp:lastModifiedBy>
  <dcterms:modified xsi:type="dcterms:W3CDTF">2010-01-10T21:35:58Z</dcterms:modified>
  <cp:revision>6</cp:revision>
  <dc:subject/>
  <dc:title>Slide 1</dc:title>
</cp:coreProperties>
</file>