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3D7-863A-4C34-9308-45540C4B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1FC-C7FC-4C37-BAB9-CAAA4A42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848-DB47-45F6-A917-4C785790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F19-9514-4A49-9D85-0B99188A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8F8B-7229-4342-96CF-9396B9AC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E25F-EB59-43FA-B792-6F033E89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F692-8B34-4AD9-819A-A2D1B7BB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CB04-C116-45FF-9186-0D499A3D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AE6A-1A88-43B3-9AB1-A60EB4FD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C72E-2A11-4C99-92F7-F7649737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AC3A-F442-4656-A23D-D4AA2411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4F9-A0D1-46AB-8509-CDB1D32F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3B05-FA2E-412F-8832-B7F29E20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FEAD-2338-4591-AA93-DF1C41BD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53C6-552B-41FD-B9C4-746D24E4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9CA8-9CBA-41E4-B3C5-6B6B7CA3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C015-F7F3-4802-832D-8F0A36D8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270-E9D1-4044-A2D9-09100B2B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E229-4D86-4B89-8E37-C7F0E94C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E1B-02E2-4E7D-9EC5-3E526471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2378-5A76-4784-8062-51D133A0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A2D-B6C1-43C2-914C-50FD7071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AA9-3954-468E-BE42-FA8C8CD8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D33-4D4A-4FF2-99F7-F4920356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0D4B-2210-496C-8950-3FD5357925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5194-FE11-4764-94FF-760108204BC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695600" y="304920"/>
            <a:ext cx="683892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6,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304920" y="45720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urt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g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Kirk’s car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g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Fern’s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It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ark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Fern’s car to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urt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ark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Kirk’s car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Bert’s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ern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mall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er car i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st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o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4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alway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Cow’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jo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plea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roo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4120" y="228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- To read high-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75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5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75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75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75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75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75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75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5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75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75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75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75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75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75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75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75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38088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 Ide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28600" y="213372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ain idea of a story is what the story is mostly about.  Let’s review the main ideas of some stories we have recently rea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2971800"/>
          <a:ext cx="7924680" cy="30481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320"/>
              </a:tblGrid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Lion and the Mous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lion shows kindness to a mouse, who saves the lion’s life in return one d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e More Friend”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 ant shows kindness by making room for all her frien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’re Going on a Lion Hun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wo girls have a hard journey, but also have fun on a lion hu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compati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mi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rel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ompati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228600" y="15238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people or animals are compatible, they are able to be together or get along with each other.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5" descr="compatible"/>
          <p:cNvPicPr/>
          <p:nvPr/>
        </p:nvPicPr>
        <p:blipFill>
          <a:blip r:embed="rId1"/>
          <a:stretch/>
        </p:blipFill>
        <p:spPr>
          <a:xfrm>
            <a:off x="1219320" y="41911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304920" y="304920"/>
            <a:ext cx="73911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uppose a new family with a child your age moves in next door. How can you learn if the two of you are compati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How might a group of children behave if they are NOT compati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In what ways are you and your best friend compati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5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i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648320" y="14479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one who is amiable is good-natured and friendl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5" descr="amiable"/>
          <p:cNvPicPr/>
          <p:nvPr/>
        </p:nvPicPr>
        <p:blipFill>
          <a:blip r:embed="rId1"/>
          <a:stretch/>
        </p:blipFill>
        <p:spPr>
          <a:xfrm>
            <a:off x="152280" y="17524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80880" y="380880"/>
            <a:ext cx="723924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Name a storybook character who is amiable and one who is not.  Give a reason for this choi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s it more fun to be around someone who is amiable than someone who is not?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hat is a good way to show that you are an amiable pers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533520" y="0"/>
            <a:ext cx="739116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will name some familiar characters and if you think that character is amiable say “very nice”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nt in “One More Friend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The Wolf in “The Three Pig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Cinderella’s stepsis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rk in “Mark’s Big Day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l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648320" y="1447920"/>
            <a:ext cx="449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you relax, you are not uneasy or upset about anything; you spend time resting or doing things for fun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relax2"/>
          <p:cNvPicPr/>
          <p:nvPr/>
        </p:nvPicPr>
        <p:blipFill>
          <a:blip r:embed="rId1"/>
          <a:stretch/>
        </p:blipFill>
        <p:spPr>
          <a:xfrm>
            <a:off x="609480" y="1523880"/>
            <a:ext cx="3533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380880" y="2057400"/>
            <a:ext cx="83822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49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listen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28600" y="457200"/>
            <a:ext cx="7543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s it easy for you to relax during a thunderstorm? Why or why no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 do you like to be when you relax? 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ow do you feel after you relax? 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0" y="0"/>
            <a:ext cx="784872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will describe some situations.  If you think you would be able to relax then say Ahhhh! If not say noth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iding a roller coa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floating on a raft in a p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reading a 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stening to mus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0" y="228600"/>
            <a:ext cx="85345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: To review robust 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o you think someone who is amiable would be more compatible than someone who is no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f you are struggling to ride your bike up a steep hill, does your body relax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Suppose the lion captured the mouse again.  Should it ask for mercy again?  Why or why no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0" y="60948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riting using He, She, It and Th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Jack has a new pet.  He has a kit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What word did I use in place of Jack in the second sentenc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kitten has gray fur.  It is ten weeks o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hat word did I use in place of kitten in the second sentence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62120" y="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Objective: To use he, she, it, and they correct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6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152280" y="380880"/>
            <a:ext cx="7696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Jack and Jill play with the kitten.  They have fu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 word did I use to replace Jack and Jill in the second senten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Jill fed the kitten.  She gave it water, to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hat word did I use to replace Jill in the second senten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228600" y="533520"/>
            <a:ext cx="79246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The cont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is over.  ______was fu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Fern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inished first.  _________w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Kirk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was next.  _______ran fa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Burt and Bar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were third.  ______didn’t run as fa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4572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ich one of these words would go in the blanks ab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2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" y="15238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invitation.gif"/>
          <p:cNvPicPr/>
          <p:nvPr/>
        </p:nvPicPr>
        <p:blipFill>
          <a:blip r:embed="rId1"/>
          <a:stretch/>
        </p:blipFill>
        <p:spPr>
          <a:xfrm>
            <a:off x="5410080" y="1295280"/>
            <a:ext cx="3000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457200" y="9907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: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: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: 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: 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: 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come!  We’ll have lots of fu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010280" y="152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e purpose of an invitation.  To practice standard invitation for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party"/>
          <p:cNvPicPr/>
          <p:nvPr/>
        </p:nvPicPr>
        <p:blipFill>
          <a:blip r:embed="rId1"/>
          <a:stretch/>
        </p:blipFill>
        <p:spPr>
          <a:xfrm>
            <a:off x="5105520" y="228600"/>
            <a:ext cx="1903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0" y="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Who?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Zack, Ben, Greg, Mi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hat?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Swim pa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When?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 Saturday, May 30  3: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Where?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My ho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Who?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Just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304920" y="457200"/>
            <a:ext cx="72388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Here’s another way to write an invit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o: Za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ou are invited to a swim party!  Bring a towel and a big appet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: Saturday, May 30, 3: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re: my ho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80880" y="1522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 : To draft an invita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72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28600" y="76212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animal do you think makes the best pet? Tell why you think s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2280" y="34290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On my signal, turn and talk with your partner about which animal you think makes the best pe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752480" y="51814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____________is the best pet because ________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52280" y="228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appreciate the rhythm and rhyme of a poem; to read classic poet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28600" y="990720"/>
            <a:ext cx="8001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e’re going to read a poem called </a:t>
            </a: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Notic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.  As we read we will discover rhyming words throughout the poem.  We will read the poem two times.  The first time I want you to bark once when we say dog, meow once when we say cat, and croak once when we say frog.  The second time we read it I want you to clap if you hear a rhyming word in lines 1 or 3.  I want you to stomp your feet if you hear a rhyming word in lines 2 and 4.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533520" y="167652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ti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90920" y="49449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g Book of Poems and Rhy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5"/>
          <p:cNvSpPr txBox="1"/>
          <p:nvPr/>
        </p:nvSpPr>
        <p:spPr>
          <a:xfrm>
            <a:off x="228600" y="152280"/>
            <a:ext cx="739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04920" y="1066680"/>
            <a:ext cx="556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le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334120" y="114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bjective : to read high frequency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334120" y="152280"/>
            <a:ext cx="236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lete phonemes in words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609480"/>
            <a:ext cx="4191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ape"/>
          <p:cNvPicPr/>
          <p:nvPr/>
        </p:nvPicPr>
        <p:blipFill>
          <a:blip r:embed="rId1"/>
          <a:stretch/>
        </p:blipFill>
        <p:spPr>
          <a:xfrm>
            <a:off x="5029200" y="2362320"/>
            <a:ext cx="302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304920" y="762120"/>
            <a:ext cx="80010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t’s add –er and –est to change up some 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dd er = lon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dd est =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T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dd er = ta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dd est = tall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22860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recognize inflections –er, -e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066680" y="838080"/>
            <a:ext cx="6934320" cy="421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rm+er = farm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uck+er = truck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ng+er = sing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lp+er = help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unt+er = hun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8600" y="3049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bjective: To build words with inflection 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3:07:54Z</dcterms:created>
  <dc:creator>Valued Gateway Client</dc:creator>
  <dc:description/>
  <dc:language>en-US</dc:language>
  <cp:lastModifiedBy>mworsham</cp:lastModifiedBy>
  <dcterms:modified xsi:type="dcterms:W3CDTF">2010-01-10T21:35:58Z</dcterms:modified>
  <cp:revision>6</cp:revision>
  <dc:subject/>
  <dc:title>Slide 1</dc:title>
</cp:coreProperties>
</file>