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5D2-3748-45A0-8C18-90B3DE11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463-9487-439A-95F2-B5294682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179-385E-4086-800B-018229A5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DE8-B7D8-4473-B08F-0C954606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4A3-B708-4CA2-88FB-A1C4B3E3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4D1-78A2-42F2-A56B-E8CEE71C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DF9-506B-4B07-92E3-066342F3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923-5253-4E5E-9895-59C198B2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5E9-104D-4345-8F00-324C5428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A02-8847-428A-8C12-DDF3C100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B90-4D29-42BF-AAA3-739FABA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DAD-5BB3-447E-ACB4-1A3FEEA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4A2D-F46B-4F9C-BC19-2C90F2FAC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95600" y="304920"/>
            <a:ext cx="6838920" cy="6095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6, Day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04920" y="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Build Robust Vocabular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28600" y="144792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 you think someone who is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miabl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would be mor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ompatib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an someone who is not?  W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you ar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truggling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ride your bike up a steep hill, does your body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rela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se the lion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aptured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ouse again.  Should it ask for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ercy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gain?  Why or why no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80880" y="533520"/>
            <a:ext cx="716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304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Talk about your pet or a pet you would like to ha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On my signal, turn and talk with your partner about your p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3200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Calibri"/>
              </a:rPr>
              <a:t>My pet is a _______named_________.  My pet is __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533520" y="167652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590920" y="49449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ig Book of Poems and Rh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28600" y="15228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04920" y="1066680"/>
            <a:ext cx="556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341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Objective 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5334120" y="15228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delete phonemes in word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609480"/>
            <a:ext cx="4191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lending 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ape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066680" y="838080"/>
            <a:ext cx="6934320" cy="4210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rm+er = farm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uck+er = truc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+er = sing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+er = hel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nt+er = hun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304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bjective: To build words with inflection 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04920" y="4572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t ha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igg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irk’s car is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igger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than Fern’s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t is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arker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than Fern’s car to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t ha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ark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irk’s car is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maller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than Bert’s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ern ha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mall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er car i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ast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80880" y="19051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Calibri"/>
              </a:rPr>
              <a:t>Spelling Te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0958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Times New Roman"/>
              </a:rPr>
              <a:t>Objective:  To read and write spelling word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igh Frequency Wor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838080" y="1219320"/>
            <a:ext cx="25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ow’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lea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ni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724280" y="1295280"/>
            <a:ext cx="25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oi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ve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21:29:01Z</dcterms:created>
  <dc:creator>mworsham</dc:creator>
  <dc:description/>
  <dc:language>en-US</dc:language>
  <cp:lastModifiedBy>mworsham</cp:lastModifiedBy>
  <dcterms:modified xsi:type="dcterms:W3CDTF">2010-01-10T21:52:43Z</dcterms:modified>
  <cp:revision>2</cp:revision>
  <dc:subject/>
  <dc:title>Slide 1</dc:title>
</cp:coreProperties>
</file>