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ED1-4E18-4178-BAD3-FDF75F42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83B-C693-4DE7-837E-B213D61D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E3E-A6D8-4C80-9F9B-149942AD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865-75C7-48D5-B15D-71B2716E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A98-6F65-4A3D-95DB-F85A16B4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227-72DA-4169-AA3E-F5289968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8C7-22B5-4A63-8D25-D45EF58A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B73-BA83-4BD6-B70F-BC5F93C9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3C3-DF79-46E9-A1A6-D6F1CB79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6B4-A18B-4017-9AD2-870AD232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3DF-CA49-48E8-AF8D-1F6FD70D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219-5DD9-43E8-9CAF-F64984C2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4D11-1434-4674-B4CC-8D8B2583D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95600" y="304920"/>
            <a:ext cx="6838920" cy="6095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6, Day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04920" y="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Build Robust Vocabular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28600" y="144792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 you think someone who is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amiabl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would be more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compatibl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an someone who is not?  W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you are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truggling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ride your bike up a steep hill, does your body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relax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se the lion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captured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mouse again.  Should it ask for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ercy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gain?  Why or why no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380880" y="533520"/>
            <a:ext cx="716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304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Talk about your pet or a pet you would like to ha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0" y="1600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On my signal, turn and talk with your partner about your p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32004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Calibri"/>
              </a:rPr>
              <a:t>My pet is a _______named_________.  My pet is ___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533520" y="167652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ti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590920" y="49449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ig Book of Poems and Rhy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28600" y="152280"/>
            <a:ext cx="7391520" cy="762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04920" y="1066680"/>
            <a:ext cx="556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p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34120" y="114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Objective 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5334120" y="152280"/>
            <a:ext cx="236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delete phonemes in word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609480"/>
            <a:ext cx="4191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lending 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ape"/>
          <p:cNvPicPr/>
          <p:nvPr/>
        </p:nvPicPr>
        <p:blipFill>
          <a:blip r:embed="rId1"/>
          <a:stretch/>
        </p:blipFill>
        <p:spPr>
          <a:xfrm>
            <a:off x="5029200" y="2362320"/>
            <a:ext cx="302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066680" y="838080"/>
            <a:ext cx="6934320" cy="4210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rm+er = farm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uck+er = truck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ng+er = sing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lp+er = help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unt+er = hun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3049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bjective: To build words with inflection 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04920" y="45720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urt has the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biggest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Kirk’s car is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bigger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than Fern’s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t is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arker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than Fern’s car to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urt has the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arkest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Kirk’s car is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maller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than Bert’s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ern has the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mallest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er car is the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astest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380880" y="19051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Calibri"/>
              </a:rPr>
              <a:t>Spelling Te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095880" y="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Times New Roman"/>
              </a:rPr>
              <a:t>Objective:  To read and write spelling word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igh Frequency Wor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838080" y="1219320"/>
            <a:ext cx="2590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ow’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app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lea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ni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e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4724280" y="1295280"/>
            <a:ext cx="2590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joi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ve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21:29:01Z</dcterms:created>
  <dc:creator>mworsham</dc:creator>
  <dc:description/>
  <dc:language>en-US</dc:language>
  <cp:lastModifiedBy>mworsham</cp:lastModifiedBy>
  <dcterms:modified xsi:type="dcterms:W3CDTF">2010-01-10T21:52:43Z</dcterms:modified>
  <cp:revision>2</cp:revision>
  <dc:subject/>
  <dc:title>Slide 1</dc:title>
</cp:coreProperties>
</file>