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35D-0906-4B5E-BD42-E1B3FBA1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D64-B663-4166-ADC8-6D2B3C68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0C-EEE4-4A54-8CE0-B5AA1044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20B-0B7F-42DB-9B43-0B6EF5AE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DD7-34D4-4EB0-8B93-988B3C4F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E23-3B80-4B9C-AD74-E8D7476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D79-BEE6-40CD-A40D-97AE934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FCF-ACD8-4ED8-9A9C-BCB12D4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17B-CA99-4C2C-8E77-025677DE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036-D998-45D9-9DAB-728EBC9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0B5-231D-4ECC-8C99-982EBEF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FA6-5714-48A3-9651-8039B5CA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99E2-2EA5-4BCA-B6FB-E48FF9D09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ome animals jum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and tumbl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ome animals mak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bells ji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95280"/>
            <a:ext cx="4267080" cy="495324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953240"/>
              <a:gd name="textAreaBottom" fmla="*/ 4745160 h 4953240"/>
            </a:gdLst>
            <a:ahLst/>
            <a:rect l="textAreaLeft" t="textAreaTop" r="textAreaRight" b="textAreaBottom"/>
            <a:pathLst>
              <a:path w="21600" h="25073">
                <a:moveTo>
                  <a:pt x="3600" y="0"/>
                </a:moveTo>
                <a:arcTo wR="3600" hR="3600" stAng="16200000" swAng="-5400000"/>
                <a:lnTo>
                  <a:pt x="0" y="21473"/>
                </a:lnTo>
                <a:arcTo wR="3600" hR="3600" stAng="10800000" swAng="-5400000"/>
                <a:lnTo>
                  <a:pt x="18000" y="25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4267080" cy="4876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876920"/>
              <a:gd name="textAreaBottom" fmla="*/ 4668840 h 4876920"/>
            </a:gdLst>
            <a:ahLst/>
            <a:rect l="textAreaLeft" t="textAreaTop" r="textAreaRight" b="textAreaBottom"/>
            <a:pathLst>
              <a:path w="21600" h="24687">
                <a:moveTo>
                  <a:pt x="3600" y="0"/>
                </a:moveTo>
                <a:arcTo wR="3600" hR="3600" stAng="16200000" swAng="-5400000"/>
                <a:lnTo>
                  <a:pt x="0" y="21087"/>
                </a:lnTo>
                <a:arcTo wR="3600" hR="3600" stAng="10800000" swAng="-5400000"/>
                <a:lnTo>
                  <a:pt x="18000" y="24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the Rainbow Came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Blue and Yellow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arth must hav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have with friends about games you play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6520" y="61563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the butterflies w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were the same color as everything els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ore all white clothing as you walked through the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helps you fall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 before I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t without colo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d, Blue and Yellow, so they added color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day at school without lunch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iend broke an agreement.  On my signal show or tell your partner how you might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urprise a friend.  On my signal show your partner how you would go up to him or her unnoti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something unthinkable just happened.  Use the expression on your face to show your partner how you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’s oceans and rivers were beauti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’s bird was bright r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m’s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ctor’s penc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6292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Draft a Me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showing a friend or relative who lives in anoth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draw a picture of something interesting that has happened recently to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or phrases that you may want to add to your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-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6934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Syllable </a:t>
            </a:r>
            <a:r>
              <a:rPr b="1" i="1" lang="en-US" sz="6000" spc="-1" strike="noStrike">
                <a:solidFill>
                  <a:srgbClr val="000000"/>
                </a:solidFill>
                <a:latin typeface="Constantia"/>
              </a:rPr>
              <a:t>-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24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le/ sound at the end, hold your thumb up and say the sound /le/.  When I say a word that does not have /le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053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4382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2362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562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46:53Z</dcterms:modified>
  <cp:revision>115</cp:revision>
  <dc:subject/>
  <dc:title>Slide 1</dc:title>
</cp:coreProperties>
</file>