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B98B-47FA-4F31-B2F1-8B976CBB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8D1D-14F2-4D94-A38A-475CD7A73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D1B3-E2AA-48D9-848E-925FE09F1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C356-FDD4-4A60-BAC3-394AEC8E9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4403-620B-4E54-9D4F-B556346A9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45FF-8672-4DDB-9502-49A3C820B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2552-31CF-4D92-9409-774DFC6FE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9C64-6903-47F1-9E0E-39D9D61B5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ABC5-E52B-4428-86A7-9137EFE1E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2015-4AAE-4427-BFC7-E452EE518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E1D0-FB76-41DA-8FF6-CCE65A815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A869-59E1-4902-B704-4B34ECB61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932E-162C-40E9-9AD4-C128D98C8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71BC-21E5-4BC8-941A-CAD318E0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59BF-67B3-42B2-AE8E-D4D5E688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72A0-D6AE-4680-89BC-A2A741649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80FB-E243-45D3-8F87-2A7F399E2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2344-FF27-4D93-A89F-0344CAA1A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4014-764E-472B-8507-E006FC18B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y, carry, money, other, paint, paper, would, always, first, name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, handle, wig, wiggle, single, little, turn, girl, by,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C399-8F7B-4408-808A-7794AA80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64F9-5260-4AE4-B0A2-715E2961F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1FC6-4F78-40ED-9552-89D7B61F4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, handle, wig, wiggle, single, little, turn, girl, by,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F1FA-62A6-488A-9A6F-4FC141BA3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7CF-9E46-45E2-BD0F-E8D10F0F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C82-AD9A-4F12-B0DC-5B0D5BC1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573-7A00-4397-B5E2-BD488D90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C1B-25AD-426B-940F-E4968F4D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9124-926A-49E0-A62A-DDB43420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313D-C3EC-4184-9504-EF170CE8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7E2-9121-4829-819E-EF6083E6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DA9-5EFF-4FA5-A233-31215C04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415-C34F-4657-A259-0243911D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A47-3DF9-4D56-99CB-3313D890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52E-219F-4600-B2B1-EE163898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947-E608-4AA8-8F7A-0AF8E3DF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2956-8274-4BB9-B04A-D4B861605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E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944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Consonant, Add 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onant, Add 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aint.jpg"/>
          <p:cNvPicPr/>
          <p:nvPr/>
        </p:nvPicPr>
        <p:blipFill>
          <a:blip r:embed="rId1"/>
          <a:stretch/>
        </p:blipFill>
        <p:spPr>
          <a:xfrm>
            <a:off x="762120" y="3048120"/>
            <a:ext cx="3752640" cy="359568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685800" y="380880"/>
            <a:ext cx="4191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The main idea of a story is what it is mostly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What is the main idea of these pic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pendernew2801_468x315.jpg"/>
          <p:cNvPicPr/>
          <p:nvPr/>
        </p:nvPicPr>
        <p:blipFill>
          <a:blip r:embed="rId2"/>
          <a:stretch/>
        </p:blipFill>
        <p:spPr>
          <a:xfrm>
            <a:off x="4495680" y="990720"/>
            <a:ext cx="44578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047240" y="685800"/>
            <a:ext cx="7666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What is the main idea in the story </a:t>
            </a:r>
            <a:r>
              <a:rPr b="0" i="1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One More Friend</a:t>
            </a: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Be a good friend and make room for one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What is the main idea in the story </a:t>
            </a:r>
            <a:r>
              <a:rPr b="0" i="1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Mark’s Big Day</a:t>
            </a:r>
            <a:r>
              <a:rPr b="0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Don’t give up and do your best and you will succ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What is the main idea in the story </a:t>
            </a:r>
            <a:r>
              <a:rPr b="0" i="1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How the Rainbow Came to Be</a:t>
            </a: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The colors worked together to make the Earth pret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olorearth.jpg"/>
          <p:cNvPicPr/>
          <p:nvPr/>
        </p:nvPicPr>
        <p:blipFill>
          <a:blip r:embed="rId1"/>
          <a:stretch/>
        </p:blipFill>
        <p:spPr>
          <a:xfrm>
            <a:off x="3581280" y="4038480"/>
            <a:ext cx="24228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88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688000" y="1676520"/>
            <a:ext cx="1730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u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438280" y="6094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mprove comprehension by re-reading and looking for the main id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371600" y="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219320" y="3505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4197600" y="1676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9"/>
          <p:cNvSpPr/>
          <p:nvPr/>
        </p:nvSpPr>
        <p:spPr>
          <a:xfrm>
            <a:off x="2438280" y="1676520"/>
            <a:ext cx="63972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1"/>
          <p:cNvSpPr/>
          <p:nvPr/>
        </p:nvSpPr>
        <p:spPr>
          <a:xfrm flipH="1">
            <a:off x="640080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in agreement with others, you all think the same 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1" descr="MCj03983910000[1]"/>
          <p:cNvPicPr/>
          <p:nvPr/>
        </p:nvPicPr>
        <p:blipFill>
          <a:blip r:embed="rId1"/>
          <a:stretch/>
        </p:blipFill>
        <p:spPr>
          <a:xfrm>
            <a:off x="685800" y="1447920"/>
            <a:ext cx="39038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9480" y="60912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If Mrs. Clark wanted to cancel P.E. forever, would you be in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greement</a:t>
            </a: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?  Why or why not?  On my signal turn and talk to your partner about th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5990040" y="22860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noti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go unnoticed, no one sees yo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MCj04325660000[1]"/>
          <p:cNvPicPr/>
          <p:nvPr/>
        </p:nvPicPr>
        <p:blipFill>
          <a:blip r:embed="rId1"/>
          <a:stretch/>
        </p:blipFill>
        <p:spPr>
          <a:xfrm>
            <a:off x="685800" y="5181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MCj04399430000[1]"/>
          <p:cNvPicPr/>
          <p:nvPr/>
        </p:nvPicPr>
        <p:blipFill>
          <a:blip r:embed="rId2"/>
          <a:stretch/>
        </p:blipFill>
        <p:spPr>
          <a:xfrm>
            <a:off x="1828800" y="1600200"/>
            <a:ext cx="336708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9"/>
          <p:cNvSpPr/>
          <p:nvPr/>
        </p:nvSpPr>
        <p:spPr>
          <a:xfrm>
            <a:off x="1676520" y="518148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ney on the ground went unnoticed by the wo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666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omic Sans MS"/>
              </a:rPr>
              <a:t>Which animal would go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unnoticed</a:t>
            </a:r>
            <a:r>
              <a:rPr b="0" lang="en-US" sz="4800" spc="-1" strike="noStrike">
                <a:solidFill>
                  <a:srgbClr val="00b050"/>
                </a:solidFill>
                <a:latin typeface="Comic Sans MS"/>
              </a:rPr>
              <a:t> at the beach, a polar bear or a seagu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828800" y="380988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Comic Sans MS"/>
              </a:rPr>
              <a:t>If you vote “polar bear” touch the top of your 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Comic Sans MS"/>
              </a:rPr>
              <a:t>If you vote “seagull” touch your n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788440" y="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38052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Bradley Hand ITC"/>
              </a:rPr>
              <a:t>On my signal turn and talk to your partner using this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To have fun, elephants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because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ula%20Monkey-Girls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191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581280" y="1981080"/>
            <a:ext cx="40388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do you think elephants do to have fun?  Tell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678120" y="83808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Question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unthinkable event is something you never thought could or would hap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think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MPj02892220000[1]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28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long time ago people believed it was unthinkable for us to land on mo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685800" y="12952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75d1"/>
                </a:solidFill>
                <a:latin typeface="Aharoni"/>
                <a:ea typeface="Aharoni"/>
              </a:rPr>
              <a:t>It is </a:t>
            </a: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unthinkable</a:t>
            </a:r>
            <a:r>
              <a:rPr b="1" lang="en-US" sz="4000" spc="-1" strike="noStrike">
                <a:solidFill>
                  <a:srgbClr val="7575d1"/>
                </a:solidFill>
                <a:latin typeface="Aharoni"/>
                <a:ea typeface="Aharoni"/>
              </a:rPr>
              <a:t> that chocolate milk will fall from clouds like rain today? (choral answer on sign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6226560" y="152280"/>
            <a:ext cx="2908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1752480" y="380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7086600" y="152280"/>
            <a:ext cx="1828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recognize possessive common nou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09480" y="10666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find the words in each sentence that show ownership?  These words are called possessive naming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36400" y="2819520"/>
            <a:ext cx="819036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Mrs. Wagnon went to Mrs. Babcock’s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Miss Mooney borrowed Mrs. Mangham’s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Mr. Sisco’s piano is being repa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Did you meet Mrs. Chatman’s daugh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friendly letter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086600" y="3808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o contribute to the sha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writing of a friendly letter.</a:t>
            </a:r>
            <a:br>
              <a:rPr sz="44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914400" y="114300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uary 20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r Second Grade Stud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fri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mley First Grade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MPj0431791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4419720" cy="3046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257800" y="0"/>
            <a:ext cx="3276720" cy="77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660033"/>
                </a:solidFill>
                <a:latin typeface="Constantia"/>
              </a:rPr>
              <a:t>            “Elephant So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315440" y="12193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3124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b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972160" y="228600"/>
            <a:ext cx="30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653800" y="1295280"/>
            <a:ext cx="165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the beginning phoneme in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MCj04174500000[1]"/>
          <p:cNvPicPr/>
          <p:nvPr/>
        </p:nvPicPr>
        <p:blipFill>
          <a:blip r:embed="rId1"/>
          <a:stretch/>
        </p:blipFill>
        <p:spPr>
          <a:xfrm>
            <a:off x="5052960" y="2579760"/>
            <a:ext cx="3838680" cy="3054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181480" y="5029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Hunting We Will Go 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411480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6bcf"/>
                </a:solidFill>
                <a:latin typeface="Constantia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Please do not turn the red hand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The little girl put a black wig on her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It is so dark that I cannot see a single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and still and do not wig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Please raise your hand before you s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52480" y="13712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830320" y="30492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181120" y="1447920"/>
            <a:ext cx="13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practice adding ed and ing to the end of some words.  Remember the meaning of the word will not be changed when we add these end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8600"/>
            <a:ext cx="7162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mic Sans MS"/>
              </a:rPr>
              <a:t>Objective: To recognize roo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mic Sans MS"/>
              </a:rPr>
              <a:t>To read infelectional forms with –ed and –ing with a double final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4191120"/>
            <a:ext cx="5410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shop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sho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0:53:08Z</dcterms:modified>
  <cp:revision>197</cp:revision>
  <dc:subject/>
  <dc:title>Slide 1</dc:title>
</cp:coreProperties>
</file>