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3E4-4535-46B5-968D-CC0C9AEC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F308-20FD-425A-8E8A-127D6CD3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D648-3CE7-4323-9B79-D65A9583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B528-2C2D-4DDA-B162-D8DE041B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B13-27A5-4AD5-A16A-2F6A92DC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C4AB-DD93-4241-B94A-DA16B704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4EC5-D689-4747-9577-27CEE03B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A0F2-DA39-493A-9DD5-42D767FF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3A0-F397-4C30-AB60-C8B9DCEA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DEC-7D47-40E9-9F6E-B6BEDB89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FC3-CF75-47BB-8F3D-7D96C368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428-364C-450C-AB79-E32242F6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6706-B171-4D27-8117-976271AA6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7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609480"/>
            <a:ext cx="72388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chool bus sto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g hopped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 planned to sit by he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g saw a new girl sitting in the 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ew girl looked up and grin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g started grinning,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g dropped her b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 flopped down next to the gir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the time they stepped off the bus, they were frie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idea is what the story is mostly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What is the main idea of “Jungle Fun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What is the main idea of “Can Elephants Pain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6862680" y="228600"/>
            <a:ext cx="1966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cognize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 ide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j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a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ord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rejoice, you show that you are very happ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joic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2201760"/>
            <a:ext cx="4800600" cy="3025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280" y="54100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ildre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jo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jumping up and do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rej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began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jo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he saw that Lucky could pa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irthday present would make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jo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redicam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7524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have a predicament, you have a serious or difficult problem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58672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s in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edica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cause his head is stuck between the b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redica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g and Lucky were in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dica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all the trees were cut, and they had no way to make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 in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dica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go to school on time or if you lost your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105520" y="1600200"/>
            <a:ext cx="3795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thing extraordinary is something that is very unusual or remarkab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traordinar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876920" cy="4506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60958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painted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traord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icture on the w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extraord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thought that the elephants’ art wa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extraordin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it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traordin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ee a monkey play a musical instru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62560" y="0"/>
            <a:ext cx="1981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22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ses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990720"/>
            <a:ext cx="891540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That elephant’s trunk can hold a bru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Lucky’s painting is beautiful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s lik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an take the place of naming words and also show ownershi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His trunk can hold a bru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Her painting is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The painting is hers.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ere would you play with an elepha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woul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take an elephant to 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We would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es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Luckys trunk picked up the bru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Her trunk is st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The painting is 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The mans job was in the jung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The elephants needed his help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5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r Bi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ent to an art show today.  I saw amazing paintings made by elephants.  Did you know that elephants can pa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rien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s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ly 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752480"/>
            <a:ext cx="761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577880"/>
            <a:ext cx="9144000" cy="3702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086600" y="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 a Mes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nd write about the kind of art you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ook at or ma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letter to a friend about this kin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MPj04317910000[1]"/>
          <p:cNvPicPr/>
          <p:nvPr/>
        </p:nvPicPr>
        <p:blipFill>
          <a:blip r:embed="rId1"/>
          <a:stretch/>
        </p:blipFill>
        <p:spPr>
          <a:xfrm>
            <a:off x="838080" y="1905120"/>
            <a:ext cx="4419720" cy="30463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6629400" y="0"/>
            <a:ext cx="2514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 To recognize the pattern of a rhy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5257800" y="0"/>
            <a:ext cx="3276720" cy="77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660033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660033"/>
                </a:solidFill>
                <a:latin typeface="Constantia"/>
              </a:rPr>
              <a:t>            “Elephant Song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315440" y="121932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mi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3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3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3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3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3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3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3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81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l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886200" y="1219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876920" y="12193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4495680" y="121932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3962520" y="22096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35268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5410080" y="1219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4343400" y="2209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4800600" y="22096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3276720" y="3276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373392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4114800" y="3276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5029200" y="3276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89548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335268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380988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4343400" y="43434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2819520" y="54100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3352680" y="54100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0"/>
          <p:cNvSpPr/>
          <p:nvPr/>
        </p:nvSpPr>
        <p:spPr>
          <a:xfrm>
            <a:off x="3809880" y="54100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1"/>
          <p:cNvSpPr/>
          <p:nvPr/>
        </p:nvSpPr>
        <p:spPr>
          <a:xfrm>
            <a:off x="4343400" y="54100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Content Placeholder 1"/>
          <p:cNvSpPr/>
          <p:nvPr/>
        </p:nvSpPr>
        <p:spPr>
          <a:xfrm>
            <a:off x="1752480" y="13716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i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i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5124600" y="1447920"/>
            <a:ext cx="1364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gi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u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a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a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 To read high-frequency word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3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3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3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3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3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3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Endin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4944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oot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uble Consonant, Add 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p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t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u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nsonant, Add 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p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Nick Babcock</cp:lastModifiedBy>
  <dcterms:modified xsi:type="dcterms:W3CDTF">2010-01-19T01:00:18Z</dcterms:modified>
  <cp:revision>117</cp:revision>
  <dc:subject/>
  <dc:title>Slide 1</dc:title>
</cp:coreProperties>
</file>