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A40-31BE-4345-BC92-87310FFF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D78-03CC-4FD3-9B0D-A571293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966-998D-40AD-808A-FABBA4D0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7C6-08EA-4F64-91BD-6AA241D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F45-EE3B-40E8-A403-1FCAC36D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704-BF70-4D3C-8A76-CD56C769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2B6-4AE9-4C83-9801-B6FC7D05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4F5-D2FB-4C63-8C4D-9204EDA6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F03-AA78-4C77-84B0-C2233E0A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D45-3CF3-4F24-941B-5796FCB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648-3DA4-4B35-90F5-4BF032CB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7F8-BFA5-4247-9795-BA1B210B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AE8E-9D63-4BAA-AD2E-1C0D3F70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609480"/>
            <a:ext cx="7238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hool bus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hopp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planned to sit by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aw a new girl sitting in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ew girl looked up and gri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tarted grinning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dropped her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flopped down next to the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time they stepped off the bus, they were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 is what the story is mostly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hat is the main idea of “Jungle Fu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What is the main idea of “Can Elephants Pai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rejoice, you show that you are very happ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joi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01760"/>
            <a:ext cx="4800600" cy="302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54100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umping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began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saw that Lucky could 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irthday present would make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edica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a predicament, you have a serious or difficult problem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his head is stuck between the b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g and Lucky wer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all the trees were cut, and they had no wa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go to school on time or if you lost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105520" y="1600200"/>
            <a:ext cx="37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thing extraordinary is something that is very unusual or remark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traordinar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876920" cy="450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0958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painted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cture on the w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ought that the elephants’ art wa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e a monkey play a musical instr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2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9154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at elephant’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Lucky’s painting is beautifu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an take the place of naming words and also show ownersh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i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er painting i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he painting is hers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play with an eleph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take an elephant to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Luckys trunk picked up the br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Her trunk is st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painting is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mans job was in the jun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elephants needed his hel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Bi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ent to an art show today.  I saw amazing paintings made by elephants.  Did you know that elephants can p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rie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ly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write about the kind of ar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ok at or m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to a friend about this kin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2767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73392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8954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33526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28195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3352680" y="5410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3809880" y="5410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4343400" y="5410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124600" y="1447920"/>
            <a:ext cx="136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-frequency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3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3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3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3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1:00:18Z</dcterms:modified>
  <cp:revision>117</cp:revision>
  <dc:subject/>
  <dc:title>Slide 1</dc:title>
</cp:coreProperties>
</file>