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88B-0DC3-4D17-80D7-E2E8026D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3F7-0596-4912-BE20-AD57DA02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CAC-8488-4A8B-9E84-FC7D0EE1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2D6-735A-40D9-8ADA-59A635D3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B14-774A-47BF-8473-FC338F79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AE3-8D5B-4B1A-8A6B-D76C2E81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917-6936-456D-A941-2C7F2227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000-1CD1-4C23-B7CF-9E45D3B9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55A-23A3-40F4-957D-78B95177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092-30EB-4C86-9125-00F0B737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C38-0D29-4C05-B3C5-0DB23512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263-0329-4B25-9983-BC06F482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8610-424A-4C81-8D2C-B3BA9347E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anuary 16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7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371600"/>
          <a:ext cx="8229600" cy="5195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he Rainbow Came to Be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Eleph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t?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ireflies, Fireflies, Light My 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can elephants do with their tru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 is that amaz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Elephants can use their trunks to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spond to a story through mus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Elepha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7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y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8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nflections –ed, -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2133720"/>
            <a:ext cx="358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t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20040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4920" y="228600"/>
          <a:ext cx="7619760" cy="523224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Consonant, Add 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b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onant, Add 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295280"/>
            <a:ext cx="3886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1371600"/>
            <a:ext cx="3886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Valued Gateway Client</cp:lastModifiedBy>
  <dcterms:modified xsi:type="dcterms:W3CDTF">2009-01-16T13:45:07Z</dcterms:modified>
  <cp:revision>116</cp:revision>
  <dc:subject/>
  <dc:title>Slide 1</dc:title>
</cp:coreProperties>
</file>