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43C-C21F-4F59-B904-8D1A8C5E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9D2-A998-44D6-BD46-4357E307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F81-036B-4A55-BF38-0AEF69CB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DAB-C5C9-4E62-8D94-D8DEBF16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BAB-EA89-4A33-9D0D-7EEF106D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7F1-B6A0-499B-A8B5-71F1A925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248-CA33-445A-8B93-B579F0FB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7FF-80D8-43A5-A588-08F971DA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912-1AF1-4D3F-AAF1-580FE47E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FC77-EE87-46F6-ADC8-09076E3C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0C8-5812-46E0-8702-C25FE722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04E8-CB30-44EC-9633-ED501DA2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A4B6-09A2-495A-AF43-CC7F71D25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anuary 16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7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371600"/>
          <a:ext cx="8229600" cy="5195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he Rainbow Came to Be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Eleph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t?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ireflies, Fireflies, Light My 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can elephants do with their trun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 is that amaz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Elephants can use their trunks to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spond to a story through mus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Elepha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72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y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8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nflections –ed, -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2133720"/>
            <a:ext cx="358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t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320040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04920" y="228600"/>
          <a:ext cx="7619760" cy="523224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oot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Consonant, Add 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p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b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nsonant, Add 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p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b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295280"/>
            <a:ext cx="38862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1371600"/>
            <a:ext cx="38862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Valued Gateway Client</cp:lastModifiedBy>
  <dcterms:modified xsi:type="dcterms:W3CDTF">2009-01-16T13:45:07Z</dcterms:modified>
  <cp:revision>116</cp:revision>
  <dc:subject/>
  <dc:title>Slide 1</dc:title>
</cp:coreProperties>
</file>