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C38-0605-4636-93A8-88533811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7CC-1739-458D-AEBE-9FDF9460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360-EEA0-4C31-98C9-47BD0064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898-B21C-4EFC-979A-5D1306C0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CB5-6562-4F59-8099-733F7A30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267-A941-4A5C-BCCE-93C84FAD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F90-2B1D-4AD3-ABAB-45AB9AF1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350-6276-4AD4-B735-6812E798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439-0C70-49FF-8679-D202383C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E11C-CEB5-4B20-AC49-14CD86D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B6A-7C20-49CC-8A1D-CFBF9A37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06B-BED8-46E3-9F6C-483017C4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4F5B-1111-455E-A14C-F08E57BAE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Some animals jump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and tumbl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ome animals mak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bells jing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295280"/>
            <a:ext cx="4267080" cy="495324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4953240"/>
              <a:gd name="textAreaBottom" fmla="*/ 4745160 h 4953240"/>
            </a:gdLst>
            <a:ahLst/>
            <a:rect l="textAreaLeft" t="textAreaTop" r="textAreaRight" b="textAreaBottom"/>
            <a:pathLst>
              <a:path w="21600" h="25073">
                <a:moveTo>
                  <a:pt x="3600" y="0"/>
                </a:moveTo>
                <a:arcTo wR="3600" hR="3600" stAng="16200000" swAng="-5400000"/>
                <a:lnTo>
                  <a:pt x="0" y="21473"/>
                </a:lnTo>
                <a:arcTo wR="3600" hR="3600" stAng="10800000" swAng="-5400000"/>
                <a:lnTo>
                  <a:pt x="18000" y="25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371600"/>
            <a:ext cx="4267080" cy="487692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4876920"/>
              <a:gd name="textAreaBottom" fmla="*/ 4668840 h 4876920"/>
            </a:gdLst>
            <a:ahLst/>
            <a:rect l="textAreaLeft" t="textAreaTop" r="textAreaRight" b="textAreaBottom"/>
            <a:pathLst>
              <a:path w="21600" h="24687">
                <a:moveTo>
                  <a:pt x="3600" y="0"/>
                </a:moveTo>
                <a:arcTo wR="3600" hR="3600" stAng="16200000" swAng="-5400000"/>
                <a:lnTo>
                  <a:pt x="0" y="21087"/>
                </a:lnTo>
                <a:arcTo wR="3600" hR="3600" stAng="10800000" swAng="-5400000"/>
                <a:lnTo>
                  <a:pt x="18000" y="24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t a purpose for listening.  To understand characteristics of f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the Rainbow Came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in agreement with others, you all think the same 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9038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, Blue and Yellow are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e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Earth must have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e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you have with friends about games you play at re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noti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go unnoticed, no one sees yo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3367080" cy="441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76520" y="615636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ney on the ground went unnoticed by the wo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, the butterflies we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no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were the same color as everything els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no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wore all white clothing as you walked through the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unthinkable event is something you never thought could or would hap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think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long time ago people believed it was unthinkable for us to land on mo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helps you fall asl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 before I go to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t without color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hink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d, Blue and Yellow, so they added color to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day at school without lunch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hink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iend broke an agreement.  On my signal show or tell your partner how you might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urprise a friend.  On my signal show your partner how you would go up to him or her unnoti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something unthinkable just happened.  Use the expression on your face to show your partner how you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523880"/>
            <a:ext cx="8991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ue’s oceans and rivers were beauti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’s bird was bright r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523880"/>
            <a:ext cx="8991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m’s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ctor’s penc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162920" y="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Draft a Me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a Me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showing a friend or relative who lives in anothe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draw a picture of something interesting that has happened recently to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ords or phrases that you may want to add to your l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spond to a story through mus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ireflies, Fireflies Light My Wa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3434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-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69343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Syllable </a:t>
            </a:r>
            <a:r>
              <a:rPr b="1" i="1" lang="en-US" sz="6000" spc="-1" strike="noStrike">
                <a:solidFill>
                  <a:srgbClr val="000000"/>
                </a:solidFill>
                <a:latin typeface="Constantia"/>
              </a:rPr>
              <a:t>-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75248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le/ sound at the end, hold your thumb up and say the sound /le/.  When I say a word that does not have /le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371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5053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43828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2362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b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55627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0:46:44Z</dcterms:modified>
  <cp:revision>115</cp:revision>
  <dc:subject/>
  <dc:title>Slide 1</dc:title>
</cp:coreProperties>
</file>