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257-6794-4A84-A4F4-D8BED52D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31D-3D5E-43B5-AA1F-E7854399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24B-78C0-4D67-AF44-840E755E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B05-3977-4EBD-985B-5BEF3F92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859-09E3-42DB-949F-0404AA3F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2D8-7494-4737-B9AE-165FE45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EEB-0EC4-4FDC-8D86-93C89B5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8FA-9C3C-4EDF-8444-985CB5FD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4F6-32D4-42C3-BAC2-5415F469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4E3-2F32-49BA-9D8B-4830775C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FF1-CC30-4F3C-8AD5-311B8B88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5B7-6794-4F56-BB7F-C5BB283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F30-6AEA-48B5-86F3-64EEC6756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56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2096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esson 17, Day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Some animals jump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Constantia"/>
              </a:rPr>
              <a:t>and tumbl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Some animals mak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nstantia"/>
              </a:rPr>
              <a:t>bells jing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se letter-sound knowledge to read decodabl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o develop fl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Words to K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ad high-frequency word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tell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0"/>
            <a:ext cx="175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practice retelling a s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295280"/>
            <a:ext cx="4267080" cy="495324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953240"/>
              <a:gd name="textAreaBottom" fmla="*/ 4745160 h 4953240"/>
            </a:gdLst>
            <a:ahLst/>
            <a:rect l="textAreaLeft" t="textAreaTop" r="textAreaRight" b="textAreaBottom"/>
            <a:pathLst>
              <a:path w="21600" h="25073">
                <a:moveTo>
                  <a:pt x="3600" y="0"/>
                </a:moveTo>
                <a:arcTo wR="3600" hR="3600" stAng="16200000" swAng="-5400000"/>
                <a:lnTo>
                  <a:pt x="0" y="21473"/>
                </a:lnTo>
                <a:arcTo wR="3600" hR="3600" stAng="10800000" swAng="-5400000"/>
                <a:lnTo>
                  <a:pt x="18000" y="25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371600"/>
            <a:ext cx="4267080" cy="4876920"/>
          </a:xfrm>
          <a:custGeom>
            <a:avLst/>
            <a:gdLst>
              <a:gd name="textAreaLeft" fmla="*/ 208080 w 4267080"/>
              <a:gd name="textAreaRight" fmla="*/ 4059000 w 4267080"/>
              <a:gd name="textAreaTop" fmla="*/ 208080 h 4876920"/>
              <a:gd name="textAreaBottom" fmla="*/ 4668840 h 4876920"/>
            </a:gdLst>
            <a:ahLst/>
            <a:rect l="textAreaLeft" t="textAreaTop" r="textAreaRight" b="textAreaBottom"/>
            <a:pathLst>
              <a:path w="21600" h="24687">
                <a:moveTo>
                  <a:pt x="3600" y="0"/>
                </a:moveTo>
                <a:arcTo wR="3600" hR="3600" stAng="16200000" swAng="-5400000"/>
                <a:lnTo>
                  <a:pt x="0" y="21087"/>
                </a:lnTo>
                <a:arcTo wR="3600" hR="3600" stAng="10800000" swAng="-5400000"/>
                <a:lnTo>
                  <a:pt x="18000" y="24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3716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arac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295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ad Alo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set a purpose for listening.  To understand characteristics of f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w the Rainbow Came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e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00440" y="152280"/>
            <a:ext cx="251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develop robust vocabulary by discussing ideas and situ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Robust Vocabul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2520" y="1523880"/>
            <a:ext cx="38862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are in agreement with others, you all think the same t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0"/>
            <a:ext cx="510552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28600"/>
            <a:ext cx="4367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90384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, Blue and Yellow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Earth must have co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e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you have with friends about games you play at rec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76520" y="258840"/>
            <a:ext cx="6019560" cy="12780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3564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noticed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752480"/>
            <a:ext cx="3256200" cy="42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If you go unnoticed, no one sees yo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3367080" cy="441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76520" y="615636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ney on the ground went unnoticed by the wo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noti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the butterflies we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use they were the same color as everything els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no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you wore all white clothing as you walked through the s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419720" y="1981080"/>
            <a:ext cx="4481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unthinkable event is something you never thought could or would happ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28600"/>
            <a:ext cx="6172200" cy="1276200"/>
          </a:xfrm>
          <a:prstGeom prst="roundRect">
            <a:avLst>
              <a:gd name="adj" fmla="val 10486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04920"/>
            <a:ext cx="57150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mic Sans MS"/>
              </a:rPr>
              <a:t>unthinkable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4114800" cy="320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 long time ago people believed it was unthinkable for us to land on mo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9920" y="-3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listen and respond appropriately to oral communic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nstantia"/>
              </a:rPr>
              <a:t>Question of the Da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at helps you fall asl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When I give you the sign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urn and talk with your partner using the stem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I like to ______ before I go to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bcBulletin"/>
              </a:rPr>
              <a:t>unthink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et without color w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ed, Blue and Yellow, so they added color to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day at school without lunch b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hink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Practice/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iend broke an agreement.  On my signal show or tell your partner how you might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urprise a friend.  On my signal show your partner how you would go up to him or her unnoti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something unthinkable just happened.  Use the expression on your face to show your partner how you f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8991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’s oceans and rivers were beautifu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’s bird was bright re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6256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523880"/>
            <a:ext cx="8991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m’s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ctor’s penci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3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162920" y="0"/>
            <a:ext cx="198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recognize possessive proper no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0120" y="0"/>
            <a:ext cx="15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understand the purpose of an invi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57788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086600" y="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nstantia"/>
              </a:rPr>
              <a:t>Draft a Me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3808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.</a:t>
            </a:r>
            <a:br>
              <a:rPr sz="4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 a Me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picture showing a friend or relative who lives in another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draw a picture of something interesting that has happened recently to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words or phrases that you may want to add to your l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5228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understand the purpose of each part of the friendly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86240" y="0"/>
            <a:ext cx="2057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bjective: To respond to a story through mus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457200"/>
            <a:ext cx="4800600" cy="69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nstantia"/>
              </a:rPr>
              <a:t>Read Aloud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           “Fireflies, Fireflies Light My Wa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343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67120" y="-360"/>
            <a:ext cx="1676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 - To rea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ord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86240" y="15228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ubstitute phonemes to make new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181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onem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Awaren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hone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8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96080" y="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jective: To recognize and generat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nd -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040" y="417600"/>
            <a:ext cx="855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"/>
            <a:ext cx="69343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Syllable </a:t>
            </a:r>
            <a:r>
              <a:rPr b="1" i="1" lang="en-US" sz="6000" spc="-1" strike="noStrike">
                <a:solidFill>
                  <a:srgbClr val="000000"/>
                </a:solidFill>
                <a:latin typeface="Constantia"/>
              </a:rPr>
              <a:t>-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175248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I say a word that has the /le/ sound at the end, hold your thumb up and say the sound /le/.  When I say a word that does not have /le/, put your thumb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72428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len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1981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i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371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0532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438280"/>
            <a:ext cx="838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2438280"/>
            <a:ext cx="1447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1219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495680"/>
            <a:ext cx="2362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b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55627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95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3505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55627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d Buil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0"/>
            <a:ext cx="198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build and blend words wit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-le and other known letter-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2193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1219320"/>
            <a:ext cx="838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1219320"/>
            <a:ext cx="68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209680"/>
            <a:ext cx="68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2209680"/>
            <a:ext cx="990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219320"/>
            <a:ext cx="838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220968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20968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276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76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27672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276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3434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34340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When called go to your seat and label the paper with your name and dat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It’s time to take our spelling pretest!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bjective: To spell spelling words and high frequency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304920"/>
            <a:ext cx="67053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pelling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1:35:05Z</dcterms:created>
  <dc:creator>Carey Dailey</dc:creator>
  <dc:description/>
  <dc:language>en-US</dc:language>
  <cp:lastModifiedBy>Nick Babcock</cp:lastModifiedBy>
  <dcterms:modified xsi:type="dcterms:W3CDTF">2010-01-19T00:46:44Z</dcterms:modified>
  <cp:revision>115</cp:revision>
  <dc:subject/>
  <dc:title>Slide 1</dc:title>
</cp:coreProperties>
</file>