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36E-B46C-4EA7-821A-E8256450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1ADB-8F65-4D3C-9234-8D594C9A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6EDC-5E0D-4259-8D86-CE69964AC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D6EF-9E67-4571-82E2-E94C3A7F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32E-7BE5-4BC0-8121-C44363C7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0CC7-E61D-4635-91DC-89B418BE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9EB0-DF7A-4F63-9A5B-73FAD60E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AFC7-7360-4CBA-8743-5E412CC2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C8BB-9F0F-439B-889A-11D31D92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4FFD-10AE-4DC0-A52B-03CAED152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4A41-28E3-4EF6-8199-3F4ED9C0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D824-A6D2-4944-885F-03F1F743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5C6C-6467-447B-BA3C-0C5F4771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423A-6C89-423B-AE6D-F1CF64CF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B2F3-E6E1-4F0F-A396-1F607470A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5014-1863-4021-B0A6-5BD25E7B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2D7C-475D-49DB-8266-1E387E2B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E5A-287C-40A1-899D-E38A2ECE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050-27A5-48EB-880E-1D5068EE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A6F-DF26-4E6F-843C-CDC8DD85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AB0-24B9-45B9-B7E2-7E0C79DB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B80-7095-4FA3-86A7-EEC88092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22D-0891-4691-AFC1-070EFA8E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BEA-1EB8-4628-80E8-16D90F1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5C8-957C-4DEB-902C-0D03DB46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A5A-F7D3-433C-ADC1-56411A0F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2C5-46D1-4292-B798-EE867F0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3B4-37ED-4B33-B4C8-C9D028DC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DA3-3843-44B6-B956-4DCA2F61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EE3-203D-4190-91CD-70DE045B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942-519F-4040-9AEE-F5CE9D2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AC4-A3ED-4005-9AE4-B5F8C12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BB4-F562-4297-B33D-EB5A935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008-844A-4B3B-93A5-5F932752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8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hadow follows Jes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hadow spots a black cr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 read “Shadow in the Snow”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.  Try to Increase your reading rate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.  Read the story 3 or 4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The Mit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3" descr="51SPNV1420L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mitten was empty, it was flat, but when the animals crawled inside,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uitc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put too much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backp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was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some places you might go hi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ent ______ on my h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dgeho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le and rabbit to make room for itself in the m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ne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 to make them move over and give you some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did no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bear came in because they did not want to make him m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id it was snowing when it was really warm and sunny, your classmates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do peop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your mouth and make your cheeks bul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your partner how you look when you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knew I would loose my new mit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write a letter, spell the words righ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9" descr="la35"/>
          <p:cNvPicPr/>
          <p:nvPr/>
        </p:nvPicPr>
        <p:blipFill>
          <a:blip r:embed="rId1"/>
          <a:stretch/>
        </p:blipFill>
        <p:spPr>
          <a:xfrm>
            <a:off x="2006640" y="0"/>
            <a:ext cx="5016600" cy="6705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0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la36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nstantia"/>
              </a:rPr>
              <a:t>Draft a Thank You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Saying 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 friend giving you a gift or helping you.  Think about what you would say to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MPj04033300000[1]"/>
          <p:cNvPicPr/>
          <p:nvPr/>
        </p:nvPicPr>
        <p:blipFill>
          <a:blip r:embed="rId1"/>
          <a:stretch/>
        </p:blipFill>
        <p:spPr>
          <a:xfrm>
            <a:off x="609480" y="1066680"/>
            <a:ext cx="3456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o/ ow, 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o/ sound, make a o with you fingers.  When I say a word that does not have /o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o/ sound in the middle, make an /o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2" descr="MPj0436598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124080" y="32767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572000" y="32767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65760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472428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5053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80988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32004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36576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962520" y="5334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4290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6576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434340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809880" y="4038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411480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4952880" y="4038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657600" y="4800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962520" y="5851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4952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4876920" y="585144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3429000" y="58514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47:34Z</dcterms:modified>
  <cp:revision>120</cp:revision>
  <dc:subject/>
  <dc:title>Slide 1</dc:title>
</cp:coreProperties>
</file>