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EDF6-DDD7-4679-AD79-4E23342C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98A4-448A-4DA8-96F5-F65D08423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C1D7-C70E-4B70-9304-92D10131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E463-137F-4DD1-9F68-CE227460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8FFB-FEE6-4E5D-8995-A2CE7DD94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92B0-D6E9-4321-A136-1193271B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2451-23B5-48C1-AD3A-AE8DC1C69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596B-384B-4D97-B82F-F7FCBE93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A181-C38C-4178-AD0A-F78F8B94B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4B5-473E-4E1A-9C8D-5516BC8F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B243-1E84-4B4F-A49C-FEC8CF86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A18-70B5-40B6-842F-846E3630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1B4C-DA49-4047-B7E1-49548DB4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99E2-08CF-432A-AEC6-C2F00CEB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B468-1C0E-4549-8281-42E01B56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5FA-45D5-4031-9E75-8F1579DC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3B7-29E4-483F-9EBE-98C141C5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C7BC-6E92-4175-AA5F-B8A7C7A5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FE6-37C5-4345-8506-EE905495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9F1-1BE8-44BA-8E23-1C82D2F9D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FD49-2917-4541-BD9B-1C67F0357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C52-46DC-4040-98AB-69EC462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8A2-A14C-4E91-88D1-7487A4DD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EC8-21CB-4370-A668-9DF3B8FE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CA7-CA0B-4BB9-B66E-1FEC1F35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2F2-D994-46E0-9564-63F71AD0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48F-BD10-41E1-98D8-CFFB5315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790-8D63-4572-B59C-01FB2C9C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952-4D00-46E7-8DA0-CBBDF72E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188-2FE8-4946-B056-F3A61B07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1E4-B05F-4350-BBD5-2D3B7A47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F5E-D38A-4CCF-BF74-1D7631E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081-74D5-4CDB-B2C1-3D3237BF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65A7-0E82-4966-8430-310FA3BEE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8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hadow follows Jes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hadow spots a black cr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 read “Shadow in the Snow”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.  Try to Increase your reading rate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.  Read the story 3 or 4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The Mit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3" descr="51SPNV1420L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mitten was empty, it was flat, but when the animals crawled inside,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uitc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put too much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backp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was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some places you might go hi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ent ______ on my h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dgeho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le and rabbit to make room for itself in the m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ne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 to make them move over and give you some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did no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bear came in because they did not want to make him m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id it was snowing when it was really warm and sunny, your classmates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do peop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your mouth and make your cheeks bul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your partner how you look when you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knew I would loose my new mit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write a letter, spell the words righ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9" descr="la35"/>
          <p:cNvPicPr/>
          <p:nvPr/>
        </p:nvPicPr>
        <p:blipFill>
          <a:blip r:embed="rId1"/>
          <a:stretch/>
        </p:blipFill>
        <p:spPr>
          <a:xfrm>
            <a:off x="2006640" y="0"/>
            <a:ext cx="5016600" cy="6705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0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la36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nstantia"/>
              </a:rPr>
              <a:t>Draft a Thank You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Saying 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 friend giving you a gift or helping you.  Think about what you would say to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MPj04033300000[1]"/>
          <p:cNvPicPr/>
          <p:nvPr/>
        </p:nvPicPr>
        <p:blipFill>
          <a:blip r:embed="rId1"/>
          <a:stretch/>
        </p:blipFill>
        <p:spPr>
          <a:xfrm>
            <a:off x="609480" y="1066680"/>
            <a:ext cx="3456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o/ ow, 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o/ sound, make a o with you fingers.  When I say a word that does not have /o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o/ sound in the middle, make an /o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2" descr="MPj0436598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124080" y="32767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572000" y="32767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65760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472428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5053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80988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32004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36576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962520" y="5334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4290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6576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434340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809880" y="4038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411480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4952880" y="4038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657600" y="4800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962520" y="5851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4952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4876920" y="585144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3429000" y="58514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47:34Z</dcterms:modified>
  <cp:revision>120</cp:revision>
  <dc:subject/>
  <dc:title>Slide 1</dc:title>
</cp:coreProperties>
</file>