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B6A-12A5-4A20-BD9B-66120ACB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7F44-4DB4-4E3B-92B0-F6BDDE2F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93C4-D071-4B97-8681-071661C2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FB78-B93F-48F2-B1E8-22DDA37B3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F685-8E0A-4AE9-8444-CDDEF4504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6BBB-3649-488E-B9B2-405CE0340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2339-3749-4774-B2B5-26A2DB872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89D4-BCBA-4964-B65C-AD50D1EF8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923F-8981-4608-A24C-9BD3172A2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F8EF-A6E3-412E-8F21-5E4F228B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3B1F-977F-4669-916D-14F585F69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C080-E9E1-44D7-8A27-C7712402B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8325-F8BF-4E1E-B228-0A680EC9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4681-E4BF-4B0F-BCD7-CA60221C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2610-B914-4131-90AA-95D4A36D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BCA9-DCCC-46CA-93FB-69DD7F4C6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2394-1B30-4B28-9786-464DE352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4D3-5489-4244-A5AB-228CC56FD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D19C-170C-4E8C-A502-B46F6CD05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B7A8-74B1-4C0E-ABF3-452D1B96F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0ABF-337E-4C5B-BE94-03B123B42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mouse, our, over, pretty, surprise, three, is, it, on, as, with, his, at, or, h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lling wor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low, slow, grow, road, soap, boat, little, handle, carry, w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C5F7-59AC-4966-9B48-CE936151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728D-9876-4AA3-B62C-91315F9A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3FE6-92DE-4E15-A078-7BDE648E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EA9E-0C76-46BF-A7E7-6D2DD091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45D-697E-4991-B81A-038306E1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CFF-DF83-44BC-95F7-C977A259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6AF-09D9-4063-8B31-D3F4D62A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B47-BF32-48B5-925E-FA85C7FE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A80-9E99-4BAF-B531-98CF71CA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564-CC0B-4399-B2FC-EB117891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449-0765-459B-A2DE-C454DDBE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B58-55F9-4463-89F1-CAFE3C97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3DB-068C-4E5B-A9DE-E1F9D88C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240-3030-4AFC-8B1C-417287A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1B3-E4CD-409D-8B11-E15C449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8EB-FF7D-4778-94C1-72AB7BB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F4B7-F52D-4872-AA9B-38EFD874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8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 has a g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 name is Jo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has spots on her f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likes to run on the ro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on a bow for the sh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, no, Joan!  Do not eat the bo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The letters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ow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 can stand for the long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o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 sound,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as in the words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bowl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 and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snow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3" descr="goat_1.jpg"/>
          <p:cNvPicPr/>
          <p:nvPr/>
        </p:nvPicPr>
        <p:blipFill>
          <a:blip r:embed="rId1"/>
          <a:stretch/>
        </p:blipFill>
        <p:spPr>
          <a:xfrm>
            <a:off x="5486400" y="40384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uralex-bowl-medium.jpg"/>
          <p:cNvPicPr/>
          <p:nvPr/>
        </p:nvPicPr>
        <p:blipFill>
          <a:blip r:embed="rId2"/>
          <a:stretch/>
        </p:blipFill>
        <p:spPr>
          <a:xfrm>
            <a:off x="1676520" y="1371600"/>
            <a:ext cx="2324160" cy="163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road.jpg"/>
          <p:cNvPicPr/>
          <p:nvPr/>
        </p:nvPicPr>
        <p:blipFill>
          <a:blip r:embed="rId3"/>
          <a:stretch/>
        </p:blipFill>
        <p:spPr>
          <a:xfrm>
            <a:off x="1676520" y="40384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nowFalling.gif"/>
          <p:cNvPicPr/>
          <p:nvPr/>
        </p:nvPicPr>
        <p:blipFill>
          <a:blip r:embed="rId4"/>
          <a:stretch/>
        </p:blipFill>
        <p:spPr>
          <a:xfrm>
            <a:off x="4876920" y="1371600"/>
            <a:ext cx="2431800" cy="2090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519640" y="297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bo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949360" y="3124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083680" y="3429000"/>
            <a:ext cx="55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The letters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oa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 can also stand for the long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o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 sou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as in the words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road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 and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goat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6162840" y="0"/>
            <a:ext cx="29682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/ow/ and /oa/ and other known letter sound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2832120" y="58672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haroni"/>
                <a:ea typeface="Aharoni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257160" y="55627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haroni"/>
                <a:ea typeface="Aharoni"/>
              </a:rPr>
              <a:t>g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6400800" y="2057400"/>
            <a:ext cx="2286000" cy="3886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685800" y="762120"/>
            <a:ext cx="601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Remember yesterday when I read “The Mitten?”  Remember how funny it was that all those animals packed into one little m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6864120" y="228600"/>
            <a:ext cx="1840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identify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’s purpose and 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vie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34040" y="38088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haroni"/>
                <a:ea typeface="Aharoni"/>
              </a:rPr>
              <a:t>Authors write for a reason, or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mitten.jpg"/>
          <p:cNvPicPr/>
          <p:nvPr/>
        </p:nvPicPr>
        <p:blipFill>
          <a:blip r:embed="rId1"/>
          <a:stretch/>
        </p:blipFill>
        <p:spPr>
          <a:xfrm>
            <a:off x="990720" y="2590920"/>
            <a:ext cx="4781520" cy="3828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6629400" y="2209680"/>
            <a:ext cx="1828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44e"/>
                </a:solidFill>
                <a:latin typeface="Comic Sans MS"/>
              </a:rPr>
              <a:t>The author’s purpose for writing “The Mitten” was to entertain.  She wanted to make us laugh, smile, and enjoy reading the sto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2388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49560" y="1676520"/>
            <a:ext cx="2189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438280" y="609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219320" y="914400"/>
            <a:ext cx="33526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mprove comprehension by plotting sequence and story el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371600" y="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1219320" y="3505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2438280" y="1676520"/>
            <a:ext cx="63972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1"/>
          <p:cNvSpPr/>
          <p:nvPr/>
        </p:nvSpPr>
        <p:spPr>
          <a:xfrm flipH="1">
            <a:off x="640080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523880" y="15228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800600" y="914400"/>
            <a:ext cx="327672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6098760" y="9907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4047840" y="19810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4197240" y="32004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419796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1752480"/>
            <a:ext cx="822960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haroni"/>
                <a:ea typeface="Aharoni"/>
              </a:rPr>
              <a:t>What do you think was the author’s purpose for writing “Snow Surpris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haroni"/>
                <a:ea typeface="Aharoni"/>
              </a:rPr>
              <a:t>How does the author feel about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6949440" y="5979960"/>
            <a:ext cx="1977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identify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haroni"/>
                <a:ea typeface="Aharoni"/>
              </a:rPr>
              <a:t>author’s purpose and 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haroni"/>
                <a:ea typeface="Aharoni"/>
              </a:rPr>
              <a:t>of vie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t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container bulged, its side stuck out as if it were going to bur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ulg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2" descr="MCj0290078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31640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5788440" y="22860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600200" y="6094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On my signal, answer in one voice with “full” or “empty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If your friend’s lunch bag </a:t>
            </a:r>
            <a:r>
              <a:rPr b="0" i="1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bulged</a:t>
            </a:r>
            <a:r>
              <a:rPr b="0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, would the bag be full or emp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jostl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 you have jostled people, you have bumped them or poked them to make them mov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1" descr="universitys-taka-manaka-and-clarences-woolley-jostle-for-ball"/>
          <p:cNvPicPr/>
          <p:nvPr/>
        </p:nvPicPr>
        <p:blipFill>
          <a:blip r:embed="rId1"/>
          <a:stretch/>
        </p:blipFill>
        <p:spPr>
          <a:xfrm>
            <a:off x="685800" y="1676520"/>
            <a:ext cx="376236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2"/>
          <p:cNvSpPr/>
          <p:nvPr/>
        </p:nvSpPr>
        <p:spPr>
          <a:xfrm>
            <a:off x="6858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 jostled for the b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38052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Bradley Hand ITC"/>
              </a:rPr>
              <a:t>On my signal turn and talk to your partner using this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I like to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in the s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ula%20Monkey-Girls.jpg"/>
          <p:cNvPicPr/>
          <p:nvPr/>
        </p:nvPicPr>
        <p:blipFill>
          <a:blip r:embed="rId1"/>
          <a:stretch/>
        </p:blipFill>
        <p:spPr>
          <a:xfrm>
            <a:off x="60480" y="0"/>
            <a:ext cx="3689280" cy="3191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809880" y="1752480"/>
            <a:ext cx="40388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are some ways to play in the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906720" y="91440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Question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c244e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244e"/>
                </a:solidFill>
                <a:latin typeface="Aharoni"/>
                <a:ea typeface="Aharoni"/>
              </a:rPr>
              <a:t>On my signal, turn and talk to your partner and tell your partner about a time you </a:t>
            </a:r>
            <a:r>
              <a:rPr b="1" i="1" lang="en-US" sz="3200" spc="-1" strike="noStrike">
                <a:solidFill>
                  <a:srgbClr val="ac244e"/>
                </a:solidFill>
                <a:latin typeface="Arial Narrow"/>
                <a:ea typeface="Aharoni"/>
              </a:rPr>
              <a:t>jostled</a:t>
            </a:r>
            <a:r>
              <a:rPr b="1" lang="en-US" sz="3200" spc="-1" strike="noStrike">
                <a:solidFill>
                  <a:srgbClr val="ac244e"/>
                </a:solidFill>
                <a:latin typeface="Arial Narrow"/>
                <a:ea typeface="Aharoni"/>
              </a:rPr>
              <a:t> </a:t>
            </a:r>
            <a:r>
              <a:rPr b="0" lang="en-US" sz="3200" spc="-1" strike="noStrike">
                <a:solidFill>
                  <a:srgbClr val="ac244e"/>
                </a:solidFill>
                <a:latin typeface="Aharoni"/>
                <a:ea typeface="Aharoni"/>
              </a:rPr>
              <a:t>someone or someone </a:t>
            </a:r>
            <a:r>
              <a:rPr b="1" i="1" lang="en-US" sz="3200" spc="-1" strike="noStrike">
                <a:solidFill>
                  <a:srgbClr val="ac244e"/>
                </a:solidFill>
                <a:latin typeface="Arial Narrow"/>
                <a:ea typeface="Aharoni"/>
              </a:rPr>
              <a:t>jostled</a:t>
            </a:r>
            <a:r>
              <a:rPr b="0" lang="en-US" sz="3200" spc="-1" strike="noStrike">
                <a:solidFill>
                  <a:srgbClr val="ac244e"/>
                </a:solidFill>
                <a:latin typeface="Aharoni"/>
                <a:ea typeface="Aharoni"/>
              </a:rPr>
              <a:t>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990040" y="15228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argue with someone, you disagree lou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rg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8" descr="MPj02277970000[1]"/>
          <p:cNvPicPr/>
          <p:nvPr/>
        </p:nvPicPr>
        <p:blipFill>
          <a:blip r:embed="rId1"/>
          <a:stretch/>
        </p:blipFill>
        <p:spPr>
          <a:xfrm>
            <a:off x="228600" y="2286000"/>
            <a:ext cx="5029200" cy="330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6226560" y="152280"/>
            <a:ext cx="2908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914400" y="685800"/>
            <a:ext cx="7808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If your friend told you to get out of the way because a car was coming, would you argu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On my signal, turn and talk with your partner to complete this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If my friend told me to get out of the way because a car was coming, I ______________ argue, because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1752480" y="380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7086600" y="1522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nderst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he concept of homophones; to identif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homoph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09480" y="1066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find the homophones?  Rem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ophones are words that sound the same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spelled differently and have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6680" y="2819520"/>
            <a:ext cx="697392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The tale is about a cat with a long 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Rick sent one cent to his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Jan read the book with the red c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Abby won one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thank you letter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086600" y="380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thank-you let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o contribute to the sha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riting of a thank-you letter.</a:t>
            </a:r>
            <a:br>
              <a:rPr sz="44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14400" y="114300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1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r ____________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MPj04317910000[1]"/>
          <p:cNvPicPr/>
          <p:nvPr/>
        </p:nvPicPr>
        <p:blipFill>
          <a:blip r:embed="rId1"/>
          <a:stretch/>
        </p:blipFill>
        <p:spPr>
          <a:xfrm>
            <a:off x="2209680" y="1600200"/>
            <a:ext cx="4989600" cy="4102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91960" y="571500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585440" y="1066680"/>
            <a:ext cx="65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Read Aloud:  “A Sound Ridd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972160" y="228600"/>
            <a:ext cx="30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635080" y="1295280"/>
            <a:ext cx="1936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6600"/>
                </a:solidFill>
                <a:uFillTx/>
                <a:latin typeface="Aharoni"/>
                <a:ea typeface="Aharon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6600"/>
                </a:solidFill>
                <a:uFillTx/>
                <a:latin typeface="Aharoni"/>
                <a:ea typeface="Aharon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haroni"/>
                <a:ea typeface="Aharon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haroni"/>
                <a:ea typeface="Aharoni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MCj04174500000[1]"/>
          <p:cNvPicPr/>
          <p:nvPr/>
        </p:nvPicPr>
        <p:blipFill>
          <a:blip r:embed="rId1"/>
          <a:stretch/>
        </p:blipFill>
        <p:spPr>
          <a:xfrm>
            <a:off x="5334120" y="1295280"/>
            <a:ext cx="3368520" cy="3054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81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♫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-Hunting We Will Go 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048120" y="1981080"/>
            <a:ext cx="47242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A changing we will g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a changing we will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Change /m/ to /d/ in </a:t>
            </a:r>
            <a:r>
              <a:rPr b="0" i="1" lang="en-US" sz="2800" spc="-1" strike="noStrike">
                <a:solidFill>
                  <a:srgbClr val="965f0e"/>
                </a:solidFill>
                <a:latin typeface="Comic Sans MS"/>
              </a:rPr>
              <a:t>mark</a:t>
            </a: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And now the word is </a:t>
            </a:r>
            <a:r>
              <a:rPr b="0" i="1" lang="en-US" sz="2800" spc="-1" strike="noStrike">
                <a:solidFill>
                  <a:srgbClr val="965f0e"/>
                </a:solidFill>
                <a:latin typeface="Comic Sans MS"/>
              </a:rPr>
              <a:t>dark</a:t>
            </a: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2135160" y="762120"/>
            <a:ext cx="437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♫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A-Hunting We Will Go 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C:\Users\Janice\AppData\Local\Microsoft\Windows\Temporary Internet Files\Content.IE5\N13ABA2C\MCj04281110000[1].wmf"/>
          <p:cNvPicPr/>
          <p:nvPr/>
        </p:nvPicPr>
        <p:blipFill>
          <a:blip r:embed="rId1"/>
          <a:stretch/>
        </p:blipFill>
        <p:spPr>
          <a:xfrm>
            <a:off x="685800" y="2590920"/>
            <a:ext cx="1752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934320" y="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w/ and /oa/ and other known letter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886200" y="1219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5812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434340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886200" y="4343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882680" y="4343400"/>
            <a:ext cx="6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3421080" y="4952880"/>
            <a:ext cx="5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843720" y="4952880"/>
            <a:ext cx="107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4806360" y="4952880"/>
            <a:ext cx="6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6bcf"/>
                </a:solidFill>
                <a:latin typeface="Constantia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Low plants grow next to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You must hold the little bag by its han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5f0e"/>
                </a:solidFill>
                <a:latin typeface="Comic Sans MS"/>
              </a:rPr>
              <a:t>Did you buy me a bar of so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big boat is s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; 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ontent Placeholder 1"/>
          <p:cNvSpPr/>
          <p:nvPr/>
        </p:nvSpPr>
        <p:spPr>
          <a:xfrm>
            <a:off x="1752480" y="13716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830320" y="3049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194440" y="1447920"/>
            <a:ext cx="16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568480" y="5410080"/>
            <a:ext cx="3231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/ow/ and /oa/ and other 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ter sounds to spell words; to spell known high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quency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24T23:51:50Z</dcterms:modified>
  <cp:revision>253</cp:revision>
  <dc:subject/>
  <dc:title>Slide 1</dc:title>
</cp:coreProperties>
</file>