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EF55-5A93-4F1D-A86A-9ABB1D6F9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4190-90EA-419F-BB38-3359550E8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A11E-ADAC-4C40-9ACD-660DC2CAC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4CB4-36C1-436F-8C9C-ABC2286EE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70D8-A275-41F5-AE2B-9960E6A8E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B0F8-A227-4F7C-9694-F5AAE3D3A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21E1-16C7-4107-A522-639970ED8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1CA8-E416-4EE6-BAAA-16BE34D8D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8269-6F01-4252-A978-E1CF72921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600E-65BE-4CCD-A297-96D59C270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C754-9F36-4002-88EF-3AF2831C1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C80F-5524-41BF-9725-B2C0BF40E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0BB9-97FF-46D1-843E-079976BA6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6255-5F50-4473-ADF0-C9B2B964E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300A-4777-4867-A088-2EE94EAC1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A324-23F3-4123-972C-468AC0B53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2B15-A9C3-469B-A48C-D725D722E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AE3E-A0E6-4E47-BAA9-2165D6FC7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1654-784F-4022-975F-4BC4A3BBC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679B-4BBD-4CBE-B479-164D37323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60F3-8B7C-4054-AC7F-DE59C8B50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ight wor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mouse, our, over, pretty, surprise, three, is, it, on, as, with, his, at, or, h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lling wor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low, slow, grow, road, soap, boat, little, handle, carry, w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FDE3-0134-468A-8605-A2CFD4D78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4CFF-857A-4BD1-A38D-14F64D991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4FBD-50CD-4EAF-B231-71CD2787C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9EFA-A0CA-41E3-BBA4-25D1C9089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7BF-E12D-4CD9-832F-8EBF1BC7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0FF-0337-403E-89B8-DD4B541A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1436-47DB-4CA6-91ED-3714D19F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63FE-64BA-4BBF-85F6-3389F404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841-D857-408A-8438-9185727B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59AD-748B-4A03-9282-62E310E1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547-6A98-4E1C-B866-979FA3DF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6B9-2372-4EF9-8756-E27D2DFE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DBC-9DF8-4805-BDA8-B09DE079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E30-644A-49F9-9FDA-9B63C6B0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3ACA-AAEC-4982-AFD0-22E95CCB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504-88B6-4EE1-B129-D3D673EE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E41F-78A0-4DD2-8975-1A3FAC1F9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914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8, Day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n has a go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 name is Jo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an has spots on her f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an likes to run on the ro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has on a bow for the sh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h, no, Joan!  Do not eat the box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The letters </a:t>
            </a:r>
            <a:r>
              <a:rPr b="0" i="1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ow</a:t>
            </a:r>
            <a:r>
              <a:rPr b="0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 can stand for the long </a:t>
            </a:r>
            <a:r>
              <a:rPr b="0" i="1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o</a:t>
            </a:r>
            <a:r>
              <a:rPr b="0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 sound, </a:t>
            </a:r>
            <a:br>
              <a:rPr sz="1800"/>
            </a:br>
            <a:r>
              <a:rPr b="0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as in the words </a:t>
            </a:r>
            <a:r>
              <a:rPr b="0" i="1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bowl</a:t>
            </a:r>
            <a:r>
              <a:rPr b="0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 and </a:t>
            </a:r>
            <a:r>
              <a:rPr b="0" i="1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snow</a:t>
            </a:r>
            <a:r>
              <a:rPr b="0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Content Placeholder 3" descr="goat_1.jpg"/>
          <p:cNvPicPr/>
          <p:nvPr/>
        </p:nvPicPr>
        <p:blipFill>
          <a:blip r:embed="rId1"/>
          <a:stretch/>
        </p:blipFill>
        <p:spPr>
          <a:xfrm>
            <a:off x="5486400" y="40384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uralex-bowl-medium.jpg"/>
          <p:cNvPicPr/>
          <p:nvPr/>
        </p:nvPicPr>
        <p:blipFill>
          <a:blip r:embed="rId2"/>
          <a:stretch/>
        </p:blipFill>
        <p:spPr>
          <a:xfrm>
            <a:off x="1676520" y="1371600"/>
            <a:ext cx="2324160" cy="1635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road.jpg"/>
          <p:cNvPicPr/>
          <p:nvPr/>
        </p:nvPicPr>
        <p:blipFill>
          <a:blip r:embed="rId3"/>
          <a:stretch/>
        </p:blipFill>
        <p:spPr>
          <a:xfrm>
            <a:off x="1676520" y="4038480"/>
            <a:ext cx="2895480" cy="1930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SnowFalling.gif"/>
          <p:cNvPicPr/>
          <p:nvPr/>
        </p:nvPicPr>
        <p:blipFill>
          <a:blip r:embed="rId4"/>
          <a:stretch/>
        </p:blipFill>
        <p:spPr>
          <a:xfrm>
            <a:off x="4876920" y="1371600"/>
            <a:ext cx="2431800" cy="20908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"/>
          <p:cNvSpPr/>
          <p:nvPr/>
        </p:nvSpPr>
        <p:spPr>
          <a:xfrm>
            <a:off x="2519640" y="29718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rial"/>
              </a:rPr>
              <a:t>bow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5949360" y="3124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2083680" y="3429000"/>
            <a:ext cx="55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The letters </a:t>
            </a:r>
            <a:r>
              <a:rPr b="0" i="1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oa</a:t>
            </a:r>
            <a:r>
              <a:rPr b="0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 can also stand for the long </a:t>
            </a:r>
            <a:r>
              <a:rPr b="0" i="1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o</a:t>
            </a:r>
            <a:r>
              <a:rPr b="0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 sou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as in the words </a:t>
            </a:r>
            <a:r>
              <a:rPr b="0" i="1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road</a:t>
            </a:r>
            <a:r>
              <a:rPr b="0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 and </a:t>
            </a:r>
            <a:r>
              <a:rPr b="0" i="1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goat</a:t>
            </a:r>
            <a:r>
              <a:rPr b="0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6162840" y="0"/>
            <a:ext cx="29682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/ow/ and /oa/ and other known letter sound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2832120" y="586728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haroni"/>
                <a:ea typeface="Aharoni"/>
              </a:rPr>
              <a:t>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6257160" y="556272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haroni"/>
                <a:ea typeface="Aharoni"/>
              </a:rPr>
              <a:t>g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6400800" y="2057400"/>
            <a:ext cx="2286000" cy="3886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685800" y="762120"/>
            <a:ext cx="601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</a:rPr>
              <a:t>Remember yesterday when I read “The Mitten?”  Remember how funny it was that all those animals packed into one little mit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6864120" y="228600"/>
            <a:ext cx="1840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identify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hor’s purpose and poi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 view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734040" y="380880"/>
            <a:ext cx="57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haroni"/>
                <a:ea typeface="Aharoni"/>
              </a:rPr>
              <a:t>Authors write for a reason, or purp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mitten.jpg"/>
          <p:cNvPicPr/>
          <p:nvPr/>
        </p:nvPicPr>
        <p:blipFill>
          <a:blip r:embed="rId1"/>
          <a:stretch/>
        </p:blipFill>
        <p:spPr>
          <a:xfrm>
            <a:off x="990720" y="2590920"/>
            <a:ext cx="4781520" cy="38289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6629400" y="2209680"/>
            <a:ext cx="1828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c244e"/>
                </a:solidFill>
                <a:latin typeface="Comic Sans MS"/>
              </a:rPr>
              <a:t>The author’s purpose for writing “The Mitten” was to entertain.  She wanted to make us laugh, smile, and enjoy reading the stor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23880" y="838080"/>
            <a:ext cx="3200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t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rpr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749560" y="1676520"/>
            <a:ext cx="2189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ou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2438280" y="60948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Arial"/>
              </a:rPr>
              <a:t>Words to K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3733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1219320" y="914400"/>
            <a:ext cx="335268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6553080" y="0"/>
            <a:ext cx="259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mprove comprehension by plotting sequence and story ele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371600" y="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1219320" y="350532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>
            <a:off x="2438280" y="1676520"/>
            <a:ext cx="63972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21"/>
          <p:cNvSpPr/>
          <p:nvPr/>
        </p:nvSpPr>
        <p:spPr>
          <a:xfrm flipH="1">
            <a:off x="6400800" y="16765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523880" y="152280"/>
            <a:ext cx="65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4800600" y="914400"/>
            <a:ext cx="327672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6"/>
          <p:cNvSpPr/>
          <p:nvPr/>
        </p:nvSpPr>
        <p:spPr>
          <a:xfrm>
            <a:off x="6098760" y="99072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4047840" y="19810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4197240" y="320040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0"/>
          <p:cNvSpPr/>
          <p:nvPr/>
        </p:nvSpPr>
        <p:spPr>
          <a:xfrm>
            <a:off x="4197960" y="45720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1752480"/>
            <a:ext cx="8229600" cy="33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haroni"/>
                <a:ea typeface="Aharoni"/>
              </a:rPr>
              <a:t>What do you think was the author’s purpose for writing “Snow Surpris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haroni"/>
                <a:ea typeface="Aharoni"/>
              </a:rPr>
              <a:t>How does the author feel about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6949440" y="5979960"/>
            <a:ext cx="1977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haroni"/>
                <a:ea typeface="Aharoni"/>
              </a:rPr>
              <a:t>Objective:  To identify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haroni"/>
                <a:ea typeface="Aharoni"/>
              </a:rPr>
              <a:t>author’s purpose and poi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haroni"/>
                <a:ea typeface="Aharoni"/>
              </a:rPr>
              <a:t>of view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st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a container bulged, its side stuck out as if it were going to bur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bulg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2" descr="MCj02900780000[1]"/>
          <p:cNvPicPr/>
          <p:nvPr/>
        </p:nvPicPr>
        <p:blipFill>
          <a:blip r:embed="rId1"/>
          <a:stretch/>
        </p:blipFill>
        <p:spPr>
          <a:xfrm>
            <a:off x="838080" y="1905120"/>
            <a:ext cx="316404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5788440" y="228600"/>
            <a:ext cx="315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iscussing ideas and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600200" y="60948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haroni"/>
                <a:ea typeface="Aharoni"/>
              </a:rPr>
              <a:t>On my signal, answer in one voice with “full” or “empty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haroni"/>
                <a:ea typeface="Aharoni"/>
              </a:rPr>
              <a:t>If your friend’s lunch bag </a:t>
            </a:r>
            <a:r>
              <a:rPr b="0" i="1" lang="en-US" sz="4000" spc="-1" strike="noStrike">
                <a:solidFill>
                  <a:srgbClr val="006600"/>
                </a:solidFill>
                <a:latin typeface="Aharoni"/>
                <a:ea typeface="Aharoni"/>
              </a:rPr>
              <a:t>bulged</a:t>
            </a:r>
            <a:r>
              <a:rPr b="0" lang="en-US" sz="4000" spc="-1" strike="noStrike">
                <a:solidFill>
                  <a:srgbClr val="006600"/>
                </a:solidFill>
                <a:latin typeface="Aharoni"/>
                <a:ea typeface="Aharoni"/>
              </a:rPr>
              <a:t>, would the bag be full or emp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jostl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 you have jostled people, you have bumped them or poked them to make them move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1" descr="universitys-taka-manaka-and-clarences-woolley-jostle-for-ball"/>
          <p:cNvPicPr/>
          <p:nvPr/>
        </p:nvPicPr>
        <p:blipFill>
          <a:blip r:embed="rId1"/>
          <a:stretch/>
        </p:blipFill>
        <p:spPr>
          <a:xfrm>
            <a:off x="685800" y="1676520"/>
            <a:ext cx="3762360" cy="4572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2"/>
          <p:cNvSpPr/>
          <p:nvPr/>
        </p:nvSpPr>
        <p:spPr>
          <a:xfrm>
            <a:off x="685800" y="6248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s jostled for the ba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0720" y="380520"/>
            <a:ext cx="49532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Bradley Hand ITC"/>
              </a:rPr>
              <a:t>On my signal turn and talk to your partner using this 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Constantia"/>
              </a:rPr>
              <a:t>I like to 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Constantia"/>
              </a:rPr>
              <a:t>in the s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Hula%20Monkey-Girls.jpg"/>
          <p:cNvPicPr/>
          <p:nvPr/>
        </p:nvPicPr>
        <p:blipFill>
          <a:blip r:embed="rId1"/>
          <a:stretch/>
        </p:blipFill>
        <p:spPr>
          <a:xfrm>
            <a:off x="60480" y="0"/>
            <a:ext cx="3689280" cy="3191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809880" y="1752480"/>
            <a:ext cx="403884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c244e"/>
                </a:solidFill>
                <a:latin typeface="Constantia"/>
              </a:rPr>
              <a:t>What are some ways to play in the s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906720" y="91440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Question of th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c244e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c244e"/>
                </a:solidFill>
                <a:latin typeface="Aharoni"/>
                <a:ea typeface="Aharoni"/>
              </a:rPr>
              <a:t>On my signal, turn and talk to your partner and tell your partner about a time you </a:t>
            </a:r>
            <a:r>
              <a:rPr b="1" i="1" lang="en-US" sz="3200" spc="-1" strike="noStrike">
                <a:solidFill>
                  <a:srgbClr val="ac244e"/>
                </a:solidFill>
                <a:latin typeface="Arial Narrow"/>
                <a:ea typeface="Aharoni"/>
              </a:rPr>
              <a:t>jostled</a:t>
            </a:r>
            <a:r>
              <a:rPr b="1" lang="en-US" sz="3200" spc="-1" strike="noStrike">
                <a:solidFill>
                  <a:srgbClr val="ac244e"/>
                </a:solidFill>
                <a:latin typeface="Arial Narrow"/>
                <a:ea typeface="Aharoni"/>
              </a:rPr>
              <a:t> </a:t>
            </a:r>
            <a:r>
              <a:rPr b="0" lang="en-US" sz="3200" spc="-1" strike="noStrike">
                <a:solidFill>
                  <a:srgbClr val="ac244e"/>
                </a:solidFill>
                <a:latin typeface="Aharoni"/>
                <a:ea typeface="Aharoni"/>
              </a:rPr>
              <a:t>someone or someone </a:t>
            </a:r>
            <a:r>
              <a:rPr b="1" i="1" lang="en-US" sz="3200" spc="-1" strike="noStrike">
                <a:solidFill>
                  <a:srgbClr val="ac244e"/>
                </a:solidFill>
                <a:latin typeface="Arial Narrow"/>
                <a:ea typeface="Aharoni"/>
              </a:rPr>
              <a:t>jostled</a:t>
            </a:r>
            <a:r>
              <a:rPr b="0" lang="en-US" sz="3200" spc="-1" strike="noStrike">
                <a:solidFill>
                  <a:srgbClr val="ac244e"/>
                </a:solidFill>
                <a:latin typeface="Aharoni"/>
                <a:ea typeface="Aharoni"/>
              </a:rPr>
              <a:t>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5990040" y="152280"/>
            <a:ext cx="315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iscussing ideas and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you argue with someone, you disagree loudl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rgu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8" descr="MPj02277970000[1]"/>
          <p:cNvPicPr/>
          <p:nvPr/>
        </p:nvPicPr>
        <p:blipFill>
          <a:blip r:embed="rId1"/>
          <a:stretch/>
        </p:blipFill>
        <p:spPr>
          <a:xfrm>
            <a:off x="228600" y="2286000"/>
            <a:ext cx="5029200" cy="3301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2"/>
          <p:cNvSpPr/>
          <p:nvPr/>
        </p:nvSpPr>
        <p:spPr>
          <a:xfrm>
            <a:off x="6226560" y="152280"/>
            <a:ext cx="2908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914400" y="685800"/>
            <a:ext cx="7808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If your friend told you to get out of the way because a car was coming, would you argu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On my signal, turn and talk with your partner to complete this 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If my friend told me to get out of the way because a car was coming, I ______________ argue, because 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2"/>
          <p:cNvSpPr/>
          <p:nvPr/>
        </p:nvSpPr>
        <p:spPr>
          <a:xfrm>
            <a:off x="1752480" y="3808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ylium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7086600" y="152280"/>
            <a:ext cx="205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underst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the concept of homophones; to identif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homophon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609480" y="106668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find the homophones?  Reme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mophones are words that sound the same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spelled differently and have diffe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n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796680" y="2819520"/>
            <a:ext cx="697392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The tale is about a cat with a long t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Rick sent one cent to his s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Jan read the book with the red c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Abby won one 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7620120" y="0"/>
            <a:ext cx="152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criteria list for writing a thank you no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thank you letter"/>
          <p:cNvPicPr/>
          <p:nvPr/>
        </p:nvPicPr>
        <p:blipFill>
          <a:blip r:embed="rId1"/>
          <a:stretch/>
        </p:blipFill>
        <p:spPr>
          <a:xfrm>
            <a:off x="0" y="1098720"/>
            <a:ext cx="9144000" cy="46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086600" y="380880"/>
            <a:ext cx="2057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thank-you lett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To contribute to the sha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writing of a thank-you letter.</a:t>
            </a:r>
            <a:br>
              <a:rPr sz="44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14400" y="1143000"/>
            <a:ext cx="754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anuary 21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ar ____________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" descr="MPj04317910000[1]"/>
          <p:cNvPicPr/>
          <p:nvPr/>
        </p:nvPicPr>
        <p:blipFill>
          <a:blip r:embed="rId1"/>
          <a:stretch/>
        </p:blipFill>
        <p:spPr>
          <a:xfrm>
            <a:off x="2209680" y="1600200"/>
            <a:ext cx="4989600" cy="4102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29040" y="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 To recognize the pattern of a rhy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991960" y="571500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585440" y="1066680"/>
            <a:ext cx="656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haroni"/>
                <a:ea typeface="Aharoni"/>
              </a:rPr>
              <a:t>Read Aloud:  “A Sound Riddl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3124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h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th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pre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2972160" y="228600"/>
            <a:ext cx="309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5635080" y="1295280"/>
            <a:ext cx="1936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surp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m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ubstitute phonemes to make new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6600"/>
                </a:solidFill>
                <a:uFillTx/>
                <a:latin typeface="Aharoni"/>
                <a:ea typeface="Aharoni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6600"/>
                </a:solidFill>
                <a:uFillTx/>
                <a:latin typeface="Aharoni"/>
                <a:ea typeface="Aharoni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haroni"/>
                <a:ea typeface="Aharoni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haroni"/>
                <a:ea typeface="Aharoni"/>
              </a:rPr>
              <a:t>Substit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9" descr="MCj04174500000[1]"/>
          <p:cNvPicPr/>
          <p:nvPr/>
        </p:nvPicPr>
        <p:blipFill>
          <a:blip r:embed="rId1"/>
          <a:stretch/>
        </p:blipFill>
        <p:spPr>
          <a:xfrm>
            <a:off x="5334120" y="1295280"/>
            <a:ext cx="3368520" cy="30546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5181480" y="4495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♫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-Hunting We Will Go 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substitute phonemes to make new wo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3048120" y="1981080"/>
            <a:ext cx="4724280" cy="30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5f0e"/>
                </a:solidFill>
                <a:latin typeface="Comic Sans MS"/>
              </a:rPr>
              <a:t>A changing we will g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5f0e"/>
                </a:solidFill>
                <a:latin typeface="Comic Sans MS"/>
              </a:rPr>
              <a:t>a changing we will 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5f0e"/>
                </a:solidFill>
                <a:latin typeface="Comic Sans MS"/>
              </a:rPr>
              <a:t>Change /m/ to /d/ in </a:t>
            </a:r>
            <a:r>
              <a:rPr b="0" i="1" lang="en-US" sz="2800" spc="-1" strike="noStrike">
                <a:solidFill>
                  <a:srgbClr val="965f0e"/>
                </a:solidFill>
                <a:latin typeface="Comic Sans MS"/>
              </a:rPr>
              <a:t>mark</a:t>
            </a:r>
            <a:r>
              <a:rPr b="0" lang="en-US" sz="2800" spc="-1" strike="noStrike">
                <a:solidFill>
                  <a:srgbClr val="965f0e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5f0e"/>
                </a:solidFill>
                <a:latin typeface="Comic Sans MS"/>
              </a:rPr>
              <a:t>And now the word is </a:t>
            </a:r>
            <a:r>
              <a:rPr b="0" i="1" lang="en-US" sz="2800" spc="-1" strike="noStrike">
                <a:solidFill>
                  <a:srgbClr val="965f0e"/>
                </a:solidFill>
                <a:latin typeface="Comic Sans MS"/>
              </a:rPr>
              <a:t>dark</a:t>
            </a:r>
            <a:r>
              <a:rPr b="0" lang="en-US" sz="2800" spc="-1" strike="noStrike">
                <a:solidFill>
                  <a:srgbClr val="965f0e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2135160" y="762120"/>
            <a:ext cx="437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♫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A-Hunting We Will Go 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C:\Users\Janice\AppData\Local\Microsoft\Windows\Temporary Internet Files\Content.IE5\N13ABA2C\MCj04281110000[1].wmf"/>
          <p:cNvPicPr/>
          <p:nvPr/>
        </p:nvPicPr>
        <p:blipFill>
          <a:blip r:embed="rId1"/>
          <a:stretch/>
        </p:blipFill>
        <p:spPr>
          <a:xfrm>
            <a:off x="685800" y="2590920"/>
            <a:ext cx="17524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934320" y="0"/>
            <a:ext cx="2209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w/ and /oa/ and other known letter 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886200" y="12193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4876920" y="12193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4495680" y="1219320"/>
            <a:ext cx="68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3962520" y="2209680"/>
            <a:ext cx="68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358128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5410080" y="1219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434340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3505320" y="3276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3886200" y="3276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4114800" y="3276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350532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3886200" y="43434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0"/>
          <p:cNvSpPr/>
          <p:nvPr/>
        </p:nvSpPr>
        <p:spPr>
          <a:xfrm>
            <a:off x="4882680" y="4343400"/>
            <a:ext cx="65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1"/>
          <p:cNvSpPr/>
          <p:nvPr/>
        </p:nvSpPr>
        <p:spPr>
          <a:xfrm>
            <a:off x="3421080" y="4952880"/>
            <a:ext cx="54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2"/>
          <p:cNvSpPr/>
          <p:nvPr/>
        </p:nvSpPr>
        <p:spPr>
          <a:xfrm>
            <a:off x="3843720" y="4952880"/>
            <a:ext cx="107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3"/>
          <p:cNvSpPr/>
          <p:nvPr/>
        </p:nvSpPr>
        <p:spPr>
          <a:xfrm>
            <a:off x="4806360" y="4952880"/>
            <a:ext cx="65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b6bcf"/>
                </a:solidFill>
                <a:latin typeface="Constantia"/>
              </a:rPr>
              <a:t>Read Words in Con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Low plants grow next to the ro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You must hold the little bag by its han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5f0e"/>
                </a:solidFill>
                <a:latin typeface="Comic Sans MS"/>
              </a:rPr>
              <a:t>Did you buy me a bar of so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big boat is sl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; 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Content Placeholder 1"/>
          <p:cNvSpPr/>
          <p:nvPr/>
        </p:nvSpPr>
        <p:spPr>
          <a:xfrm>
            <a:off x="1752480" y="13716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o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830320" y="304920"/>
            <a:ext cx="32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194440" y="1447920"/>
            <a:ext cx="16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b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i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ca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568480" y="5410080"/>
            <a:ext cx="3231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se /ow/ and /oa/ and other know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ter sounds to spell words; to spell known high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equency word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1-24T23:51:50Z</dcterms:modified>
  <cp:revision>253</cp:revision>
  <dc:subject/>
  <dc:title>Slide 1</dc:title>
</cp:coreProperties>
</file>