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F315-79EA-474E-AD3E-B140A71D2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D6BF-ED61-450C-B247-38722A6F0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B90A-D7F0-42C8-B676-F117808EF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594C-96CB-4E40-A64E-4DC0FA6F9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E36C-9F69-472D-83E6-F97CF725F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C76C-F669-4617-8A7F-2808DC063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07B0-39F3-4F74-AE1B-1BBFA2C66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A3AF-0156-43B0-AE8D-31C4F489C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2404-D64C-4B20-93B3-7E7D44ECF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4026-9E04-4FFA-94A9-D25D92F4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6554-217D-4724-A1FF-6CA09CCE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259C-C6D1-4594-BDD6-F8DE8FDF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E9836-C798-453D-A24C-8108408AE9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>
            <a:off x="2209680" y="9144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Lesson 18, Day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80520" y="17521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Authors write for a reason or a purpo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What is the author’s purpose in “The Mitten”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What is the author’s purpose in “The S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Surprise”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Author’s Purpose/Point of 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Box 2"/>
          <p:cNvSpPr/>
          <p:nvPr/>
        </p:nvSpPr>
        <p:spPr>
          <a:xfrm>
            <a:off x="6864120" y="228600"/>
            <a:ext cx="18403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:  To identify th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uthor’s purpose and poi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f view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640080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457200" y="838080"/>
            <a:ext cx="838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bor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4952880" y="1523880"/>
            <a:ext cx="3886200" cy="47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56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en you command someone, you tell him or her what to do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800080"/>
              </a:gs>
              <a:gs pos="100000">
                <a:srgbClr val="cc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command</a:t>
            </a: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6" descr="C:\Documents and Settings\pawley\My Documents\command.jpg"/>
          <p:cNvPicPr/>
          <p:nvPr/>
        </p:nvPicPr>
        <p:blipFill>
          <a:blip r:embed="rId1"/>
          <a:stretch/>
        </p:blipFill>
        <p:spPr>
          <a:xfrm>
            <a:off x="380880" y="2209680"/>
            <a:ext cx="4622760" cy="30974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7"/>
          <p:cNvSpPr/>
          <p:nvPr/>
        </p:nvSpPr>
        <p:spPr>
          <a:xfrm>
            <a:off x="228600" y="541008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n will 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comm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 to go over the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Times New Roman"/>
              </a:rPr>
              <a:t>Comm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can command my dog to sit.Would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mand a dog or a goldfish to roll ov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*</a:t>
            </a:r>
            <a:r>
              <a:rPr b="1" lang="en-US" sz="3200" spc="-1" strike="noStrike" u="sng">
                <a:solidFill>
                  <a:srgbClr val="800080"/>
                </a:solidFill>
                <a:uFillTx/>
                <a:latin typeface="Times New Roman"/>
              </a:rPr>
              <a:t>Turn and Talk: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  Tell your partner something your parents might command you to 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80"/>
                </a:solidFill>
                <a:latin typeface="Times New Roman"/>
              </a:rPr>
              <a:t>My parents command me to ___________.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4952880" y="1523880"/>
            <a:ext cx="3886200" cy="47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56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you labored, you worked very hard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99cc00"/>
              </a:gs>
              <a:gs pos="100000">
                <a:srgbClr val="00800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labored</a:t>
            </a: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6" descr="C:\Documents and Settings\pawley\My Documents\labored.jpg"/>
          <p:cNvPicPr/>
          <p:nvPr/>
        </p:nvPicPr>
        <p:blipFill>
          <a:blip r:embed="rId1"/>
          <a:stretch/>
        </p:blipFill>
        <p:spPr>
          <a:xfrm>
            <a:off x="685800" y="2286000"/>
            <a:ext cx="3962520" cy="29718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7"/>
          <p:cNvSpPr/>
          <p:nvPr/>
        </p:nvSpPr>
        <p:spPr>
          <a:xfrm>
            <a:off x="380880" y="5334120"/>
            <a:ext cx="449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n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labor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uild a fire with the woo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Labor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Saturday, I labored all day to clean 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e.  Would you have labored if you built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d castle or if you took a nap? Wh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*</a:t>
            </a:r>
            <a:r>
              <a:rPr b="0" lang="en-US" sz="3200" spc="-1" strike="noStrike" u="sng">
                <a:solidFill>
                  <a:srgbClr val="008000"/>
                </a:solidFill>
                <a:uFillTx/>
                <a:latin typeface="Times New Roman"/>
              </a:rPr>
              <a:t>Turn and Talk: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 Tell your partner how you would feel if you labored all day cleaning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After I labored all day, I would feel 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4952880" y="1523880"/>
            <a:ext cx="3886200" cy="47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56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en you are cautious and unsure about something that might be dangerous, you are wary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0099cc"/>
              </a:gs>
              <a:gs pos="100000">
                <a:srgbClr val="0033cc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wary</a:t>
            </a: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6" descr="C:\Documents and Settings\pawley\My Documents\wary.jpg"/>
          <p:cNvPicPr/>
          <p:nvPr/>
        </p:nvPicPr>
        <p:blipFill>
          <a:blip r:embed="rId1"/>
          <a:stretch/>
        </p:blipFill>
        <p:spPr>
          <a:xfrm>
            <a:off x="304920" y="1371600"/>
            <a:ext cx="4343400" cy="43434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7"/>
          <p:cNvSpPr/>
          <p:nvPr/>
        </p:nvSpPr>
        <p:spPr>
          <a:xfrm>
            <a:off x="228600" y="586728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ittle boy was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w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sheep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W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would be wary if I heard a strange no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side my door.  Would you be more w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going into a dark cave or a bright room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*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Turn and Talk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:  Tell your partner an animal you would be wary o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I would be wary of ___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2"/>
          <p:cNvSpPr/>
          <p:nvPr/>
        </p:nvSpPr>
        <p:spPr>
          <a:xfrm>
            <a:off x="1752480" y="152280"/>
            <a:ext cx="556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erylium"/>
              </a:rPr>
              <a:t>Homophon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7086600" y="152280"/>
            <a:ext cx="20574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Objective: To underst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the concept of homophones; to identif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homophon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304920" y="10666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Comic Sans MS"/>
              </a:rPr>
              <a:t>Remember homophones are words that sound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Comic Sans MS"/>
              </a:rPr>
              <a:t>same but are spelled differently and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Comic Sans MS"/>
              </a:rPr>
              <a:t>different mean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5"/>
          <p:cNvSpPr/>
          <p:nvPr/>
        </p:nvSpPr>
        <p:spPr>
          <a:xfrm>
            <a:off x="228600" y="2209680"/>
            <a:ext cx="8534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by/ buy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To/ t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Tale/ tail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Red/ 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New/ knew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Right/ wr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One/ w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304920" y="3886200"/>
            <a:ext cx="78483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My hat is re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We one the g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Max has a knew bik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I can right my name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7620120" y="0"/>
            <a:ext cx="1523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Objective: To develop a criteria list for writing a thank you no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7" descr="thank you letter"/>
          <p:cNvPicPr/>
          <p:nvPr/>
        </p:nvPicPr>
        <p:blipFill>
          <a:blip r:embed="rId1"/>
          <a:stretch/>
        </p:blipFill>
        <p:spPr>
          <a:xfrm>
            <a:off x="0" y="1098720"/>
            <a:ext cx="9144000" cy="46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7010280" y="0"/>
            <a:ext cx="2133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981080" y="380880"/>
            <a:ext cx="495324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Bradley Hand ITC"/>
              </a:rPr>
              <a:t>On my signal turn and talk to your partner using this ste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6600"/>
                </a:solidFill>
                <a:latin typeface="Constantia"/>
              </a:rPr>
              <a:t>A snowball 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Hula%20Monkey-Girls.jpg"/>
          <p:cNvPicPr/>
          <p:nvPr/>
        </p:nvPicPr>
        <p:blipFill>
          <a:blip r:embed="rId1"/>
          <a:stretch/>
        </p:blipFill>
        <p:spPr>
          <a:xfrm>
            <a:off x="60480" y="0"/>
            <a:ext cx="3689280" cy="31910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4"/>
          <p:cNvSpPr/>
          <p:nvPr/>
        </p:nvSpPr>
        <p:spPr>
          <a:xfrm>
            <a:off x="3809880" y="1752480"/>
            <a:ext cx="510552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c244e"/>
                </a:solidFill>
                <a:latin typeface="Constantia"/>
              </a:rPr>
              <a:t>What does a snowball look lik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c244e"/>
                </a:solidFill>
                <a:latin typeface="Constantia"/>
              </a:rPr>
              <a:t>What can you do with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3906720" y="914400"/>
            <a:ext cx="422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Arial"/>
              </a:rPr>
              <a:t>Question of the D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ctober 12,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ar Mr. Chapman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ank you for getting our ball off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oo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r friend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rs. Hill’s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rite a L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Comic Sans MS"/>
              </a:rPr>
              <a:t>Make a list of things you wou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Comic Sans MS"/>
              </a:rPr>
              <a:t>like to thank your parents for.</a:t>
            </a:r>
            <a:r>
              <a:rPr b="1" lang="en-US" sz="3200" spc="-1" strike="noStrike">
                <a:solidFill>
                  <a:srgbClr val="cc00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7620120" y="0"/>
            <a:ext cx="1523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Objective: To develop a criteria list for writing a thank you no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3"/>
          <p:cNvSpPr/>
          <p:nvPr/>
        </p:nvSpPr>
        <p:spPr>
          <a:xfrm>
            <a:off x="457200" y="1523880"/>
            <a:ext cx="74674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7086600" y="380880"/>
            <a:ext cx="2057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Objective: To understand the purpose of each part of the thank-you lett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To contribute to the shar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writing of a thank-you letter.</a:t>
            </a:r>
            <a:br>
              <a:rPr sz="44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6"/>
          <p:cNvSpPr/>
          <p:nvPr/>
        </p:nvSpPr>
        <p:spPr>
          <a:xfrm>
            <a:off x="914400" y="1143000"/>
            <a:ext cx="7543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January 22, 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ar ____________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our frien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" descr="MPj04317910000[1]"/>
          <p:cNvPicPr/>
          <p:nvPr/>
        </p:nvPicPr>
        <p:blipFill>
          <a:blip r:embed="rId1"/>
          <a:stretch/>
        </p:blipFill>
        <p:spPr>
          <a:xfrm>
            <a:off x="2209680" y="1600200"/>
            <a:ext cx="4989600" cy="41022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6629400" y="0"/>
            <a:ext cx="2514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To listen for a purpose. To recognize the pattern of a rhym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2991960" y="5715000"/>
            <a:ext cx="346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Big Book of Rhymes and Po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1585440" y="1066680"/>
            <a:ext cx="656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haroni"/>
                <a:ea typeface="Aharoni"/>
              </a:rPr>
              <a:t>Read Aloud:  “A Sound Riddle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7467480" y="0"/>
            <a:ext cx="16765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1371600" y="1219320"/>
            <a:ext cx="31240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mo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ou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o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pret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surpri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thr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th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h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2972160" y="228600"/>
            <a:ext cx="3099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5903280" y="1295280"/>
            <a:ext cx="1398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th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wi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h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3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3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3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3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3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3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3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3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3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3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708660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Objective: To blend phonemes to make new word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0" y="1447920"/>
            <a:ext cx="51814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lend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MCj04397720000[1]"/>
          <p:cNvPicPr/>
          <p:nvPr/>
        </p:nvPicPr>
        <p:blipFill>
          <a:blip r:embed="rId1"/>
          <a:stretch/>
        </p:blipFill>
        <p:spPr>
          <a:xfrm>
            <a:off x="4267080" y="1600200"/>
            <a:ext cx="44197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30492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3276720" y="1143000"/>
            <a:ext cx="838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716292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/o/ and other known letter-soun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3657600" y="11430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3733920" y="1981080"/>
            <a:ext cx="14475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w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3276720" y="1981080"/>
            <a:ext cx="838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4267080" y="11430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4114800" y="281952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2895480" y="281952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1"/>
          <p:cNvSpPr/>
          <p:nvPr/>
        </p:nvSpPr>
        <p:spPr>
          <a:xfrm>
            <a:off x="3886200" y="2819520"/>
            <a:ext cx="1447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w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2"/>
          <p:cNvSpPr/>
          <p:nvPr/>
        </p:nvSpPr>
        <p:spPr>
          <a:xfrm>
            <a:off x="3276720" y="281952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4"/>
          <p:cNvSpPr/>
          <p:nvPr/>
        </p:nvSpPr>
        <p:spPr>
          <a:xfrm>
            <a:off x="3048120" y="373392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5"/>
          <p:cNvSpPr/>
          <p:nvPr/>
        </p:nvSpPr>
        <p:spPr>
          <a:xfrm>
            <a:off x="3886200" y="373392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2895480" y="46483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7"/>
          <p:cNvSpPr/>
          <p:nvPr/>
        </p:nvSpPr>
        <p:spPr>
          <a:xfrm>
            <a:off x="3352680" y="46483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8"/>
          <p:cNvSpPr/>
          <p:nvPr/>
        </p:nvSpPr>
        <p:spPr>
          <a:xfrm>
            <a:off x="3657600" y="4648320"/>
            <a:ext cx="160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w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9"/>
          <p:cNvSpPr/>
          <p:nvPr/>
        </p:nvSpPr>
        <p:spPr>
          <a:xfrm>
            <a:off x="3581280" y="373392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0"/>
          <p:cNvSpPr/>
          <p:nvPr/>
        </p:nvSpPr>
        <p:spPr>
          <a:xfrm>
            <a:off x="4495680" y="373392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21"/>
          <p:cNvSpPr/>
          <p:nvPr/>
        </p:nvSpPr>
        <p:spPr>
          <a:xfrm>
            <a:off x="6019920" y="1143000"/>
            <a:ext cx="838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22"/>
          <p:cNvSpPr/>
          <p:nvPr/>
        </p:nvSpPr>
        <p:spPr>
          <a:xfrm>
            <a:off x="6400800" y="11430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23"/>
          <p:cNvSpPr/>
          <p:nvPr/>
        </p:nvSpPr>
        <p:spPr>
          <a:xfrm>
            <a:off x="7010280" y="11430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4"/>
          <p:cNvSpPr/>
          <p:nvPr/>
        </p:nvSpPr>
        <p:spPr>
          <a:xfrm>
            <a:off x="6095880" y="22860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5"/>
          <p:cNvSpPr/>
          <p:nvPr/>
        </p:nvSpPr>
        <p:spPr>
          <a:xfrm>
            <a:off x="6553080" y="228600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6"/>
          <p:cNvSpPr/>
          <p:nvPr/>
        </p:nvSpPr>
        <p:spPr>
          <a:xfrm>
            <a:off x="7467480" y="228600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27"/>
          <p:cNvSpPr/>
          <p:nvPr/>
        </p:nvSpPr>
        <p:spPr>
          <a:xfrm>
            <a:off x="6095880" y="3352680"/>
            <a:ext cx="838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28"/>
          <p:cNvSpPr/>
          <p:nvPr/>
        </p:nvSpPr>
        <p:spPr>
          <a:xfrm>
            <a:off x="6477120" y="33526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29"/>
          <p:cNvSpPr/>
          <p:nvPr/>
        </p:nvSpPr>
        <p:spPr>
          <a:xfrm>
            <a:off x="7086600" y="33526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0"/>
          <p:cNvSpPr/>
          <p:nvPr/>
        </p:nvSpPr>
        <p:spPr>
          <a:xfrm>
            <a:off x="6019920" y="457200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1"/>
          <p:cNvSpPr/>
          <p:nvPr/>
        </p:nvSpPr>
        <p:spPr>
          <a:xfrm>
            <a:off x="6629400" y="457200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2"/>
          <p:cNvSpPr/>
          <p:nvPr/>
        </p:nvSpPr>
        <p:spPr>
          <a:xfrm>
            <a:off x="7010280" y="457200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w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Fluenc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on has a goa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er name is Joa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oan has spots on her fu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oan likes to run on the roa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he has on a bow for the show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h, no, Joan!  Do not eat the box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7391520" y="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Objective: To read fluently in a manner that sounds like natural speech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Content Placeholder 1"/>
          <p:cNvSpPr/>
          <p:nvPr/>
        </p:nvSpPr>
        <p:spPr>
          <a:xfrm>
            <a:off x="1752480" y="1371600"/>
            <a:ext cx="28195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gr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ro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so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2830320" y="304920"/>
            <a:ext cx="32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elling Wor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5194440" y="1447920"/>
            <a:ext cx="16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bo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lit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hand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car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w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5568480" y="5410080"/>
            <a:ext cx="3231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:  To use /ow/ and /oa/ and other know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etter sounds to spell words; to spell known high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requency word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gh-Frequency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ou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o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pret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surpr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th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5334120" y="152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-To read high-frequency word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3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3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3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3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3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3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3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3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3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3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3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3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23:08:04Z</dcterms:created>
  <dc:creator>Federated Group</dc:creator>
  <dc:description/>
  <dc:language>en-US</dc:language>
  <cp:lastModifiedBy>mworsham</cp:lastModifiedBy>
  <dcterms:modified xsi:type="dcterms:W3CDTF">2010-01-24T23:52:30Z</dcterms:modified>
  <cp:revision>4</cp:revision>
  <dc:subject/>
  <dc:title>PowerPoint Presentation</dc:title>
</cp:coreProperties>
</file>