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0A9-C64F-44FC-B7B9-723FA7FD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19B-6F90-40B4-BF9A-7C025E69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6CF-7B7F-4339-8882-9907F470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8CC-33A3-4F36-BF81-1856F54FF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7C4-39DD-4D47-8F22-524A0922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EE1-965B-47F5-82D2-842C44E7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EDF-A849-4B13-9173-896C37E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6FF-C4BD-4A2F-9BCC-17D7D77D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124-57AC-4A03-A438-11C9D7E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DC8-571D-44E7-A339-CFAF0149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513-F626-4C11-80F7-A539BFA9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9E4-E02B-4DBB-A840-060474B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5F07-5068-4E42-825C-ED9F9534C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0968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sson 18, Day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uthors write for a reason or a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What is the author’s purpose in “The Mitten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What is the author’s purpose in “The S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Surprise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uthor’s Purpose/Point of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6864120" y="228600"/>
            <a:ext cx="1840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command someone, you tell him or her what to d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80"/>
              </a:gs>
              <a:gs pos="100000">
                <a:srgbClr val="cc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C:\Documents and Settings\pawley\My Documents\command.jpg"/>
          <p:cNvPicPr/>
          <p:nvPr/>
        </p:nvPicPr>
        <p:blipFill>
          <a:blip r:embed="rId1"/>
          <a:stretch/>
        </p:blipFill>
        <p:spPr>
          <a:xfrm>
            <a:off x="380880" y="2209680"/>
            <a:ext cx="4622760" cy="3097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228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 will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omm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to go over t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Com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can command my dog to sit.Woul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and a dog or a goldfish to roll 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*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Times New Roman"/>
              </a:rPr>
              <a:t>Turn and Talk: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Tell your partner something your parents might command you to 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My parents command me to ___________.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labored, you worked very har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99cc00"/>
              </a:gs>
              <a:gs pos="100000">
                <a:srgbClr val="008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labore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C:\Documents and Settings\pawley\My Documents\labored.jpg"/>
          <p:cNvPicPr/>
          <p:nvPr/>
        </p:nvPicPr>
        <p:blipFill>
          <a:blip r:embed="rId1"/>
          <a:stretch/>
        </p:blipFill>
        <p:spPr>
          <a:xfrm>
            <a:off x="685800" y="2286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80880" y="5334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abo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uild a fire with the w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ab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turday, I labored all day to clean 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.  Would you have labored if you buil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d castle or if you took a nap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</a:t>
            </a:r>
            <a:r>
              <a:rPr b="0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Turn and Talk: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Tell your partner how you would feel if you labored all day clean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After I labored all day, I would feel 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cautious and unsure about something that might be dangerous, you are war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0099cc"/>
              </a:gs>
              <a:gs pos="100000">
                <a:srgbClr val="0033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wary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C:\Documents and Settings\pawley\My Documents\wary.jpg"/>
          <p:cNvPicPr/>
          <p:nvPr/>
        </p:nvPicPr>
        <p:blipFill>
          <a:blip r:embed="rId1"/>
          <a:stretch/>
        </p:blipFill>
        <p:spPr>
          <a:xfrm>
            <a:off x="304920" y="1371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228600" y="5867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ttle boy wa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hee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be wary if I heard a strang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ide my door.  Would you be more w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going into a dark cave or a bright room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urn and Talk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  Tell your partner an animal you would be wary 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 would be wary of 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1752480" y="152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Homoph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7086600" y="1522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underst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the concept of homophones; to identif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homoph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04920" y="1066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Remember homophones are words that sou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same but are spelled differently and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different mean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28600" y="2209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y/ buy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o/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le/ tail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ed/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ew/ knew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ight/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ne/ w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04920" y="3886200"/>
            <a:ext cx="784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y hat is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e one the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ax has a knew b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 can right my name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981080" y="380880"/>
            <a:ext cx="49532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A snowball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Hula%20Monkey-Girls.jpg"/>
          <p:cNvPicPr/>
          <p:nvPr/>
        </p:nvPicPr>
        <p:blipFill>
          <a:blip r:embed="rId1"/>
          <a:stretch/>
        </p:blipFill>
        <p:spPr>
          <a:xfrm>
            <a:off x="60480" y="0"/>
            <a:ext cx="3689280" cy="3191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3809880" y="1752480"/>
            <a:ext cx="51055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does a snowball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can you do with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906720" y="91440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ober 12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ar Mr. Chapma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k you for getting our ball of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friend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Hill’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Make a list of things you w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like to thank your parents for.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understand the purpose of each part of the thank-you let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writing of a thank-you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914400" y="114300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2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____________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MPj04317910000[1]"/>
          <p:cNvPicPr/>
          <p:nvPr/>
        </p:nvPicPr>
        <p:blipFill>
          <a:blip r:embed="rId1"/>
          <a:stretch/>
        </p:blipFill>
        <p:spPr>
          <a:xfrm>
            <a:off x="2209680" y="1600200"/>
            <a:ext cx="4989600" cy="4102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629400" y="0"/>
            <a:ext cx="2514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991960" y="57150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585440" y="1066680"/>
            <a:ext cx="65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Read Aloud:  “A Sound Ridd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71600" y="1219320"/>
            <a:ext cx="3124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903280" y="1295280"/>
            <a:ext cx="1398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blend phonemes to make new wor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447920"/>
            <a:ext cx="5181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276720" y="11430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1143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733920" y="1981080"/>
            <a:ext cx="1447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2767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267080" y="1143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114800" y="28195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895480" y="28195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886200" y="28195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276720" y="28195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0481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8862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9548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35268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657600" y="46483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58128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449568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6019920" y="11430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6400800" y="1143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7010280" y="1143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095880" y="2286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6553080" y="2286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7467480" y="2286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6095880" y="335268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6477120" y="33526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7086600" y="33526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6019920" y="45720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662940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7010280" y="4572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194440" y="1447920"/>
            <a:ext cx="16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568480" y="5410080"/>
            <a:ext cx="3231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/ow/ and /oa/ and other kn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ter sounds to spell words; to spell known high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quency wor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t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412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To read high-frequency wor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08:04Z</dcterms:created>
  <dc:creator>Federated Group</dc:creator>
  <dc:description/>
  <dc:language>en-US</dc:language>
  <cp:lastModifiedBy>mworsham</cp:lastModifiedBy>
  <dcterms:modified xsi:type="dcterms:W3CDTF">2010-01-24T23:52:30Z</dcterms:modified>
  <cp:revision>4</cp:revision>
  <dc:subject/>
  <dc:title>PowerPoint Presentation</dc:title>
</cp:coreProperties>
</file>