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3765-E2D3-4A47-B82C-0630FD096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9755-D74D-44E5-9F83-7355DA56C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862-53D1-4412-8F4A-676BFBE9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648-EC0E-4934-8358-50489F1E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E43-F4BE-4846-922F-F076C054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FBD-CCE9-4509-BC9E-0A15EB0E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3BB-54EF-45BC-8732-2838C48B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4FE-A52F-4850-B7C1-755F1B35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4C29-AF74-4F12-B8A0-18B29916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A0D-DD7A-4DD2-B4F3-DD66251F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808-456E-4045-87B9-506C5A5F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AB3-F25F-42F5-BC98-9A53EE2A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2E4-0EF7-49BE-B7E8-523E7697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116-0838-40EB-AC85-DED8B56A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3889-58E2-4C39-B96F-3C0BEDD87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837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Lesson 18, Day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28600" y="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Calibri"/>
              </a:rPr>
              <a:t>Objective: To use /o/ ow, oa and other known letter-sounds to spell and write wo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Calibri"/>
              </a:rPr>
              <a:t>To spell and write known high frequency wo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457200" y="762120"/>
            <a:ext cx="8229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14600" y="1447920"/>
            <a:ext cx="37339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g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r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bo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lit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car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4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7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77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2" dur="2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0"/>
            <a:ext cx="9144000" cy="77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Would you be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wary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of a teacher who gave you a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command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?  Why or why no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 about this question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Would you be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wary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of a growling bear?  Why or why no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 about this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If you stuff three pairs of socks in your pocket, would your pocket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bulge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? Would it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bulge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if you put three pennies in it?  Why or why not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 about this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Would you be tired if you had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labored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all day doing yard work? Why or why no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 about this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Would you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argue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with someone who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jostled 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you while you were waiting in line?  Why or why no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 about this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0"/>
            <a:ext cx="91440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Your partner is your pet dog.  Command him or her to do a tri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alibri"/>
              </a:rPr>
              <a:t>You and your partner are at the doorway of a dark room.  Show how you would look if you were wary of going in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Calibri"/>
              </a:rPr>
              <a:t>Pretend to argue with your partner about who should get to play with a favorite to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alibri"/>
              </a:rPr>
              <a:t>Pretend that you and your partner are in a tight space, such as an elevator, with several other people. Show how you might get jostl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685800" y="175248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14800" y="2286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80880" y="6858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Calibri"/>
              </a:rPr>
              <a:t>What things have you done just because you like to do them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2280" y="37339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.  Complete the following 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8600" y="51055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One time I _____________just because I liked t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0"/>
            <a:ext cx="914400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alibri"/>
              </a:rPr>
              <a:t>M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He didn’t bark at anything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c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bird, a piece of string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siren or a silly toad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pickup truck along the roa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fen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bon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chewed up shoe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He barked because he wanted 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762120" y="380880"/>
            <a:ext cx="8229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752480" y="838080"/>
            <a:ext cx="54104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pret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surpr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th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car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wou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mo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o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762120" y="380880"/>
            <a:ext cx="8229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752480" y="838080"/>
            <a:ext cx="4800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i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w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l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3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52280" y="380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Calibri"/>
              </a:rPr>
              <a:t>Objective: To blend phonemes into recognizable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457200" y="1371600"/>
            <a:ext cx="4419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em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lend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Picture 6" descr="MCj04397720000[1]"/>
          <p:cNvPicPr/>
          <p:nvPr/>
        </p:nvPicPr>
        <p:blipFill>
          <a:blip r:embed="rId1"/>
          <a:stretch/>
        </p:blipFill>
        <p:spPr>
          <a:xfrm>
            <a:off x="4267080" y="16002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28600" y="0"/>
            <a:ext cx="86104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Objective: To discriminate between words with different patter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To use common vowel spelling patterns to read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Phonograms – words that end with the same sounds.  Words that have the same endings are also rhyming wor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1905120"/>
          <a:ext cx="8001000" cy="50054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50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o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gro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sho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flo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-oas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toas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coas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roas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52280" y="152280"/>
            <a:ext cx="883944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I am at a </a:t>
            </a: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boat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sh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Boats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float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on the wat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Some go when you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r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Some </a:t>
            </a: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boats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are fast, and some are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sl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I like all the </a:t>
            </a: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boats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When I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gr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up, I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kn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I want to have a </a:t>
            </a: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boat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in the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sh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23:53:57Z</dcterms:created>
  <dc:creator>mworsham</dc:creator>
  <dc:description/>
  <dc:language>en-US</dc:language>
  <cp:lastModifiedBy>mworsham</cp:lastModifiedBy>
  <dcterms:modified xsi:type="dcterms:W3CDTF">2010-01-25T00:11:52Z</dcterms:modified>
  <cp:revision>1</cp:revision>
  <dc:subject/>
  <dc:title>Slide 1</dc:title>
</cp:coreProperties>
</file>