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E21A-2CFF-42E6-AF71-D41A2145A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ECED-B328-4FE3-96F4-7161A315C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68B0-0475-40A3-BB9F-CCBD9C91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976F-7B90-4662-BD85-6B14574E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B3FA-D65D-4954-A36A-1EB383D3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70B0-3916-4032-9F74-0D5574C7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062-77F2-4FB1-A213-ABF64BEA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3E9-5D9C-46A8-A4ED-BD4A64F3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D9AB-65ED-41CE-B611-7D784B05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A3F-000D-4A6E-8470-47387F4B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125-26EE-4A5C-8033-C8BE238D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95F4-05D1-4192-9F6D-153A9FA7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0EE6-96E4-4B30-BF35-82CE0419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9F6-3AEE-4A1A-B3FE-142016B4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A6BF-9E4D-424A-8FE0-1A7B9581D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837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Lesson 18, Day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28600" y="0"/>
            <a:ext cx="8534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Calibri"/>
              </a:rPr>
              <a:t>Objective: To use /o/ ow, oa and other known letter-sounds to spell and write wo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Calibri"/>
              </a:rPr>
              <a:t>To spell and write known high frequency wo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457200" y="762120"/>
            <a:ext cx="8229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14600" y="1447920"/>
            <a:ext cx="37339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g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r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bo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lit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car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7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0" y="0"/>
            <a:ext cx="9144000" cy="77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Would you be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wary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 of a teacher who gave you a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command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?  Why or why no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Calibri"/>
              </a:rPr>
              <a:t>On my signal, turn and talk with your partner about this question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Would you be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wary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 of a growling bear?  Why or why no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Calibri"/>
              </a:rPr>
              <a:t>On my signal, turn and talk with your partner about this qu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If you stuff three pairs of socks in your pocket, would your pocket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bulge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? Would it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bulge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 if you put three pennies in it?  Why or why not?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Calibri"/>
              </a:rPr>
              <a:t>On my signal, turn and talk with your partner about this qu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Would you be tired if you had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labored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 all day doing yard work? Why or why no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Calibri"/>
              </a:rPr>
              <a:t>On my signal, turn and talk with your partner about this qu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Would you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argue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 with someone who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jostled 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you while you were waiting in line?  Why or why no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Calibri"/>
              </a:rPr>
              <a:t>On my signal, turn and talk with your partner about this qu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2" dur="2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4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0"/>
            <a:ext cx="914400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Your partner is your pet dog.  Command him or her to do a tri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alibri"/>
              </a:rPr>
              <a:t>You and your partner are at the doorway of a dark room.  Show how you would look if you were wary of going in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Calibri"/>
              </a:rPr>
              <a:t>Pretend to argue with your partner about who should get to play with a favorite to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alibri"/>
              </a:rPr>
              <a:t>Pretend that you and your partner are in a tight space, such as an elevator, with several other people. Show how you might get jostl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34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7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7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685800" y="175248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14800" y="2286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jective: To listen attentively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80880" y="6858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Calibri"/>
              </a:rPr>
              <a:t>What things have you done just because you like to do them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52280" y="37339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On my signal, turn and talk with your partner.  Complete the following 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28600" y="510552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Calibri"/>
              </a:rPr>
              <a:t>One time I _____________just because I liked t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0"/>
            <a:ext cx="914400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alibri"/>
              </a:rPr>
              <a:t>My 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He didn’t bark at anything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 c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 bird, a piece of string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 siren or a silly toad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 pickup truck along the roa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 fen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 bon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 chewed up shoe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He barked because he wanted 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762120" y="380880"/>
            <a:ext cx="8229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752480" y="838080"/>
            <a:ext cx="541044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pret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surpr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th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car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wou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mo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pl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o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e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762120" y="380880"/>
            <a:ext cx="8229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752480" y="838080"/>
            <a:ext cx="4800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i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or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twe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w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lo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52280" y="3808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Calibri"/>
              </a:rPr>
              <a:t>Objective: To blend phonemes into recognizable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WordArt 5"/>
          <p:cNvSpPr txBox="1"/>
          <p:nvPr/>
        </p:nvSpPr>
        <p:spPr>
          <a:xfrm>
            <a:off x="457200" y="1371600"/>
            <a:ext cx="4419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onem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lend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Picture 6" descr="MCj04397720000[1]"/>
          <p:cNvPicPr/>
          <p:nvPr/>
        </p:nvPicPr>
        <p:blipFill>
          <a:blip r:embed="rId1"/>
          <a:stretch/>
        </p:blipFill>
        <p:spPr>
          <a:xfrm>
            <a:off x="4267080" y="16002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28600" y="0"/>
            <a:ext cx="86104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Objective: To discriminate between words with different patter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To use common vowel spelling patterns to read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Phonograms – words that end with the same sounds.  Words that have the same endings are also rhyming wor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1905120"/>
          <a:ext cx="8001000" cy="500544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50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-ow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grow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show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flow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-oas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toas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coas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roas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52280" y="152280"/>
            <a:ext cx="883944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I am at a </a:t>
            </a:r>
            <a:r>
              <a:rPr b="1" lang="en-US" sz="4000" spc="-1" strike="noStrike">
                <a:solidFill>
                  <a:srgbClr val="3366ff"/>
                </a:solidFill>
                <a:latin typeface="Calibri"/>
              </a:rPr>
              <a:t>boat </a:t>
            </a:r>
            <a:r>
              <a:rPr b="1" lang="en-US" sz="4000" spc="-1" strike="noStrike">
                <a:solidFill>
                  <a:srgbClr val="00ff00"/>
                </a:solidFill>
                <a:latin typeface="Calibri"/>
              </a:rPr>
              <a:t>show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Calibri"/>
              </a:rPr>
              <a:t>Boats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3366ff"/>
                </a:solidFill>
                <a:latin typeface="Calibri"/>
              </a:rPr>
              <a:t>float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on the wat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Some go when you </a:t>
            </a:r>
            <a:r>
              <a:rPr b="1" lang="en-US" sz="4000" spc="-1" strike="noStrike">
                <a:solidFill>
                  <a:srgbClr val="00ff00"/>
                </a:solidFill>
                <a:latin typeface="Calibri"/>
              </a:rPr>
              <a:t>row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Some </a:t>
            </a:r>
            <a:r>
              <a:rPr b="1" lang="en-US" sz="4000" spc="-1" strike="noStrike">
                <a:solidFill>
                  <a:srgbClr val="3366ff"/>
                </a:solidFill>
                <a:latin typeface="Calibri"/>
              </a:rPr>
              <a:t>boats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are fast, and some are </a:t>
            </a:r>
            <a:r>
              <a:rPr b="1" lang="en-US" sz="4000" spc="-1" strike="noStrike">
                <a:solidFill>
                  <a:srgbClr val="00ff00"/>
                </a:solidFill>
                <a:latin typeface="Calibri"/>
              </a:rPr>
              <a:t>slow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I like all the </a:t>
            </a:r>
            <a:r>
              <a:rPr b="1" lang="en-US" sz="4000" spc="-1" strike="noStrike">
                <a:solidFill>
                  <a:srgbClr val="3366ff"/>
                </a:solidFill>
                <a:latin typeface="Calibri"/>
              </a:rPr>
              <a:t>boats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When I </a:t>
            </a:r>
            <a:r>
              <a:rPr b="1" lang="en-US" sz="4000" spc="-1" strike="noStrike">
                <a:solidFill>
                  <a:srgbClr val="00ff00"/>
                </a:solidFill>
                <a:latin typeface="Calibri"/>
              </a:rPr>
              <a:t>grow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up, I </a:t>
            </a:r>
            <a:r>
              <a:rPr b="1" lang="en-US" sz="4000" spc="-1" strike="noStrike">
                <a:solidFill>
                  <a:srgbClr val="00ff00"/>
                </a:solidFill>
                <a:latin typeface="Calibri"/>
              </a:rPr>
              <a:t>know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I want to have a </a:t>
            </a:r>
            <a:r>
              <a:rPr b="1" lang="en-US" sz="4000" spc="-1" strike="noStrike">
                <a:solidFill>
                  <a:srgbClr val="3366ff"/>
                </a:solidFill>
                <a:latin typeface="Calibri"/>
              </a:rPr>
              <a:t>boat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in the </a:t>
            </a:r>
            <a:r>
              <a:rPr b="1" lang="en-US" sz="4000" spc="-1" strike="noStrike">
                <a:solidFill>
                  <a:srgbClr val="00ff00"/>
                </a:solidFill>
                <a:latin typeface="Calibri"/>
              </a:rPr>
              <a:t>show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23:53:57Z</dcterms:created>
  <dc:creator>mworsham</dc:creator>
  <dc:description/>
  <dc:language>en-US</dc:language>
  <cp:lastModifiedBy>mworsham</cp:lastModifiedBy>
  <dcterms:modified xsi:type="dcterms:W3CDTF">2010-01-25T00:11:52Z</dcterms:modified>
  <cp:revision>1</cp:revision>
  <dc:subject/>
  <dc:title>Slide 1</dc:title>
</cp:coreProperties>
</file>