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064E-CB63-4496-A045-5856B5BD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80F-BF4E-400F-BBFC-D16963404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8EF9-2581-4B2C-B140-58621E43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8F1-EFA5-4FD9-ABF0-678C281D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BE9-A5EF-4F6F-B124-3F25B2B9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894C-FE60-40B8-9887-7382BF6A9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863-F2FD-47CA-AEDC-F16F1C088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D09-7F5C-4A8F-BA00-9FF98C045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C73A-1C9D-4C6A-BB4F-6F96A405B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B781-807B-4593-B12B-30A1CD15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FAE5-3245-41EB-B330-DD9D79CB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8F3-FBF4-44C4-837F-A81F892E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BEA-3428-463E-838B-36A4F0E34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DBC5-E26D-4E58-AB69-8605ED1A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5F4A-9899-420A-B77C-C942DCB1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2B7F-A753-41B6-A32C-F1616C34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ABA-7AEB-437E-A0FA-11057D657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0A1-EC3E-4547-A976-55C9619B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3F1-4684-48D3-ABEC-B5C348317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7EE-E2EA-48B5-AEBB-C97B099D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41E0-B993-4F69-A370-5CB2CD87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4C4-B602-4B2E-BC98-18E64E7A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98B-0D60-4C3E-B64A-2F75B47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E9A-5A24-4C8F-90EE-2E246AF9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85D-C6A7-4C70-8339-9D1AAFD6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F8D-DC06-4C98-A633-AB306E3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CFE-8D3F-4A74-BEB8-3A738F4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15D-9B48-40D3-A6A7-A9EA18C5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675-9801-45E5-B1C8-96FA5F1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709-5345-4281-B891-296BEECF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3CC-DB86-4111-BD6F-CA902BF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557-220F-47BD-B72F-94193B4D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F47-F2FC-47F2-AAB7-0825B76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7A4-5F00-435C-974A-297EB7FE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Beaver dreams of a green feas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He asks his pals for 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green h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rase is a group of two or more words that can be read together in a sentenc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8580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hrases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hicken Lit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4" descr="MCj03379100000[1]"/>
          <p:cNvPicPr/>
          <p:nvPr/>
        </p:nvPicPr>
        <p:blipFill>
          <a:blip r:embed="rId1"/>
          <a:stretch/>
        </p:blipFill>
        <p:spPr>
          <a:xfrm>
            <a:off x="1523880" y="2209680"/>
            <a:ext cx="61722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walking rapidly, you are walking very f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pi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3" descr="MPj04308960000[1]"/>
          <p:cNvPicPr/>
          <p:nvPr/>
        </p:nvPicPr>
        <p:blipFill>
          <a:blip r:embed="rId1"/>
          <a:stretch/>
        </p:blipFill>
        <p:spPr>
          <a:xfrm>
            <a:off x="380880" y="2286000"/>
            <a:ext cx="449604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are walk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walk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a fire drill, we should leave our classroom safely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y mom calls me to help her, should I move slowly o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evious person is not being truthful and might try to trick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286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ha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k on his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MCPE06908_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40388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y Loxy was ve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he was planning to gobble up the bi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got you to do my work by pretending it was fun, would that be kind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your favorite foo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were very hungry, what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ould you ask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eat _______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one who is courteous is very pol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urt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home-health-care"/>
          <p:cNvPicPr/>
          <p:nvPr/>
        </p:nvPicPr>
        <p:blipFill>
          <a:blip r:embed="rId1"/>
          <a:stretch/>
        </p:blipFill>
        <p:spPr>
          <a:xfrm>
            <a:off x="762120" y="1676520"/>
            <a:ext cx="4249440" cy="4419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1"/>
          <p:cNvSpPr/>
          <p:nvPr/>
        </p:nvSpPr>
        <p:spPr>
          <a:xfrm>
            <a:off x="76212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rse is be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t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y Loxy was pretending to be nice so he spok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sk the new girl to sit with us at 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it w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sk the new girl to sit with you at lunch, or to tell the new girl there is no room at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say something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describe  something devious that Foxy Loxy migh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say something courteous to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52280" y="1523880"/>
            <a:ext cx="8991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cken Little has yellow fea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a small bea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a round ey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0"/>
          <p:cNvSpPr/>
          <p:nvPr/>
        </p:nvSpPr>
        <p:spPr>
          <a:xfrm>
            <a:off x="7238880" y="0"/>
            <a:ext cx="1905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1" descr="la37"/>
          <p:cNvPicPr/>
          <p:nvPr/>
        </p:nvPicPr>
        <p:blipFill>
          <a:blip r:embed="rId1"/>
          <a:stretch/>
        </p:blipFill>
        <p:spPr>
          <a:xfrm>
            <a:off x="1371600" y="0"/>
            <a:ext cx="58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914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me words that describe color, shape, and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676520"/>
          <a:ext cx="8610480" cy="46479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la38"/>
          <p:cNvPicPr/>
          <p:nvPr/>
        </p:nvPicPr>
        <p:blipFill>
          <a:blip r:embed="rId1"/>
          <a:stretch/>
        </p:blipFill>
        <p:spPr>
          <a:xfrm>
            <a:off x="1143000" y="0"/>
            <a:ext cx="66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Describing Sentence About A 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ok at my big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web of something that you would like to describ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Bear Wants Mo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762120" y="190512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ways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individual phonemes in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e/ ee, 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e/ sound, make an e with you fingers.  When I say a word that does not have /e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e/ sound in the middle, make an /e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4" descr="MPj04070910000[1]"/>
          <p:cNvPicPr/>
          <p:nvPr/>
        </p:nvPicPr>
        <p:blipFill>
          <a:blip r:embed="rId1"/>
          <a:stretch/>
        </p:blipFill>
        <p:spPr>
          <a:xfrm>
            <a:off x="228600" y="2209680"/>
            <a:ext cx="48769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809880" y="58514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4038480" y="58514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952880" y="585144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34:40Z</dcterms:modified>
  <cp:revision>127</cp:revision>
  <dc:subject/>
  <dc:title>Slide 1</dc:title>
</cp:coreProperties>
</file>