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12.png" ContentType="image/png"/>
  <Override PartName="/ppt/media/image7.jpeg" ContentType="image/jpeg"/>
  <Override PartName="/ppt/media/image11.png" ContentType="image/png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B335-288F-418A-A3C9-48D70B3CE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AF9E-B27B-4CC3-81F4-E13B3A69E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7524-2238-414B-9605-AB03D2201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8181-FDBD-40BB-8EF3-887219CAA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3965-2B7C-4C8D-ADA1-D36CA5205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A722-CDBA-43F7-B877-4EAFA4F91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D039-81D4-43C4-B30E-E0C8E218C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674A-FA5A-4F2C-A716-505A852D7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081D-94CA-49DB-96BB-6948E7605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5C35-BD76-4465-B0D7-B039172F8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E5DB-5709-4087-A1BF-B8AEF3FB2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D6A3-C9AE-4EC5-9FAD-E694A4778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63B9-68B2-4280-A82E-876BE9353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4C1E-00D4-477F-973C-E17294056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F80F-9778-474C-AB49-365A1F8C2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EDCF-03B8-446A-986D-71992D00E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A22D-51B9-4A28-B27A-3C67AF094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AF5A-9319-4D9A-9308-E9992ACD8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F131-C9BB-4D57-A1C0-F3DF34DD3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66E7-8855-42EF-8D96-A367BC589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55DC-D8E1-4449-AA47-4A22B96AF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B21A-B359-404F-9221-7C46549C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FD3F-04FB-41BA-87EC-B4A6E1CD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5C97-400E-4A13-A084-A9993579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4D67-A847-4A93-BB63-EAA70E81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9CD3-F2C7-439A-B0FD-13E95F11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5851-5A18-435E-8C36-9AAC7559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768A-CE9A-487E-A746-E62DB210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F9EC-4D13-4935-8E91-4C002304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6A66-F922-490F-8749-72D2E64E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26A0-8B3F-4375-A973-A95717BC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51AA-B269-4C52-A880-15881F79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1EE8-B76E-4B9A-8307-A70FB593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4F8F-3383-4FEF-945D-E7EF8D7E3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sson 19, Day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nstantia"/>
              </a:rPr>
              <a:t>Beaver dreams of a green feast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nstantia"/>
              </a:rPr>
              <a:t>He asks his pals for 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nstantia"/>
              </a:rPr>
              <a:t>green ha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ou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lway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9"/>
          <p:cNvSpPr/>
          <p:nvPr/>
        </p:nvSpPr>
        <p:spPr>
          <a:xfrm>
            <a:off x="228600" y="1371600"/>
            <a:ext cx="2819520" cy="487692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876920"/>
              <a:gd name="textAreaBottom" fmla="*/ 4739400 h 4876920"/>
            </a:gdLst>
            <a:ahLst/>
            <a:rect l="textAreaLeft" t="textAreaTop" r="textAreaRight" b="textAreaBottom"/>
            <a:pathLst>
              <a:path w="21600" h="37359">
                <a:moveTo>
                  <a:pt x="3600" y="0"/>
                </a:moveTo>
                <a:arcTo wR="3600" hR="3600" stAng="16200000" swAng="-5400000"/>
                <a:lnTo>
                  <a:pt x="0" y="33759"/>
                </a:lnTo>
                <a:arcTo wR="3600" hR="3600" stAng="10800000" swAng="-5400000"/>
                <a:lnTo>
                  <a:pt x="18000" y="373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380880" y="13716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gin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6172200" y="1295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4"/>
          <p:cNvSpPr/>
          <p:nvPr/>
        </p:nvSpPr>
        <p:spPr>
          <a:xfrm>
            <a:off x="3048120" y="1371600"/>
            <a:ext cx="2819160" cy="4876920"/>
          </a:xfrm>
          <a:custGeom>
            <a:avLst/>
            <a:gdLst>
              <a:gd name="textAreaLeft" fmla="*/ 137520 w 2819160"/>
              <a:gd name="textAreaRight" fmla="*/ 2681640 w 2819160"/>
              <a:gd name="textAreaTop" fmla="*/ 137520 h 4876920"/>
              <a:gd name="textAreaBottom" fmla="*/ 4739400 h 4876920"/>
            </a:gdLst>
            <a:ahLst/>
            <a:rect l="textAreaLeft" t="textAreaTop" r="textAreaRight" b="textAreaBottom"/>
            <a:pathLst>
              <a:path w="21600" h="37364">
                <a:moveTo>
                  <a:pt x="3600" y="0"/>
                </a:moveTo>
                <a:arcTo wR="3600" hR="3600" stAng="16200000" swAng="-5400000"/>
                <a:lnTo>
                  <a:pt x="0" y="33764"/>
                </a:lnTo>
                <a:arcTo wR="3600" hR="3600" stAng="10800000" swAng="-5400000"/>
                <a:lnTo>
                  <a:pt x="18000" y="373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5"/>
          <p:cNvSpPr/>
          <p:nvPr/>
        </p:nvSpPr>
        <p:spPr>
          <a:xfrm>
            <a:off x="5867280" y="1295280"/>
            <a:ext cx="2819520" cy="487692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876920"/>
              <a:gd name="textAreaBottom" fmla="*/ 4739400 h 4876920"/>
            </a:gdLst>
            <a:ahLst/>
            <a:rect l="textAreaLeft" t="textAreaTop" r="textAreaRight" b="textAreaBottom"/>
            <a:pathLst>
              <a:path w="21600" h="37359">
                <a:moveTo>
                  <a:pt x="3600" y="0"/>
                </a:moveTo>
                <a:arcTo wR="3600" hR="3600" stAng="16200000" swAng="-5400000"/>
                <a:lnTo>
                  <a:pt x="0" y="33759"/>
                </a:lnTo>
                <a:arcTo wR="3600" hR="3600" stAng="10800000" swAng="-5400000"/>
                <a:lnTo>
                  <a:pt x="18000" y="373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342900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d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hrase is a group of two or more words that can be read together in a sentenc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with appropriate phras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MPj04394930000[1]"/>
          <p:cNvPicPr/>
          <p:nvPr/>
        </p:nvPicPr>
        <p:blipFill>
          <a:blip r:embed="rId1"/>
          <a:stretch/>
        </p:blipFill>
        <p:spPr>
          <a:xfrm>
            <a:off x="1600200" y="2590920"/>
            <a:ext cx="6095880" cy="40701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685800" y="17524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phrases with a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 To understand characteristics of folk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Chicken Litt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4" descr="MCj03379100000[1]"/>
          <p:cNvPicPr/>
          <p:nvPr/>
        </p:nvPicPr>
        <p:blipFill>
          <a:blip r:embed="rId1"/>
          <a:stretch/>
        </p:blipFill>
        <p:spPr>
          <a:xfrm>
            <a:off x="1523880" y="2209680"/>
            <a:ext cx="617220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te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are walking rapidly, you are walking very fa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apid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3" descr="MPj04308960000[1]"/>
          <p:cNvPicPr/>
          <p:nvPr/>
        </p:nvPicPr>
        <p:blipFill>
          <a:blip r:embed="rId1"/>
          <a:stretch/>
        </p:blipFill>
        <p:spPr>
          <a:xfrm>
            <a:off x="380880" y="2286000"/>
            <a:ext cx="4496040" cy="32972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24"/>
          <p:cNvSpPr/>
          <p:nvPr/>
        </p:nvSpPr>
        <p:spPr>
          <a:xfrm>
            <a:off x="457200" y="57913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s are walking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apid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rapid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imals walke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pid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re is a fire drill, we should leave our classroom safely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pid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y mom calls me to help her, should I move slowly o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rapid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eviou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A devious person is not being truthful and might try to trick you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228600" y="6019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ha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vi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ok on his 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3" descr="MCPE06908_0000[1]"/>
          <p:cNvPicPr/>
          <p:nvPr/>
        </p:nvPicPr>
        <p:blipFill>
          <a:blip r:embed="rId1"/>
          <a:stretch/>
        </p:blipFill>
        <p:spPr>
          <a:xfrm>
            <a:off x="609480" y="2057400"/>
            <a:ext cx="4038840" cy="3716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dev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xy Loxy was ver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vi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use he was planning to gobble up the bi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 got you to do my work by pretending it was fun, would that be kind o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vi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Think about your favorite food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If you were very hungry, what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ould you ask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to eat _______ because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meone who is courteous is very poli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urteou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0" descr="home-health-care"/>
          <p:cNvPicPr/>
          <p:nvPr/>
        </p:nvPicPr>
        <p:blipFill>
          <a:blip r:embed="rId1"/>
          <a:stretch/>
        </p:blipFill>
        <p:spPr>
          <a:xfrm>
            <a:off x="762120" y="1676520"/>
            <a:ext cx="4249440" cy="44193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1"/>
          <p:cNvSpPr/>
          <p:nvPr/>
        </p:nvSpPr>
        <p:spPr>
          <a:xfrm>
            <a:off x="762120" y="62485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rse is being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urte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la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courte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040" y="9140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xy Loxy was pretending to be nice so he spoke in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urte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it would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urte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sk the new girl to sit with us at lu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think it would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urte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sk the new girl to sit with you at lunch, or to tell the new girl there is no room at the t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signal, turn to your partner and say something rapi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signal, turn to your partner and describe  something devious that Foxy Loxy might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signal, turn to your partner and say something courteous to your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about color, size, and sh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152280" y="1523880"/>
            <a:ext cx="8991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icken Little has yellow feather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 has a small bea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 has a round eyes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0"/>
          <p:cNvSpPr/>
          <p:nvPr/>
        </p:nvSpPr>
        <p:spPr>
          <a:xfrm>
            <a:off x="7238880" y="0"/>
            <a:ext cx="1905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about color, size, and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1" descr="la37"/>
          <p:cNvPicPr/>
          <p:nvPr/>
        </p:nvPicPr>
        <p:blipFill>
          <a:blip r:embed="rId1"/>
          <a:stretch/>
        </p:blipFill>
        <p:spPr>
          <a:xfrm>
            <a:off x="1371600" y="0"/>
            <a:ext cx="588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about color, size, and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0"/>
            <a:ext cx="56390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ing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0" y="9144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ame words that describe color, shape, and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8600" y="1676520"/>
          <a:ext cx="8610480" cy="464796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8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la38"/>
          <p:cNvPicPr/>
          <p:nvPr/>
        </p:nvPicPr>
        <p:blipFill>
          <a:blip r:embed="rId1"/>
          <a:stretch/>
        </p:blipFill>
        <p:spPr>
          <a:xfrm>
            <a:off x="1143000" y="0"/>
            <a:ext cx="663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describe"/>
          <p:cNvPicPr/>
          <p:nvPr/>
        </p:nvPicPr>
        <p:blipFill>
          <a:blip r:embed="rId1"/>
          <a:stretch/>
        </p:blipFill>
        <p:spPr>
          <a:xfrm rot="21379800">
            <a:off x="1295280" y="980640"/>
            <a:ext cx="6705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Dictate a Describing Sentence About A Th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ook at my big h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7086600" y="22860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e A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web of something that you would like to describe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2895480" y="3429000"/>
            <a:ext cx="327672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5791320" y="50292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 flipV="1">
            <a:off x="6019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 flipH="1">
            <a:off x="2057040" y="50292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0"/>
          <p:cNvSpPr/>
          <p:nvPr/>
        </p:nvSpPr>
        <p:spPr>
          <a:xfrm flipH="1" flipV="1">
            <a:off x="2209320" y="32004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1"/>
          <p:cNvSpPr/>
          <p:nvPr/>
        </p:nvSpPr>
        <p:spPr>
          <a:xfrm>
            <a:off x="457200" y="5867280"/>
            <a:ext cx="18288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2"/>
          <p:cNvSpPr/>
          <p:nvPr/>
        </p:nvSpPr>
        <p:spPr>
          <a:xfrm>
            <a:off x="1066680" y="2438280"/>
            <a:ext cx="175284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3"/>
          <p:cNvSpPr/>
          <p:nvPr/>
        </p:nvSpPr>
        <p:spPr>
          <a:xfrm>
            <a:off x="6629400" y="2133720"/>
            <a:ext cx="182880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4"/>
          <p:cNvSpPr/>
          <p:nvPr/>
        </p:nvSpPr>
        <p:spPr>
          <a:xfrm>
            <a:off x="5867280" y="5715000"/>
            <a:ext cx="18288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listen for a purp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343400" y="457200"/>
            <a:ext cx="4800600" cy="63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Bear Wants Mo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5" descr="MCj00884440000[1]"/>
          <p:cNvPicPr/>
          <p:nvPr/>
        </p:nvPicPr>
        <p:blipFill>
          <a:blip r:embed="rId1"/>
          <a:stretch/>
        </p:blipFill>
        <p:spPr>
          <a:xfrm>
            <a:off x="762120" y="1905120"/>
            <a:ext cx="35812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ways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ul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cognize individual phonemes in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4" descr="MPj04228180000[1]"/>
          <p:cNvPicPr/>
          <p:nvPr/>
        </p:nvPicPr>
        <p:blipFill>
          <a:blip r:embed="rId1"/>
          <a:stretch/>
        </p:blipFill>
        <p:spPr>
          <a:xfrm>
            <a:off x="4724280" y="990720"/>
            <a:ext cx="3749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228600"/>
            <a:ext cx="8001000" cy="28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Long vowel /e/ ee, 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5334120" y="1752480"/>
            <a:ext cx="38098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begins with the /e/ sound, make an e with you fingers.  When I say a word that does not have /e/, do noth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e/ sound in the middle, make an /e/ with your fin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4" descr="MPj04070910000[1]"/>
          <p:cNvPicPr/>
          <p:nvPr/>
        </p:nvPicPr>
        <p:blipFill>
          <a:blip r:embed="rId1"/>
          <a:stretch/>
        </p:blipFill>
        <p:spPr>
          <a:xfrm>
            <a:off x="228600" y="2209680"/>
            <a:ext cx="487692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52320" y="1371600"/>
            <a:ext cx="838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e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657600" y="1371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3809880" y="2362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724280" y="1371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4419720" y="3276720"/>
            <a:ext cx="761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3505320" y="3276720"/>
            <a:ext cx="1447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4572000" y="2362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3733920" y="42670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7"/>
          <p:cNvSpPr/>
          <p:nvPr/>
        </p:nvSpPr>
        <p:spPr>
          <a:xfrm>
            <a:off x="4114800" y="426708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809880" y="1295280"/>
            <a:ext cx="1905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3657600" y="22096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3657600" y="2209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2"/>
          <p:cNvSpPr/>
          <p:nvPr/>
        </p:nvSpPr>
        <p:spPr>
          <a:xfrm>
            <a:off x="3886200" y="3124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3"/>
          <p:cNvSpPr/>
          <p:nvPr/>
        </p:nvSpPr>
        <p:spPr>
          <a:xfrm>
            <a:off x="4191120" y="31240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5105520" y="3124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5"/>
          <p:cNvSpPr/>
          <p:nvPr/>
        </p:nvSpPr>
        <p:spPr>
          <a:xfrm>
            <a:off x="3886200" y="4038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4267080" y="403848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7"/>
          <p:cNvSpPr/>
          <p:nvPr/>
        </p:nvSpPr>
        <p:spPr>
          <a:xfrm>
            <a:off x="51055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3733920" y="48006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3809880" y="585144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0"/>
          <p:cNvSpPr/>
          <p:nvPr/>
        </p:nvSpPr>
        <p:spPr>
          <a:xfrm>
            <a:off x="4343400" y="4800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1"/>
          <p:cNvSpPr/>
          <p:nvPr/>
        </p:nvSpPr>
        <p:spPr>
          <a:xfrm>
            <a:off x="4038480" y="585144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2"/>
          <p:cNvSpPr/>
          <p:nvPr/>
        </p:nvSpPr>
        <p:spPr>
          <a:xfrm>
            <a:off x="5181480" y="4800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3"/>
          <p:cNvSpPr/>
          <p:nvPr/>
        </p:nvSpPr>
        <p:spPr>
          <a:xfrm>
            <a:off x="4952880" y="585144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2-07T20:34:40Z</dcterms:modified>
  <cp:revision>127</cp:revision>
  <dc:subject/>
  <dc:title>Slide 1</dc:title>
</cp:coreProperties>
</file>