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6.jpeg" ContentType="image/jpeg"/>
  <Override PartName="/ppt/media/image7.jpeg" ContentType="image/jpeg"/>
  <Override PartName="/ppt/media/image11.png" ContentType="image/png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59E7-A01B-42CD-A39B-A02451A39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4462-B24C-4AEF-AD72-1073DED34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7B5F-54F8-4BAF-843C-A75CC3540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3523-F6B5-4F73-896C-D9499FB7D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703F-8F83-4B54-B9D4-924FD6C64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D289-0F1C-406B-BC7D-18930F81C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4A63-8BAE-45B3-89E2-C97ABA998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50A1-F9E7-476D-8FEB-87DFE11BF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1E09-AE05-439C-B6BB-35176527C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CFC0-D46E-4F0B-9B7B-ED09D87E3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3070-360D-44AE-B0B0-1D713A554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437F-A74B-4D23-924A-34E38EC8A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DD04-C55B-4330-A1A8-FC153E6FE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36EC-25D1-4FBF-85EF-57A541933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AB6E-24C0-4F78-ABAE-9A4696315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52E1-4B4E-4E79-9605-93BD36333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05CF-0716-42D5-933D-91C1370C7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A957-AF3F-41A6-9A40-91F336C48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8FDC-FFEC-46C4-8925-8354BC6EA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E740-6BD8-42AB-855A-13690A7A1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CB03-6443-48DC-BF34-8A2BA9C8C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ECB9-6295-46D0-9AAC-FFDD4E644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AB6E-D4C6-417D-BFBE-30A44F1E1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6087-A823-4745-AC92-E6870CF9B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928A-0534-4487-A327-89F438D82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A25A-48C7-4E27-B4A0-AC4A2F51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FE9E-E6C0-4963-BA27-997A85DC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4186-99CA-47BE-984A-036E6A6E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A2DE-5E83-45A6-BB4D-6D0E78FB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2120-5494-4CC9-9C25-7BD69BD6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DD03-CD8E-4FEE-8619-03E36708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CF8-3F27-4BEE-9A78-CEB983B8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8C4F-3CCB-46F1-A489-A378030B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7CE7-C915-4E52-A11D-FE01C2FE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B39D-9F71-4C3B-B824-5F80DEF6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BE7-B593-408D-A760-05812A6F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C735-36FD-41AC-A18A-35E24241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62F1-0592-41C8-AFBB-06AA294B8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sson 19, Day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-360"/>
            <a:ext cx="3429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s to K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Frequenc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t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hu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729320" y="152280"/>
            <a:ext cx="197748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s to K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g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lov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ta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hoo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9"/>
          <p:cNvSpPr/>
          <p:nvPr/>
        </p:nvSpPr>
        <p:spPr>
          <a:xfrm>
            <a:off x="228600" y="1371600"/>
            <a:ext cx="2819520" cy="487692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876920"/>
              <a:gd name="textAreaBottom" fmla="*/ 4739400 h 4876920"/>
            </a:gdLst>
            <a:ahLst/>
            <a:rect l="textAreaLeft" t="textAreaTop" r="textAreaRight" b="textAreaBottom"/>
            <a:pathLst>
              <a:path w="21600" h="37359">
                <a:moveTo>
                  <a:pt x="3600" y="0"/>
                </a:moveTo>
                <a:arcTo wR="3600" hR="3600" stAng="16200000" swAng="-5400000"/>
                <a:lnTo>
                  <a:pt x="0" y="33759"/>
                </a:lnTo>
                <a:arcTo wR="3600" hR="3600" stAng="10800000" swAng="-5400000"/>
                <a:lnTo>
                  <a:pt x="18000" y="373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380880" y="1371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gin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6172200" y="1295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4"/>
          <p:cNvSpPr/>
          <p:nvPr/>
        </p:nvSpPr>
        <p:spPr>
          <a:xfrm>
            <a:off x="3048120" y="1371600"/>
            <a:ext cx="2819160" cy="4876920"/>
          </a:xfrm>
          <a:custGeom>
            <a:avLst/>
            <a:gdLst>
              <a:gd name="textAreaLeft" fmla="*/ 137520 w 2819160"/>
              <a:gd name="textAreaRight" fmla="*/ 2681640 w 2819160"/>
              <a:gd name="textAreaTop" fmla="*/ 137520 h 4876920"/>
              <a:gd name="textAreaBottom" fmla="*/ 4739400 h 4876920"/>
            </a:gdLst>
            <a:ahLst/>
            <a:rect l="textAreaLeft" t="textAreaTop" r="textAreaRight" b="textAreaBottom"/>
            <a:pathLst>
              <a:path w="21600" h="37364">
                <a:moveTo>
                  <a:pt x="3600" y="0"/>
                </a:moveTo>
                <a:arcTo wR="3600" hR="3600" stAng="16200000" swAng="-5400000"/>
                <a:lnTo>
                  <a:pt x="0" y="33764"/>
                </a:lnTo>
                <a:arcTo wR="3600" hR="3600" stAng="10800000" swAng="-5400000"/>
                <a:lnTo>
                  <a:pt x="18000" y="373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5"/>
          <p:cNvSpPr/>
          <p:nvPr/>
        </p:nvSpPr>
        <p:spPr>
          <a:xfrm>
            <a:off x="5867280" y="1295280"/>
            <a:ext cx="2819520" cy="487692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876920"/>
              <a:gd name="textAreaBottom" fmla="*/ 4739400 h 4876920"/>
            </a:gdLst>
            <a:ahLst/>
            <a:rect l="textAreaLeft" t="textAreaTop" r="textAreaRight" b="textAreaBottom"/>
            <a:pathLst>
              <a:path w="21600" h="37359">
                <a:moveTo>
                  <a:pt x="3600" y="0"/>
                </a:moveTo>
                <a:arcTo wR="3600" hR="3600" stAng="16200000" swAng="-5400000"/>
                <a:lnTo>
                  <a:pt x="0" y="33759"/>
                </a:lnTo>
                <a:arcTo wR="3600" hR="3600" stAng="10800000" swAng="-5400000"/>
                <a:lnTo>
                  <a:pt x="18000" y="373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342900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d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Cause and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o find cause and effect, ask two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at happened? 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Little Rabbit  thinks the sky is f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y did it happen?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An apple hit him on the 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caus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is the apple hitting him on the 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effect 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is that he thinks the sky is f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Content Placeholder 5" descr="windy day.bmp"/>
          <p:cNvPicPr/>
          <p:nvPr/>
        </p:nvPicPr>
        <p:blipFill>
          <a:blip r:embed="rId1"/>
          <a:stretch/>
        </p:blipFill>
        <p:spPr>
          <a:xfrm>
            <a:off x="533520" y="1787400"/>
            <a:ext cx="4038480" cy="30546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151920" y="0"/>
            <a:ext cx="22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cogn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e-and-effect in a 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can bow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are on a tea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ould you like to come to see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It’s just down the ro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You can come with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Can Dan meet with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Our coach can teach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with appropriate phras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te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are walking rapidly, you are walking very fa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apid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3" descr="MPj04308960000[1]"/>
          <p:cNvPicPr/>
          <p:nvPr/>
        </p:nvPicPr>
        <p:blipFill>
          <a:blip r:embed="rId1"/>
          <a:stretch/>
        </p:blipFill>
        <p:spPr>
          <a:xfrm>
            <a:off x="380880" y="2286000"/>
            <a:ext cx="4496040" cy="32972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4"/>
          <p:cNvSpPr/>
          <p:nvPr/>
        </p:nvSpPr>
        <p:spPr>
          <a:xfrm>
            <a:off x="457200" y="57913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s are walking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apid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5943600" y="0"/>
            <a:ext cx="289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613080" y="1752480"/>
            <a:ext cx="849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On my signal, turn and talk with y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partner to name some animals that m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rapidly</a:t>
            </a: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eviou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A devious person is not being truthful and might try to trick you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228600" y="6019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ha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vi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ok on his 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3" descr="MCPE06908_0000[1]"/>
          <p:cNvPicPr/>
          <p:nvPr/>
        </p:nvPicPr>
        <p:blipFill>
          <a:blip r:embed="rId1"/>
          <a:stretch/>
        </p:blipFill>
        <p:spPr>
          <a:xfrm>
            <a:off x="609480" y="2057400"/>
            <a:ext cx="4038840" cy="3716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6019920" y="0"/>
            <a:ext cx="3124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727200" y="762120"/>
            <a:ext cx="783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On my signal, answer this question in one vo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with “yes” or “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Bobby pretended not to see the mess because he h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someone else would clean it up.  Was Bobb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vious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950400" y="3581280"/>
            <a:ext cx="670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On my signal, answer this question in one vo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with “yes” or “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Sally brought a snack to share with everyon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Was Sall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vious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5"/>
          <p:cNvSpPr/>
          <p:nvPr/>
        </p:nvSpPr>
        <p:spPr>
          <a:xfrm>
            <a:off x="990720" y="3200400"/>
            <a:ext cx="722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one who is courteous is very pol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urteou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0" descr="home-health-care"/>
          <p:cNvPicPr/>
          <p:nvPr/>
        </p:nvPicPr>
        <p:blipFill>
          <a:blip r:embed="rId1"/>
          <a:stretch/>
        </p:blipFill>
        <p:spPr>
          <a:xfrm>
            <a:off x="762120" y="1676520"/>
            <a:ext cx="4249440" cy="4419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1"/>
          <p:cNvSpPr/>
          <p:nvPr/>
        </p:nvSpPr>
        <p:spPr>
          <a:xfrm>
            <a:off x="762120" y="6248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rse is being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urte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la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ome animals hop.  Some sw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How do you like to m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can _______ like a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5943600" y="0"/>
            <a:ext cx="289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977040" y="1523880"/>
            <a:ext cx="7454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n my signal, turn and talk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complete this ste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If I wanted to be </a:t>
            </a:r>
            <a:r>
              <a:rPr b="0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courteous</a:t>
            </a: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 to m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teacher, I could 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1323360" y="685800"/>
            <a:ext cx="6142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ing words often tell us the color, shape, and siz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describing words in these senten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Mrs. Johnson has a little blue c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Mrs. Babcock’s ski boat is long and sil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Mrs. Sherum has a tiny brown pet sn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Mrs. Mangham’s green tree frog has red ey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1401480" y="4876920"/>
            <a:ext cx="62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NUS!  Can you guess which sentences are fiction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4"/>
          <p:cNvSpPr/>
          <p:nvPr/>
        </p:nvSpPr>
        <p:spPr>
          <a:xfrm>
            <a:off x="1447920" y="4419720"/>
            <a:ext cx="5790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6248520" y="0"/>
            <a:ext cx="2590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b6bcf"/>
                </a:solidFill>
                <a:latin typeface="Arial"/>
              </a:rPr>
              <a:t>Objective:  To identify descrip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b6bcf"/>
                </a:solidFill>
                <a:latin typeface="Arial"/>
              </a:rPr>
              <a:t>words in a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4" descr="la38"/>
          <p:cNvPicPr/>
          <p:nvPr/>
        </p:nvPicPr>
        <p:blipFill>
          <a:blip r:embed="rId1"/>
          <a:stretch/>
        </p:blipFill>
        <p:spPr>
          <a:xfrm>
            <a:off x="1143000" y="0"/>
            <a:ext cx="663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describe"/>
          <p:cNvPicPr/>
          <p:nvPr/>
        </p:nvPicPr>
        <p:blipFill>
          <a:blip r:embed="rId1"/>
          <a:stretch/>
        </p:blipFill>
        <p:spPr>
          <a:xfrm rot="21379800">
            <a:off x="1295280" y="980640"/>
            <a:ext cx="6705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Your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eb you made yesterday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your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de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ing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3048120" y="2971800"/>
            <a:ext cx="327636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638680" y="48006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 flipV="1">
            <a:off x="6019920" y="29718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9"/>
          <p:cNvSpPr/>
          <p:nvPr/>
        </p:nvSpPr>
        <p:spPr>
          <a:xfrm flipH="1">
            <a:off x="2437920" y="4648320"/>
            <a:ext cx="11430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 flipH="1" flipV="1">
            <a:off x="2209320" y="32004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38080" y="548640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2"/>
          <p:cNvSpPr/>
          <p:nvPr/>
        </p:nvSpPr>
        <p:spPr>
          <a:xfrm>
            <a:off x="1066680" y="2438280"/>
            <a:ext cx="175284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3"/>
          <p:cNvSpPr/>
          <p:nvPr/>
        </p:nvSpPr>
        <p:spPr>
          <a:xfrm>
            <a:off x="6629400" y="2133720"/>
            <a:ext cx="182880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4"/>
          <p:cNvSpPr/>
          <p:nvPr/>
        </p:nvSpPr>
        <p:spPr>
          <a:xfrm>
            <a:off x="5867280" y="548640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 To do a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choral reading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f a po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343400" y="457200"/>
            <a:ext cx="48006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Can You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5" descr="MCj00884440000[1]"/>
          <p:cNvPicPr/>
          <p:nvPr/>
        </p:nvPicPr>
        <p:blipFill>
          <a:blip r:embed="rId1"/>
          <a:stretch/>
        </p:blipFill>
        <p:spPr>
          <a:xfrm>
            <a:off x="922320" y="1905120"/>
            <a:ext cx="3260880" cy="353376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553320" y="533520"/>
            <a:ext cx="35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ok of Rhymes and Poe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533520"/>
            <a:ext cx="822960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u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lete phonemes to make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8380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5" descr="C:\Users\Janice\AppData\Local\Microsoft\Windows\Temporary Internet Files\Content.IE5\N13ABA2C\MCj04298090000[1].wmf"/>
          <p:cNvPicPr/>
          <p:nvPr/>
        </p:nvPicPr>
        <p:blipFill>
          <a:blip r:embed="rId1"/>
          <a:stretch/>
        </p:blipFill>
        <p:spPr>
          <a:xfrm>
            <a:off x="457200" y="228600"/>
            <a:ext cx="18637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C:\Users\Janice\AppData\Local\Microsoft\Windows\Temporary Internet Files\Content.IE5\N13ABA2C\MCj04298090000[1].wmf"/>
          <p:cNvPicPr/>
          <p:nvPr/>
        </p:nvPicPr>
        <p:blipFill>
          <a:blip r:embed="rId2"/>
          <a:stretch/>
        </p:blipFill>
        <p:spPr>
          <a:xfrm>
            <a:off x="6095880" y="2057400"/>
            <a:ext cx="1863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e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6576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3809880" y="2362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4724280" y="1371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4419720" y="3276720"/>
            <a:ext cx="761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3505320" y="3276720"/>
            <a:ext cx="1447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4572000" y="2362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3733920" y="4267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4114800" y="42670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ee, ea, 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809880" y="1295280"/>
            <a:ext cx="1905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657600" y="22096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65760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388620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3"/>
          <p:cNvSpPr/>
          <p:nvPr/>
        </p:nvSpPr>
        <p:spPr>
          <a:xfrm>
            <a:off x="4191120" y="31240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5105520" y="3124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3886200" y="4038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6"/>
          <p:cNvSpPr/>
          <p:nvPr/>
        </p:nvSpPr>
        <p:spPr>
          <a:xfrm>
            <a:off x="4267080" y="40384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7"/>
          <p:cNvSpPr/>
          <p:nvPr/>
        </p:nvSpPr>
        <p:spPr>
          <a:xfrm>
            <a:off x="51055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3733920" y="4800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3809880" y="54864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0"/>
          <p:cNvSpPr/>
          <p:nvPr/>
        </p:nvSpPr>
        <p:spPr>
          <a:xfrm>
            <a:off x="4343400" y="4800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1"/>
          <p:cNvSpPr/>
          <p:nvPr/>
        </p:nvSpPr>
        <p:spPr>
          <a:xfrm>
            <a:off x="4038480" y="54864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51814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3"/>
          <p:cNvSpPr/>
          <p:nvPr/>
        </p:nvSpPr>
        <p:spPr>
          <a:xfrm>
            <a:off x="4952880" y="54864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0"/>
          <p:cNvSpPr/>
          <p:nvPr/>
        </p:nvSpPr>
        <p:spPr>
          <a:xfrm>
            <a:off x="5033160" y="12952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1"/>
          <p:cNvSpPr/>
          <p:nvPr/>
        </p:nvSpPr>
        <p:spPr>
          <a:xfrm>
            <a:off x="4286520" y="2209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haroni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Cause and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o find cause and effect, ask two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at happened? 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Chicken Little thinks the sky is f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y did it happen?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An acorn hit her on the 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caus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is the acorn hitting her on the 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effect 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is that she thinks the sky is f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ontent Placeholder 5" descr="windy day.bmp"/>
          <p:cNvPicPr/>
          <p:nvPr/>
        </p:nvPicPr>
        <p:blipFill>
          <a:blip r:embed="rId1"/>
          <a:stretch/>
        </p:blipFill>
        <p:spPr>
          <a:xfrm>
            <a:off x="533520" y="1863720"/>
            <a:ext cx="4038480" cy="290196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151920" y="0"/>
            <a:ext cx="22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cogn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e-and-effect in a 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632520" y="762120"/>
            <a:ext cx="40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happen in a story for a rea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 is called </a:t>
            </a: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ef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Why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ppens is called </a:t>
            </a: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ca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Cause and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o find cause and effect, ask two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at happened? 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The woman’s hair got all messed up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haron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y did it happen?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The wind messed up her 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cause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is the w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effect 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is that her hair is a mes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Content Placeholder 5" descr="windy day.bmp"/>
          <p:cNvPicPr/>
          <p:nvPr/>
        </p:nvPicPr>
        <p:blipFill>
          <a:blip r:embed="rId1"/>
          <a:stretch/>
        </p:blipFill>
        <p:spPr>
          <a:xfrm>
            <a:off x="533520" y="1371600"/>
            <a:ext cx="4038480" cy="38862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151920" y="0"/>
            <a:ext cx="22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cogn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e-and-effect in a 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07T20:38:59Z</dcterms:modified>
  <cp:revision>171</cp:revision>
  <dc:subject/>
  <dc:title>Slide 1</dc:title>
</cp:coreProperties>
</file>