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C04-E8C3-429D-8B12-0FE9F12F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1274-7034-4801-BB7A-8810D1B5F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122E-EF87-46F9-A2D6-76DF439F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C34-C327-45F9-95D7-227ADC09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05D8-A136-451D-AEBD-097B41681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486B-175F-4D6E-9093-C4F16BF8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DF4D-1D4E-4357-8ACE-0413A3AA2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AA59-2200-423F-9ACB-DE6248BC2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EA7A-E707-42C9-AF5C-F8F003A6E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C1B4-B39B-4B79-9CBB-0E870541E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D056-43C8-40DD-8344-2D365ADE3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AE48-DAF9-491F-9F36-D7D57CDD1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6FC7-F93F-47E5-90FB-A427E3E8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6A7-106D-48DF-9220-B8D70B6E8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2CEF-E1C5-46AB-B296-BAF36255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2D72-4A30-4310-8454-50E41B9AD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1DFE-F61C-47D0-B42C-B8566789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A07-06FB-431D-B2DF-5BCE54A01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D124-D559-4956-A29C-15739DE9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EE61-80A0-4F62-82F0-8E2B1CC5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0D3-1979-4615-9F20-D5303E4C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A9A8-D52E-4FE4-AF45-E987750A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50B0-4DB6-4CF5-82E7-BA716E09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E455-7118-42A2-AC8E-129352AE9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2A9-DEB0-4644-9482-141160A96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D70-BFB0-4C5E-8414-CC87D78D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B63-709F-401F-9BCC-AE6A554C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189-42A0-43D5-ABBD-F35EAE94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FD6-0F0F-4CA2-8A47-8C3A43B3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775-B5EE-4767-8111-50EEFD6D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A19-9E32-4F08-8A26-1751CCE9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430-699B-4729-8F58-EE8EA892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CF4-5F8B-449E-98E3-F39E74C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263-6BDA-48A5-A905-FA2B68E2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FF5-C18D-40BB-BCF0-BD9992A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39A-7251-4F2C-BF6A-32AC1CC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880-1838-4A7F-9D14-8DE1296E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42B6-7298-4C03-989C-EE8DA49E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3429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29320" y="152280"/>
            <a:ext cx="19774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t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hoo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Little Rabbit 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pple hit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pple hitting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78740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walking rapidly, you are walking very f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pi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MPj04308960000[1]"/>
          <p:cNvPicPr/>
          <p:nvPr/>
        </p:nvPicPr>
        <p:blipFill>
          <a:blip r:embed="rId1"/>
          <a:stretch/>
        </p:blipFill>
        <p:spPr>
          <a:xfrm>
            <a:off x="380880" y="2286000"/>
            <a:ext cx="4496040" cy="3297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are walk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13080" y="1752480"/>
            <a:ext cx="84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 my signal, turn and talk with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artner to name some animals that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rapidly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evious person is not being truthful and might try to trick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286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ha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k on his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MCPE06908_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40388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27200" y="762120"/>
            <a:ext cx="783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obby pretended not to see the mess because he h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omeone else would clean it up.  Was Bob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50400" y="3581280"/>
            <a:ext cx="67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ally brought a snack to share with every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as S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>
            <a:off x="990720" y="3200400"/>
            <a:ext cx="72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one who is courteous is very pol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urt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0" descr="home-health-care"/>
          <p:cNvPicPr/>
          <p:nvPr/>
        </p:nvPicPr>
        <p:blipFill>
          <a:blip r:embed="rId1"/>
          <a:stretch/>
        </p:blipFill>
        <p:spPr>
          <a:xfrm>
            <a:off x="762120" y="1676520"/>
            <a:ext cx="4249440" cy="4419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76212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rse is be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t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ome animals hop.  Some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do you like to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an _______ like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977040" y="1523880"/>
            <a:ext cx="745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f I wanted to be </a:t>
            </a:r>
            <a:r>
              <a:rPr b="0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courteous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 to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eacher, I could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323360" y="685800"/>
            <a:ext cx="614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ords often tell us the color, shape, and siz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describing words in these sent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Johnson has a little blue 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Babcock’s ski boat is long and sil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Sherum has a tiny brown pet s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Mangham’s green tree frog has red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401480" y="487692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US!  Can you guess which sentences are fi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4"/>
          <p:cNvSpPr/>
          <p:nvPr/>
        </p:nvSpPr>
        <p:spPr>
          <a:xfrm>
            <a:off x="1447920" y="4419720"/>
            <a:ext cx="579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248520" y="0"/>
            <a:ext cx="259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Objective:  To identify descrip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words in a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la38"/>
          <p:cNvPicPr/>
          <p:nvPr/>
        </p:nvPicPr>
        <p:blipFill>
          <a:blip r:embed="rId1"/>
          <a:stretch/>
        </p:blipFill>
        <p:spPr>
          <a:xfrm>
            <a:off x="1143000" y="0"/>
            <a:ext cx="66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 you made yesterda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you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048120" y="2971800"/>
            <a:ext cx="327636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63868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6019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 flipH="1">
            <a:off x="243792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380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58672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 To do a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oral reading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an You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922320" y="1905120"/>
            <a:ext cx="3260880" cy="3533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53320" y="5335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838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6095880" y="20574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hicken Littl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corn hit her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corn hitting her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s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863720"/>
            <a:ext cx="4038480" cy="290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32520" y="76212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woman’s hair got all messed u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haron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wind messed up her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s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s that her hair is a m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3716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38:59Z</dcterms:modified>
  <cp:revision>171</cp:revision>
  <dc:subject/>
  <dc:title>Slide 1</dc:title>
</cp:coreProperties>
</file>