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4D4F-9C43-4996-9EF9-BC83260C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9332-0F92-4203-A49F-BEE13236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3E21-F4AE-4421-944C-3AA08CE5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76C9-E784-4003-9607-BA5EBC09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5527-3675-4C54-BE8F-92A103C9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C61B-9EC2-43B4-8282-CFFADFFE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6A2B-DEE5-4D26-98BD-1A246C4D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62DF-5022-42FD-BEBA-886CFDEA1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A113-6E5F-40A2-945B-4F2E80D1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5DD-F989-4724-8F7E-36954AC9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D38E-09B9-4F07-B8D1-03EC069BA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4E7B-72E0-43BD-9A50-7285F2A6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1A35-D00E-42AC-98DC-BC600434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5A0-0D99-4BE0-85DD-F2FE9E94C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FDE1-B24D-4568-9997-6CAD50B0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9A57-221F-4F66-9A0E-63308F5A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E9DB-6EBF-404D-A561-6CA2A8EC6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E8F7-EA4C-425F-BE8C-7EE4AFB8F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72E9-C506-409B-AD25-F3C3355E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06E0-1209-4F54-8305-2B8F52FA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A07E-16CA-45B5-B7AA-71296CB0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ECF-F786-446D-B492-9FC8773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56C-D6FD-44F1-A5E8-75ABA256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17F-924B-44E7-ABE8-E4BAFFB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C0E-5AC4-4B41-B163-676846DF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A86-FD89-46EA-BB6C-48CA349E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E51-13EA-4C41-9DEC-F6AC02B2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A59-7747-47CC-8A6C-E2ECD6ED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33C-FE8B-4A7E-BC2F-C854DEB2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BA1-C7A7-4F3D-B11D-CBB9FDC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A33-FF1A-4E91-9ABE-22BE3CE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198-47FD-462B-BF12-01BB811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45F-1C0B-44C9-B448-09AF1147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5835-A1B3-49EC-8C68-04F27DB75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34120" y="1522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/ Rabbit sleeps under a big/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ttle Rabbit sleeps/ under a big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ittle Rabbit hops in the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door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tell my friend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19920" y="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- To read with fluency in a manner that sounds like natural speech. To group words into meaningful phrases when readi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the apple tree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seed is pla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does planting an apple seed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tree grow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080" y="76212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try to figure out what happens and why it happens when they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d read stories.  What happens is called the effect and why it happen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04920" y="1828800"/>
            <a:ext cx="37526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:\Documents and Settings\pawley\My Documents\kids_talking_on_porch.jpg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09480" y="13716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 turn and talk with your partner to 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I believed _______, I would be very gulli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Documents and Settings\pawley\My Documents\soccer.jpg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09480" y="685800"/>
            <a:ext cx="7925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On my signal turn and talk with your partner to complete this st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 always walk </a:t>
            </a:r>
            <a:r>
              <a:rPr b="0" i="1" lang="en-US" sz="4000" spc="-1" strike="noStrike">
                <a:solidFill>
                  <a:srgbClr val="a62a80"/>
                </a:solidFill>
                <a:latin typeface="Arial"/>
              </a:rPr>
              <a:t>hastil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when I go _____________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Documents and Settings\pawley\My Documents\dogbone.jpg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80880" y="1523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 would be very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unreasonable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if I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Rabbits hop. Frogs leap. Name some other animals. How do they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animal that can ________ is a 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143000" y="838080"/>
            <a:ext cx="61992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escribing words could we add to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is is a 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ook at the 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e kitten 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 have a tr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expand a sentence by adding words that describ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228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b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When springtime com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in his warm winter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a bear wakes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very hungry and th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2a80"/>
                </a:solidFill>
                <a:latin typeface="Arial"/>
              </a:rPr>
              <a:t>*What describes bear’s 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 have a new blue bike. It has lo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d tassels on the handlebars.  It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 little, square basket. My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arkles in the sun! People stop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ook at it when I ride b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5181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plant.jpg"/>
          <p:cNvPicPr/>
          <p:nvPr/>
        </p:nvPicPr>
        <p:blipFill>
          <a:blip r:embed="rId1"/>
          <a:stretch/>
        </p:blipFill>
        <p:spPr>
          <a:xfrm>
            <a:off x="5562720" y="1447920"/>
            <a:ext cx="31287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809880" y="129528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733920" y="3124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105520" y="3124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510552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733920" y="5105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962520" y="5105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4876920" y="51055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4343400" y="1295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426888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2578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181480" y="2209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477120" y="0"/>
            <a:ext cx="2666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use /e/ e, ee, ea and other known letter sounds to decode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40:20Z</dcterms:modified>
  <cp:revision>173</cp:revision>
  <dc:subject/>
  <dc:title>Slide 1</dc:title>
</cp:coreProperties>
</file>