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F039-9981-4393-812F-912881954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80B1-5AE3-4B85-8F9C-A1C8ABC02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742E-D249-49D2-806A-C776655F8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E5B7-C9FF-4149-88C0-D7E8621CA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34EA-9A75-4B92-8C59-DCB16703A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EC1B-8526-4E80-8AAF-61F44444E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8872-5322-405F-8543-65FF22B93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6FB8-F300-408D-88E3-44DA7CDBC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2941-6D3D-4F84-B726-67B4232FA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C56E-EF56-4B3A-A383-2F4A0F4D7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3D69-898D-4734-B268-BAE4AFD9E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2FEF-C8E3-490F-A55C-84818707E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2EA5-E3F0-490F-8766-0577C3230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8896-86C9-487F-B9B8-7FE2EA5F2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417F-BDBC-4A2B-94E5-4A51C86CA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0783-C33B-43F6-8BDF-2D0B0F42F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320C-3341-42C0-8467-D89C04150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756C-6A66-4946-AE2A-9DFE51AE5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6DEF-980D-4B0E-A763-35B9256C6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8689-7DF6-40B1-B32C-6F3370DA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112C-527E-4F72-A792-BC10BFB37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ED59-F310-4475-85C6-82092319F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2B36-4AD4-4476-9BAF-5F4302C7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7404-F64B-45C7-B9E8-CCACA773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2606-DCB6-4C16-8F66-3B038824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7861-498D-44F3-9EB6-4BA00CB4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163F-C228-4ABA-8CB0-9FFFD273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0C8E-A9F3-4BA4-808A-BA87872D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D7AB-993B-45E5-B4CF-227E96E2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926A-61F5-4321-BF8B-242865D7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4858-5E81-455C-B1A9-969EF32D8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533520" y="533520"/>
            <a:ext cx="8229600" cy="601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ursday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esson 19, Day 4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228600" y="0"/>
            <a:ext cx="8153280" cy="39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Remember that contractions are a shorter way to say two words.  The apostrophe in a contraction stands for the missing letters.  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457200" y="2590920"/>
            <a:ext cx="2971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e’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e’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’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ou’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e’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y’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4343400" y="2590920"/>
            <a:ext cx="28954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e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e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ou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e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ey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5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5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3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77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9" dur="77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1" dur="77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3" dur="77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0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152280" y="0"/>
            <a:ext cx="845820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What are the contractions in the following sentences and what do they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e’ve sung this song befo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We’re going ho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5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8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0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52280" y="0"/>
            <a:ext cx="8610840" cy="71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We’re</a:t>
            </a:r>
            <a:r>
              <a:rPr b="1" lang="en-US" sz="5400" spc="-1" strike="noStrike">
                <a:solidFill>
                  <a:srgbClr val="33cc33"/>
                </a:solidFill>
                <a:latin typeface="Arial"/>
              </a:rPr>
              <a:t> on the green team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I’ve</a:t>
            </a:r>
            <a:r>
              <a:rPr b="1" lang="en-US" sz="5400" spc="-1" strike="noStrike">
                <a:solidFill>
                  <a:srgbClr val="33cc33"/>
                </a:solidFill>
                <a:latin typeface="Arial"/>
              </a:rPr>
              <a:t> got a new soccer ball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You’ve</a:t>
            </a:r>
            <a:r>
              <a:rPr b="1" lang="en-US" sz="5400" spc="-1" strike="noStrike">
                <a:solidFill>
                  <a:srgbClr val="33cc33"/>
                </a:solidFill>
                <a:latin typeface="Arial"/>
              </a:rPr>
              <a:t> got the ball!  Kick it to m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You’re</a:t>
            </a:r>
            <a:r>
              <a:rPr b="1" lang="en-US" sz="5400" spc="-1" strike="noStrike">
                <a:solidFill>
                  <a:srgbClr val="33cc33"/>
                </a:solidFill>
                <a:latin typeface="Arial"/>
              </a:rPr>
              <a:t> kicking the ball well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9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0" y="304920"/>
            <a:ext cx="914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use /e/ e, ee, ea and other known letter-sounds to spell and write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 spell and write known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5"/>
          <p:cNvSpPr txBox="1"/>
          <p:nvPr/>
        </p:nvSpPr>
        <p:spPr>
          <a:xfrm>
            <a:off x="762120" y="1676520"/>
            <a:ext cx="792468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pelling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80880" y="0"/>
            <a:ext cx="8305920" cy="70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8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4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4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20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0" y="0"/>
            <a:ext cx="91440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t’s read the sentences with our spelling words this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e with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m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n you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se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the cloc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ut your shoes on your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fee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Kim sat down in her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sea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hat does this word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mea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ur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eam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won the g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 turtle is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slow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rs travel on the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roa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e to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our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og is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over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t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4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4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77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3" dur="77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5" dur="77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7" dur="77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352320" y="1371600"/>
            <a:ext cx="838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e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657600" y="1371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3809880" y="2362320"/>
            <a:ext cx="1143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352680" y="2362320"/>
            <a:ext cx="83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4724280" y="1371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4419720" y="3276720"/>
            <a:ext cx="761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3505320" y="3276720"/>
            <a:ext cx="14475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4572000" y="2362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3733920" y="42670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4114800" y="426708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8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ee, ea, 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3809880" y="1295280"/>
            <a:ext cx="1905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3657600" y="2209680"/>
            <a:ext cx="2209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3657600" y="22096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2"/>
          <p:cNvSpPr/>
          <p:nvPr/>
        </p:nvSpPr>
        <p:spPr>
          <a:xfrm>
            <a:off x="3886200" y="31240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3"/>
          <p:cNvSpPr/>
          <p:nvPr/>
        </p:nvSpPr>
        <p:spPr>
          <a:xfrm>
            <a:off x="4191120" y="312408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5105520" y="31240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5"/>
          <p:cNvSpPr/>
          <p:nvPr/>
        </p:nvSpPr>
        <p:spPr>
          <a:xfrm>
            <a:off x="3886200" y="40384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6"/>
          <p:cNvSpPr/>
          <p:nvPr/>
        </p:nvSpPr>
        <p:spPr>
          <a:xfrm>
            <a:off x="4267080" y="403848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7"/>
          <p:cNvSpPr/>
          <p:nvPr/>
        </p:nvSpPr>
        <p:spPr>
          <a:xfrm>
            <a:off x="5105520" y="4038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8"/>
          <p:cNvSpPr/>
          <p:nvPr/>
        </p:nvSpPr>
        <p:spPr>
          <a:xfrm>
            <a:off x="3733920" y="48006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9"/>
          <p:cNvSpPr/>
          <p:nvPr/>
        </p:nvSpPr>
        <p:spPr>
          <a:xfrm>
            <a:off x="3809880" y="54864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0"/>
          <p:cNvSpPr/>
          <p:nvPr/>
        </p:nvSpPr>
        <p:spPr>
          <a:xfrm>
            <a:off x="4343400" y="4800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1"/>
          <p:cNvSpPr/>
          <p:nvPr/>
        </p:nvSpPr>
        <p:spPr>
          <a:xfrm>
            <a:off x="4038480" y="54864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2"/>
          <p:cNvSpPr/>
          <p:nvPr/>
        </p:nvSpPr>
        <p:spPr>
          <a:xfrm>
            <a:off x="5181480" y="48006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3"/>
          <p:cNvSpPr/>
          <p:nvPr/>
        </p:nvSpPr>
        <p:spPr>
          <a:xfrm>
            <a:off x="4952880" y="548640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0"/>
          <p:cNvSpPr/>
          <p:nvPr/>
        </p:nvSpPr>
        <p:spPr>
          <a:xfrm>
            <a:off x="5033160" y="129528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1"/>
          <p:cNvSpPr/>
          <p:nvPr/>
        </p:nvSpPr>
        <p:spPr>
          <a:xfrm>
            <a:off x="4286520" y="220968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haroni"/>
              </a:rPr>
              <a:t>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We can bow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We are on a tea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Would you like to come to see 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It’s just down the ro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You can come with 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Can Dan meet with 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Our coach can teach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fluently with appropriate phras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4"/>
          <p:cNvSpPr txBox="1"/>
          <p:nvPr/>
        </p:nvSpPr>
        <p:spPr>
          <a:xfrm>
            <a:off x="533520" y="380880"/>
            <a:ext cx="83055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Wall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1066680" y="669960"/>
            <a:ext cx="266724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d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do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hur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mo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shou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s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to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6705720" y="205740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5486400" y="914400"/>
            <a:ext cx="2286000" cy="58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w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b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n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wh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e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5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6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7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3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2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2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2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0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1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3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82" dur="20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304920" y="30492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bjective: To express personal p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457200" y="1447920"/>
            <a:ext cx="81532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estions of the D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0" y="3729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bjective: To recognize cause and effect while listening to a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WordArt 5"/>
          <p:cNvSpPr txBox="1"/>
          <p:nvPr/>
        </p:nvSpPr>
        <p:spPr>
          <a:xfrm>
            <a:off x="685800" y="1447920"/>
            <a:ext cx="800100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use and Effec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228600" y="457200"/>
            <a:ext cx="86868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Let’s reread a story we are familiar with.  We will read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Bear Wants Mo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s we read let’s see if we can find the cause and effect of this s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Remember that what happens in a story is the effect and why it happens is the cau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96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9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0" y="0"/>
            <a:ext cx="9144000" cy="67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What happens again and again in this stor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What is the setting of this stor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hat was the effect of the story (what happened in the story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What cause the bear to get stuc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8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7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ll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st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reason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409720" y="1523880"/>
            <a:ext cx="34290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believe everything you hear, even very silly things, you are gullib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ccffff"/>
              </a:gs>
              <a:gs pos="100000">
                <a:srgbClr val="3f9399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gullibl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4"/>
          <p:cNvSpPr/>
          <p:nvPr/>
        </p:nvSpPr>
        <p:spPr>
          <a:xfrm>
            <a:off x="685800" y="56386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irl wa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ulli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believed the boy could f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kids_talking_on_porch"/>
          <p:cNvPicPr/>
          <p:nvPr/>
        </p:nvPicPr>
        <p:blipFill>
          <a:blip r:embed="rId1"/>
          <a:stretch/>
        </p:blipFill>
        <p:spPr>
          <a:xfrm>
            <a:off x="380880" y="1657440"/>
            <a:ext cx="5105520" cy="382896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7"/>
          <p:cNvSpPr/>
          <p:nvPr/>
        </p:nvSpPr>
        <p:spPr>
          <a:xfrm>
            <a:off x="3962520" y="1447920"/>
            <a:ext cx="1523880" cy="1066680"/>
          </a:xfrm>
          <a:prstGeom prst="wedgeEllipseCallout">
            <a:avLst>
              <a:gd name="adj1" fmla="val -44476"/>
              <a:gd name="adj2" fmla="val 647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w! Real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457200" y="1752480"/>
            <a:ext cx="1523880" cy="1067040"/>
          </a:xfrm>
          <a:prstGeom prst="wedgeEllipseCallout">
            <a:avLst>
              <a:gd name="adj1" fmla="val 70731"/>
              <a:gd name="adj2" fmla="val 296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can fl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0" y="0"/>
            <a:ext cx="9144000" cy="62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f you think that you are very gullible to believe something I say, then point to me and say, “You’re so gullible!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The sun is in the sk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My uncle has a pet dinosau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It might rain tomorrow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My grandma’s cat can tal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6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35c97b"/>
              </a:gs>
              <a:gs pos="100000">
                <a:srgbClr val="66ffcc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hastil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do things hastily, you are doing them in a big hurry. 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457200" y="56386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irl ra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asti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get the soccer ball fir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soccer"/>
          <p:cNvPicPr/>
          <p:nvPr/>
        </p:nvPicPr>
        <p:blipFill>
          <a:blip r:embed="rId1"/>
          <a:stretch/>
        </p:blipFill>
        <p:spPr>
          <a:xfrm>
            <a:off x="228600" y="2006640"/>
            <a:ext cx="5334120" cy="3554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0" y="0"/>
            <a:ext cx="9144000" cy="70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I will describe some situations.  If it is a situation in which you should move hastily then you should run in place and say, “Move hastily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 dog is chasing 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 am picking some flow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’m outside and it’s starting to pour down r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ome one yells, “Fire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6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2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2" dur="2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2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5486400" y="1981080"/>
            <a:ext cx="3414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are unreasonable, you would do things that don’t make sen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3894d2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unreasonabl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609480" y="5257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og was being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nreason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his bo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dogbone"/>
          <p:cNvPicPr/>
          <p:nvPr/>
        </p:nvPicPr>
        <p:blipFill>
          <a:blip r:embed="rId1"/>
          <a:stretch/>
        </p:blipFill>
        <p:spPr>
          <a:xfrm>
            <a:off x="762120" y="2133720"/>
            <a:ext cx="4343400" cy="2985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228600" y="304920"/>
            <a:ext cx="876312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 will say some things.  If you think that they are unreasonable, then you should shake your head and sa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at’s so unreasonabl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 am going to build a house all by my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 am going to do my homework when I get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’m going to take my dog for a wal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 am going to buy every toy in the sto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20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32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5" dur="8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6" dur="8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8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8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2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0" y="533520"/>
            <a:ext cx="8915400" cy="55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What fruits grow on tre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Which are your favorit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On my signal, turn and talk to your partner to complete this 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______________grow on tre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My favorite fruit is a 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228600" y="3049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Objective: To identify and use describing words that tell about color, size and sha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WordArt 5"/>
          <p:cNvSpPr txBox="1"/>
          <p:nvPr/>
        </p:nvSpPr>
        <p:spPr>
          <a:xfrm>
            <a:off x="762120" y="1447920"/>
            <a:ext cx="784836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escribing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04920" y="4724280"/>
            <a:ext cx="853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Remember that describing words tell about a thing.  They could tell about the shape, size, and color of a 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9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228600" y="0"/>
            <a:ext cx="8458200" cy="65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Let’s see if we can pick out the describing words in the following sentences.  Some of them may not have any describing w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tiny brown bird sits in it’s little brown n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pot is a big black do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I see a beet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Bring me the red bow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ow us the tallest b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cat jumped on the 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I see a tiny beet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5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00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1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6" dur="4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4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4" dur="10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20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20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152280" y="0"/>
            <a:ext cx="88394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33"/>
                </a:solidFill>
                <a:latin typeface="Arial"/>
              </a:rPr>
              <a:t>Objective: To select a focus when wri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33"/>
                </a:solidFill>
                <a:latin typeface="Arial"/>
              </a:rPr>
              <a:t>To use descriptive words when wri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33"/>
                </a:solidFill>
                <a:latin typeface="Arial"/>
              </a:rPr>
              <a:t>To use sensory details in wri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5"/>
          <p:cNvSpPr txBox="1"/>
          <p:nvPr/>
        </p:nvSpPr>
        <p:spPr>
          <a:xfrm>
            <a:off x="304920" y="1523880"/>
            <a:ext cx="86104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riting a descriptiv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tory about a th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7620120" y="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write using describing words for color, size, and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8" descr="describe"/>
          <p:cNvPicPr/>
          <p:nvPr/>
        </p:nvPicPr>
        <p:blipFill>
          <a:blip r:embed="rId1"/>
          <a:stretch/>
        </p:blipFill>
        <p:spPr>
          <a:xfrm rot="21379800">
            <a:off x="1295280" y="980640"/>
            <a:ext cx="670572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Diagram 5"/>
          <p:cNvGrpSpPr/>
          <p:nvPr/>
        </p:nvGrpSpPr>
        <p:grpSpPr>
          <a:xfrm>
            <a:off x="1030680" y="780480"/>
            <a:ext cx="7311240" cy="4993920"/>
            <a:chOff x="1030680" y="780480"/>
            <a:chExt cx="7311240" cy="4993920"/>
          </a:xfrm>
        </p:grpSpPr>
        <p:sp>
          <p:nvSpPr>
            <p:cNvPr id="155" name="_s1028"/>
            <p:cNvSpPr/>
            <p:nvPr/>
          </p:nvSpPr>
          <p:spPr>
            <a:xfrm flipH="1">
              <a:off x="2858400" y="3277080"/>
              <a:ext cx="913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1029"/>
            <p:cNvSpPr/>
            <p:nvPr/>
          </p:nvSpPr>
          <p:spPr>
            <a:xfrm>
              <a:off x="1030680" y="2652840"/>
              <a:ext cx="1827360" cy="1248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uil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030"/>
            <p:cNvSpPr/>
            <p:nvPr/>
          </p:nvSpPr>
          <p:spPr>
            <a:xfrm>
              <a:off x="4686120" y="3901320"/>
              <a:ext cx="0" cy="6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1031"/>
            <p:cNvSpPr/>
            <p:nvPr/>
          </p:nvSpPr>
          <p:spPr>
            <a:xfrm>
              <a:off x="3772080" y="4525560"/>
              <a:ext cx="1827360" cy="124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Black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doo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032"/>
            <p:cNvSpPr/>
            <p:nvPr/>
          </p:nvSpPr>
          <p:spPr>
            <a:xfrm>
              <a:off x="5599800" y="3277080"/>
              <a:ext cx="913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033"/>
            <p:cNvSpPr/>
            <p:nvPr/>
          </p:nvSpPr>
          <p:spPr>
            <a:xfrm>
              <a:off x="6513840" y="2652840"/>
              <a:ext cx="1828080" cy="1248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quare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window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1034"/>
            <p:cNvSpPr/>
            <p:nvPr/>
          </p:nvSpPr>
          <p:spPr>
            <a:xfrm flipV="1">
              <a:off x="4686120" y="2028240"/>
              <a:ext cx="0" cy="6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1035"/>
            <p:cNvSpPr/>
            <p:nvPr/>
          </p:nvSpPr>
          <p:spPr>
            <a:xfrm>
              <a:off x="3772080" y="780480"/>
              <a:ext cx="1827360" cy="1248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ed brick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036"/>
            <p:cNvSpPr/>
            <p:nvPr/>
          </p:nvSpPr>
          <p:spPr>
            <a:xfrm>
              <a:off x="3772080" y="2652840"/>
              <a:ext cx="1827360" cy="1248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 tall bri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uild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0" y="30492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I saw a red brick building downtown.  It has big black doors in the front.  It has lots of little square windows.  Many windows have flower boxes with lots of red flowers. I really like the huge flagpole out fron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228600" y="30492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Objective: To respond to a poem through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04920" y="914400"/>
            <a:ext cx="83055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e are going to read a poem today called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Two Little Apples.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I want you to listen as I read it once.  Then you will read it along with me and do what the poem says.  On the third time we read it, I would like for you to turn to your partner and act out the poem togeth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04920" y="0"/>
            <a:ext cx="853416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wo Little Ap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wo little apples hanging on a tre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wo little apples smiling at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 shook that tree as hard as I cou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wn came the apples. Mm! Mm! Goo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Do these motions with the po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Line 1 – hold your arms out stra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Line 2 – Form smiles with your h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Line 3 – Pretend to shake a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Line 4 – Fall to the 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4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4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4"/>
          <p:cNvSpPr txBox="1"/>
          <p:nvPr/>
        </p:nvSpPr>
        <p:spPr>
          <a:xfrm>
            <a:off x="304920" y="380880"/>
            <a:ext cx="86868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Wall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80880" y="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Objective – To read high-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228600" y="914400"/>
            <a:ext cx="38862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ur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h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4495680" y="1371600"/>
            <a:ext cx="38862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k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9" dur="20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4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4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04920" y="4572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substitute phonemes to say new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2286000" y="1447920"/>
            <a:ext cx="45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b010b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b010b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10b0"/>
                </a:solidFill>
                <a:latin typeface="Arial"/>
              </a:rPr>
              <a:t>Phone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10b0"/>
                </a:solidFill>
                <a:latin typeface="Arial"/>
              </a:rPr>
              <a:t>Substitu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5" descr="C:\Users\Janice\AppData\Local\Microsoft\Windows\Temporary Internet Files\Content.IE5\N13ABA2C\MCj04298090000[1].wmf"/>
          <p:cNvPicPr/>
          <p:nvPr/>
        </p:nvPicPr>
        <p:blipFill>
          <a:blip r:embed="rId1"/>
          <a:stretch/>
        </p:blipFill>
        <p:spPr>
          <a:xfrm>
            <a:off x="457200" y="838080"/>
            <a:ext cx="1863720" cy="2667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5" descr="C:\Users\Janice\AppData\Local\Microsoft\Windows\Temporary Internet Files\Content.IE5\N13ABA2C\MCj04298090000[1].wmf"/>
          <p:cNvPicPr/>
          <p:nvPr/>
        </p:nvPicPr>
        <p:blipFill>
          <a:blip r:embed="rId2"/>
          <a:stretch/>
        </p:blipFill>
        <p:spPr>
          <a:xfrm>
            <a:off x="7315200" y="3962520"/>
            <a:ext cx="16765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77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2" dur="77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4" dur="77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6" dur="77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"/>
          <p:cNvSpPr/>
          <p:nvPr/>
        </p:nvSpPr>
        <p:spPr>
          <a:xfrm>
            <a:off x="7696080" y="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substitute phonemes to say new wo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0" y="2286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6" descr="C:\Users\Janice\AppData\Local\Microsoft\Windows\Temporary Internet Files\Content.IE5\2HQSZRSD\MCj04281070000[1].wmf"/>
          <p:cNvPicPr/>
          <p:nvPr/>
        </p:nvPicPr>
        <p:blipFill>
          <a:blip r:embed="rId1"/>
          <a:stretch/>
        </p:blipFill>
        <p:spPr>
          <a:xfrm>
            <a:off x="0" y="152280"/>
            <a:ext cx="2200320" cy="1959120"/>
          </a:xfrm>
          <a:prstGeom prst="rect">
            <a:avLst/>
          </a:prstGeom>
          <a:ln w="0">
            <a:noFill/>
          </a:ln>
        </p:spPr>
      </p:pic>
      <p:sp>
        <p:nvSpPr>
          <p:cNvPr id="67" name="TextBox 10"/>
          <p:cNvSpPr/>
          <p:nvPr/>
        </p:nvSpPr>
        <p:spPr>
          <a:xfrm>
            <a:off x="2590920" y="0"/>
            <a:ext cx="333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Tune:  The Farmer in the D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1"/>
          <p:cNvSpPr/>
          <p:nvPr/>
        </p:nvSpPr>
        <p:spPr>
          <a:xfrm>
            <a:off x="0" y="236232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parrot squawked out box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Oh, what a noisy bir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He changed the /b/ into an /f/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nd this is what he heard: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380880" y="38088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Objective: To recognize and read contractions ‘ve and ‘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5"/>
          <p:cNvSpPr txBox="1"/>
          <p:nvPr/>
        </p:nvSpPr>
        <p:spPr>
          <a:xfrm>
            <a:off x="685800" y="1447920"/>
            <a:ext cx="77724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ntraction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7:48:33Z</dcterms:created>
  <dc:creator>Valued Gateway Client</dc:creator>
  <dc:description/>
  <dc:language>en-US</dc:language>
  <cp:lastModifiedBy>mworsham</cp:lastModifiedBy>
  <dcterms:modified xsi:type="dcterms:W3CDTF">2010-02-07T20:55:22Z</dcterms:modified>
  <cp:revision>10</cp:revision>
  <dc:subject/>
  <dc:title>Slide 1</dc:title>
</cp:coreProperties>
</file>